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www.art-com.co.kr/online/ppt_gallery_1.htm" TargetMode="External"/><Relationship Id="rId4" Type="http://schemas.openxmlformats.org/officeDocument/2006/relationships/hyperlink" Target="http://www.art-com.co.kr/online/ppt_gallery_1.htm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4" descr="blue"/>
          <p:cNvPicPr/>
          <p:nvPr/>
        </p:nvPicPr>
        <p:blipFill>
          <a:blip r:embed="rId2"/>
          <a:stretch/>
        </p:blipFill>
        <p:spPr>
          <a:xfrm>
            <a:off x="-9360" y="0"/>
            <a:ext cx="9162720" cy="6872400"/>
          </a:xfrm>
          <a:prstGeom prst="rect">
            <a:avLst/>
          </a:prstGeom>
          <a:ln w="0">
            <a:noFill/>
          </a:ln>
        </p:spPr>
      </p:pic>
      <p:sp>
        <p:nvSpPr>
          <p:cNvPr id="37" name="Rectangle 3"/>
          <p:cNvSpPr/>
          <p:nvPr/>
        </p:nvSpPr>
        <p:spPr>
          <a:xfrm>
            <a:off x="0" y="907920"/>
            <a:ext cx="9144000" cy="144720"/>
          </a:xfrm>
          <a:prstGeom prst="rect">
            <a:avLst/>
          </a:prstGeom>
          <a:solidFill>
            <a:srgbClr val="5a6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38" name="Rectangle 4"/>
          <p:cNvSpPr/>
          <p:nvPr/>
        </p:nvSpPr>
        <p:spPr>
          <a:xfrm>
            <a:off x="0" y="1052640"/>
            <a:ext cx="9153360" cy="72720"/>
          </a:xfrm>
          <a:prstGeom prst="rect">
            <a:avLst/>
          </a:prstGeom>
          <a:solidFill>
            <a:srgbClr val="939b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39" name="Rectangle 5"/>
          <p:cNvSpPr/>
          <p:nvPr/>
        </p:nvSpPr>
        <p:spPr>
          <a:xfrm>
            <a:off x="0" y="1125360"/>
            <a:ext cx="914400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0" name="Rectangle 7"/>
          <p:cNvSpPr/>
          <p:nvPr/>
        </p:nvSpPr>
        <p:spPr>
          <a:xfrm flipV="1">
            <a:off x="0" y="691200"/>
            <a:ext cx="9144000" cy="2156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1" name="Rectangle 8"/>
          <p:cNvSpPr/>
          <p:nvPr/>
        </p:nvSpPr>
        <p:spPr>
          <a:xfrm flipV="1">
            <a:off x="0" y="907560"/>
            <a:ext cx="9144000" cy="14472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2" name="Rectangle 9"/>
          <p:cNvSpPr/>
          <p:nvPr/>
        </p:nvSpPr>
        <p:spPr>
          <a:xfrm flipV="1">
            <a:off x="-36000" y="1052280"/>
            <a:ext cx="9144000" cy="7272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3" name="Rectangle 10"/>
          <p:cNvSpPr/>
          <p:nvPr/>
        </p:nvSpPr>
        <p:spPr>
          <a:xfrm flipV="1">
            <a:off x="0" y="6381000"/>
            <a:ext cx="9153360" cy="1522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4" name="Rectangle 11">
            <a:hlinkClick r:id="rId3"/>
          </p:cNvPr>
          <p:cNvSpPr/>
          <p:nvPr/>
        </p:nvSpPr>
        <p:spPr>
          <a:xfrm>
            <a:off x="7458120" y="6451560"/>
            <a:ext cx="1676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Times New Roman"/>
                <a:ea typeface="HY견고딕"/>
              </a:rPr>
              <a:t>www.art-com.co.kr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5" name="Text Box 12">
            <a:hlinkClick r:id="rId4"/>
          </p:cNvPr>
          <p:cNvSpPr/>
          <p:nvPr/>
        </p:nvSpPr>
        <p:spPr>
          <a:xfrm>
            <a:off x="109080" y="6504120"/>
            <a:ext cx="2146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b2b2b2"/>
                </a:solidFill>
                <a:latin typeface="HY견고딕"/>
                <a:ea typeface="HY견고딕"/>
              </a:rPr>
              <a:t>Copyright </a:t>
            </a:r>
            <a:r>
              <a:rPr b="0" lang="en-US" sz="700" spc="-1" strike="noStrike">
                <a:solidFill>
                  <a:srgbClr val="b2b2b2"/>
                </a:solidFill>
                <a:latin typeface="Times New Roman"/>
                <a:ea typeface="HY견고딕"/>
              </a:rPr>
              <a:t>©</a:t>
            </a:r>
            <a:r>
              <a:rPr b="0" lang="en-US" sz="700" spc="-1" strike="noStrike">
                <a:solidFill>
                  <a:srgbClr val="b2b2b2"/>
                </a:solidFill>
                <a:latin typeface="HY견고딕"/>
                <a:ea typeface="HY견고딕"/>
              </a:rPr>
              <a:t> by ARTCOM PT  All rights reserved.</a:t>
            </a:r>
            <a:endParaRPr b="0" lang="en-US" sz="7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0" y="6558120"/>
            <a:ext cx="2786040" cy="2764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HY헤드라인M"/>
              </a:rPr>
              <a:t>지역산업기술개발사업</a:t>
            </a:r>
            <a:r>
              <a:rPr b="0" lang="en-US" sz="1200" spc="-1" strike="noStrike">
                <a:solidFill>
                  <a:srgbClr val="ffffff"/>
                </a:solidFill>
                <a:latin typeface="HY헤드라인M"/>
              </a:rPr>
              <a:t> </a:t>
            </a:r>
            <a:r>
              <a:rPr b="0" lang="ko-KR" sz="1200" spc="-1" strike="noStrike">
                <a:solidFill>
                  <a:srgbClr val="ffffff"/>
                </a:solidFill>
                <a:latin typeface="HY헤드라인M"/>
              </a:rPr>
              <a:t> 지원안내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6391440" y="6548400"/>
            <a:ext cx="2752560" cy="2764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HY헤드라인M"/>
              </a:rPr>
              <a:t>경남테크노파크 </a:t>
            </a:r>
            <a:r>
              <a:rPr b="0" lang="en-US" sz="1200" spc="-1" strike="noStrike">
                <a:solidFill>
                  <a:srgbClr val="ffffff"/>
                </a:solidFill>
                <a:latin typeface="HY헤드라인M"/>
              </a:rPr>
              <a:t>· </a:t>
            </a:r>
            <a:r>
              <a:rPr b="0" lang="ko-KR" sz="1200" spc="-1" strike="noStrike">
                <a:solidFill>
                  <a:srgbClr val="ffffff"/>
                </a:solidFill>
                <a:latin typeface="HY헤드라인M"/>
              </a:rPr>
              <a:t>지역산업평가단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4286160" y="6500880"/>
            <a:ext cx="100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HY헤드라인M"/>
              </a:rPr>
              <a:t>- </a:t>
            </a:r>
            <a:fld id="{68AA1AB0-1005-4506-A3F1-189700DEE525}" type="slidenum">
              <a:rPr b="1" lang="en-US" sz="1400" spc="-1" strike="noStrike">
                <a:solidFill>
                  <a:srgbClr val="ffffff"/>
                </a:solidFill>
                <a:latin typeface="HY헤드라인M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HY헤드라인M"/>
              </a:rPr>
              <a:t> -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49" name="Picture 18" descr="CI-세로조합(높이300)"/>
          <p:cNvPicPr/>
          <p:nvPr/>
        </p:nvPicPr>
        <p:blipFill>
          <a:blip r:embed="rId5"/>
          <a:srcRect l="0" t="0" r="0" b="30688"/>
          <a:stretch/>
        </p:blipFill>
        <p:spPr>
          <a:xfrm>
            <a:off x="7740720" y="127080"/>
            <a:ext cx="1008000" cy="4921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9"/>
          <p:cNvSpPr/>
          <p:nvPr/>
        </p:nvSpPr>
        <p:spPr>
          <a:xfrm>
            <a:off x="7862760" y="60660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휴먼둥근헤드라인"/>
                <a:ea typeface="휴먼둥근헤드라인"/>
              </a:rPr>
              <a:t>경남테크노파크</a:t>
            </a:r>
            <a:endParaRPr b="0" lang="en-US" sz="1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067af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7067af"/>
              </a:buClr>
              <a:buSzPct val="80000"/>
              <a:buFont typeface="Wingdings" charset="2"/>
              <a:buChar char="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rnd.risnet.or.kr/" TargetMode="External"/><Relationship Id="rId2" Type="http://schemas.openxmlformats.org/officeDocument/2006/relationships/hyperlink" Target="http://www.gntp.or.kr/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7"/>
          <p:cNvSpPr/>
          <p:nvPr/>
        </p:nvSpPr>
        <p:spPr>
          <a:xfrm flipH="1">
            <a:off x="3923640" y="6165720"/>
            <a:ext cx="521964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00"/>
                </a:solidFill>
                <a:latin typeface="HY헤드라인M"/>
              </a:rPr>
              <a:t>경남테크노파크 전략산업기획단</a:t>
            </a:r>
            <a:r>
              <a:rPr b="0" lang="ko-KR" sz="2800" spc="-1" strike="noStrike">
                <a:solidFill>
                  <a:srgbClr val="ffff00"/>
                </a:solidFill>
                <a:latin typeface="HY헤드라인M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HY헤드라인M"/>
              </a:rPr>
              <a:t>&lt;2010.11&gt;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835280" y="907920"/>
            <a:ext cx="699120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ccff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HY헤드라인M"/>
              </a:rPr>
              <a:t> </a:t>
            </a: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ccff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HY헤드라인M"/>
              </a:rPr>
              <a:t>지역산업기술개발사업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ccff33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HY헤드라인M"/>
              <a:ea typeface="HY헤드라인M"/>
            </a:endParaRPr>
          </a:p>
        </p:txBody>
      </p:sp>
      <p:pic>
        <p:nvPicPr>
          <p:cNvPr id="91" name="WordArt 5" descr=""/>
          <p:cNvPicPr/>
          <p:nvPr/>
        </p:nvPicPr>
        <p:blipFill>
          <a:blip r:embed="rId2"/>
          <a:stretch/>
        </p:blipFill>
        <p:spPr>
          <a:xfrm>
            <a:off x="4565520" y="1908000"/>
            <a:ext cx="422460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272" name="Picture 10" descr="13 박스"/>
          <p:cNvPicPr/>
          <p:nvPr/>
        </p:nvPicPr>
        <p:blipFill>
          <a:blip r:embed="rId1"/>
          <a:srcRect l="72555" t="45512" r="2866" b="32919"/>
          <a:stretch/>
        </p:blipFill>
        <p:spPr>
          <a:xfrm>
            <a:off x="928800" y="1285920"/>
            <a:ext cx="2857320" cy="57636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2144"/>
          <p:cNvSpPr/>
          <p:nvPr/>
        </p:nvSpPr>
        <p:spPr>
          <a:xfrm>
            <a:off x="1357200" y="135720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휴먼신그래픽"/>
              </a:rPr>
              <a:t>기술료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274" name="Group 534"/>
          <p:cNvGrpSpPr/>
          <p:nvPr/>
        </p:nvGrpSpPr>
        <p:grpSpPr>
          <a:xfrm>
            <a:off x="324000" y="1362240"/>
            <a:ext cx="525240" cy="610920"/>
            <a:chOff x="324000" y="1362240"/>
            <a:chExt cx="525240" cy="610920"/>
          </a:xfrm>
        </p:grpSpPr>
        <p:pic>
          <p:nvPicPr>
            <p:cNvPr id="275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362240"/>
              <a:ext cx="52524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6" name="Group 33"/>
            <p:cNvGrpSpPr/>
            <p:nvPr/>
          </p:nvGrpSpPr>
          <p:grpSpPr>
            <a:xfrm>
              <a:off x="455400" y="1432080"/>
              <a:ext cx="340200" cy="467640"/>
              <a:chOff x="455400" y="1432080"/>
              <a:chExt cx="340200" cy="467640"/>
            </a:xfrm>
          </p:grpSpPr>
          <p:grpSp>
            <p:nvGrpSpPr>
              <p:cNvPr id="277" name="Group 34"/>
              <p:cNvGrpSpPr/>
              <p:nvPr/>
            </p:nvGrpSpPr>
            <p:grpSpPr>
              <a:xfrm>
                <a:off x="455400" y="1432080"/>
                <a:ext cx="340200" cy="304560"/>
                <a:chOff x="455400" y="1432080"/>
                <a:chExt cx="340200" cy="304560"/>
              </a:xfrm>
            </p:grpSpPr>
            <p:sp>
              <p:nvSpPr>
                <p:cNvPr id="278" name="Oval 35"/>
                <p:cNvSpPr/>
                <p:nvPr/>
              </p:nvSpPr>
              <p:spPr>
                <a:xfrm>
                  <a:off x="455400" y="1432080"/>
                  <a:ext cx="34020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279" name="Oval 36"/>
                <p:cNvSpPr/>
                <p:nvPr/>
              </p:nvSpPr>
              <p:spPr>
                <a:xfrm>
                  <a:off x="474840" y="1447560"/>
                  <a:ext cx="30096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280" name="Oval 37"/>
                <p:cNvSpPr/>
                <p:nvPr/>
              </p:nvSpPr>
              <p:spPr>
                <a:xfrm>
                  <a:off x="513000" y="1447560"/>
                  <a:ext cx="22968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281" name="Rectangle 38"/>
              <p:cNvSpPr/>
              <p:nvPr/>
            </p:nvSpPr>
            <p:spPr>
              <a:xfrm>
                <a:off x="477000" y="1443240"/>
                <a:ext cx="1065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grpSp>
        <p:nvGrpSpPr>
          <p:cNvPr id="282" name="Group 482"/>
          <p:cNvGrpSpPr/>
          <p:nvPr/>
        </p:nvGrpSpPr>
        <p:grpSpPr>
          <a:xfrm>
            <a:off x="606600" y="2106720"/>
            <a:ext cx="4421160" cy="464760"/>
            <a:chOff x="606600" y="2106720"/>
            <a:chExt cx="4421160" cy="464760"/>
          </a:xfrm>
        </p:grpSpPr>
        <p:sp>
          <p:nvSpPr>
            <p:cNvPr id="283" name="Rectangle 483"/>
            <p:cNvSpPr/>
            <p:nvPr/>
          </p:nvSpPr>
          <p:spPr>
            <a:xfrm>
              <a:off x="606600" y="2106720"/>
              <a:ext cx="4421160" cy="464760"/>
            </a:xfrm>
            <a:prstGeom prst="rect">
              <a:avLst/>
            </a:prstGeom>
            <a:gradFill rotWithShape="0">
              <a:gsLst>
                <a:gs pos="0">
                  <a:srgbClr val="333399">
                    <a:alpha val="59215"/>
                  </a:srgbClr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284" name="Rectangle 484"/>
            <p:cNvSpPr/>
            <p:nvPr/>
          </p:nvSpPr>
          <p:spPr>
            <a:xfrm>
              <a:off x="606600" y="2135160"/>
              <a:ext cx="4285080" cy="4064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sp>
        <p:nvSpPr>
          <p:cNvPr id="285" name="Text Box 485"/>
          <p:cNvSpPr/>
          <p:nvPr/>
        </p:nvSpPr>
        <p:spPr>
          <a:xfrm>
            <a:off x="851040" y="2133720"/>
            <a:ext cx="7893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기술료  납부 기준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286" name="Picture 486" descr="그림1 copy 2"/>
          <p:cNvPicPr/>
          <p:nvPr/>
        </p:nvPicPr>
        <p:blipFill>
          <a:blip r:embed="rId3"/>
          <a:stretch/>
        </p:blipFill>
        <p:spPr>
          <a:xfrm>
            <a:off x="633240" y="2235240"/>
            <a:ext cx="247680" cy="20484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66"/>
          <p:cNvSpPr/>
          <p:nvPr/>
        </p:nvSpPr>
        <p:spPr>
          <a:xfrm>
            <a:off x="338040" y="152280"/>
            <a:ext cx="704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지역산업기술개발사업 변경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288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0000" rIns="90000" tIns="-46440" bIns="-4644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714240" y="2857680"/>
          <a:ext cx="7286760" cy="2000160"/>
        </p:xfrm>
        <a:graphic>
          <a:graphicData uri="http://schemas.openxmlformats.org/drawingml/2006/table">
            <a:tbl>
              <a:tblPr/>
              <a:tblGrid>
                <a:gridCol w="3643560"/>
                <a:gridCol w="364320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주관기관 유형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67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정액기술료율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67a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대기업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총 지원 국비의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3e3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중견기업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총 지원 국비의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2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중소기업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총 지원 국비의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3e3"/>
                    </a:solidFill>
                  </a:tcPr>
                </a:tc>
              </a:tr>
            </a:tbl>
          </a:graphicData>
        </a:graphic>
      </p:graphicFrame>
      <p:sp>
        <p:nvSpPr>
          <p:cNvPr id="290" name="TextBox 23"/>
          <p:cNvSpPr/>
          <p:nvPr/>
        </p:nvSpPr>
        <p:spPr>
          <a:xfrm>
            <a:off x="1071720" y="5000760"/>
            <a:ext cx="485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중견기업의 요건은 다음 장에서 설명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291" name="Picture 486" descr="그림1 copy 2"/>
          <p:cNvPicPr/>
          <p:nvPr/>
        </p:nvPicPr>
        <p:blipFill>
          <a:blip r:embed="rId4"/>
          <a:stretch/>
        </p:blipFill>
        <p:spPr>
          <a:xfrm>
            <a:off x="714240" y="5143680"/>
            <a:ext cx="247680" cy="20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293" name="AutoShape 1077"/>
          <p:cNvSpPr/>
          <p:nvPr/>
        </p:nvSpPr>
        <p:spPr>
          <a:xfrm>
            <a:off x="468360" y="1989000"/>
            <a:ext cx="8072280" cy="43214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324000" y="1325520"/>
            <a:ext cx="4043160" cy="652320"/>
            <a:chOff x="324000" y="1325520"/>
            <a:chExt cx="4043160" cy="652320"/>
          </a:xfrm>
        </p:grpSpPr>
        <p:grpSp>
          <p:nvGrpSpPr>
            <p:cNvPr id="295" name="Group 5"/>
            <p:cNvGrpSpPr/>
            <p:nvPr/>
          </p:nvGrpSpPr>
          <p:grpSpPr>
            <a:xfrm>
              <a:off x="755640" y="1325520"/>
              <a:ext cx="3611520" cy="576000"/>
              <a:chOff x="755640" y="1325520"/>
              <a:chExt cx="3611520" cy="576000"/>
            </a:xfrm>
          </p:grpSpPr>
          <p:pic>
            <p:nvPicPr>
              <p:cNvPr id="296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32552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Text Box 2144"/>
              <p:cNvSpPr/>
              <p:nvPr/>
            </p:nvSpPr>
            <p:spPr>
              <a:xfrm>
                <a:off x="1160640" y="135144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중견기업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298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36692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9" name="Group 33"/>
            <p:cNvGrpSpPr/>
            <p:nvPr/>
          </p:nvGrpSpPr>
          <p:grpSpPr>
            <a:xfrm>
              <a:off x="452520" y="1436760"/>
              <a:ext cx="333360" cy="467640"/>
              <a:chOff x="452520" y="1436760"/>
              <a:chExt cx="333360" cy="467640"/>
            </a:xfrm>
          </p:grpSpPr>
          <p:grpSp>
            <p:nvGrpSpPr>
              <p:cNvPr id="300" name="Group 34"/>
              <p:cNvGrpSpPr/>
              <p:nvPr/>
            </p:nvGrpSpPr>
            <p:grpSpPr>
              <a:xfrm>
                <a:off x="452520" y="1436760"/>
                <a:ext cx="333360" cy="304560"/>
                <a:chOff x="452520" y="1436760"/>
                <a:chExt cx="333360" cy="304560"/>
              </a:xfrm>
            </p:grpSpPr>
            <p:sp>
              <p:nvSpPr>
                <p:cNvPr id="301" name="Oval 35"/>
                <p:cNvSpPr/>
                <p:nvPr/>
              </p:nvSpPr>
              <p:spPr>
                <a:xfrm>
                  <a:off x="452520" y="143676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302" name="Oval 36"/>
                <p:cNvSpPr/>
                <p:nvPr/>
              </p:nvSpPr>
              <p:spPr>
                <a:xfrm>
                  <a:off x="469440" y="145224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303" name="Oval 37"/>
                <p:cNvSpPr/>
                <p:nvPr/>
              </p:nvSpPr>
              <p:spPr>
                <a:xfrm>
                  <a:off x="507240" y="145224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304" name="Rectangle 38"/>
              <p:cNvSpPr/>
              <p:nvPr/>
            </p:nvSpPr>
            <p:spPr>
              <a:xfrm>
                <a:off x="473760" y="144792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sp>
        <p:nvSpPr>
          <p:cNvPr id="305" name="AutoShape 5"/>
          <p:cNvSpPr/>
          <p:nvPr/>
        </p:nvSpPr>
        <p:spPr>
          <a:xfrm>
            <a:off x="755640" y="2565360"/>
            <a:ext cx="7704000" cy="49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헤드라인M"/>
              </a:rPr>
              <a:t>대기업 및 중소기업 이외의 기업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306" name="Picture 16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900000" y="2705040"/>
            <a:ext cx="289080" cy="28440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5"/>
          <p:cNvSpPr/>
          <p:nvPr/>
        </p:nvSpPr>
        <p:spPr>
          <a:xfrm>
            <a:off x="755640" y="3500280"/>
            <a:ext cx="7674120" cy="784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헤드라인M"/>
              </a:rPr>
              <a:t>상시근로자수 </a:t>
            </a:r>
            <a:r>
              <a:rPr b="1" lang="en-US" sz="18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1" lang="ko-KR" sz="1800" spc="-1" strike="noStrike">
                <a:solidFill>
                  <a:srgbClr val="000000"/>
                </a:solidFill>
                <a:latin typeface="HY헤드라인M"/>
              </a:rPr>
              <a:t>천명 미만</a:t>
            </a:r>
            <a:r>
              <a:rPr b="1" lang="en-US" sz="18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헤드라인M"/>
              </a:rPr>
              <a:t>자산총액 </a:t>
            </a:r>
            <a:r>
              <a:rPr b="1" lang="en-US" sz="1800" spc="-1" strike="noStrike">
                <a:solidFill>
                  <a:srgbClr val="000000"/>
                </a:solidFill>
                <a:latin typeface="HY헤드라인M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헤드라인M"/>
              </a:rPr>
              <a:t>천억원 미만인 기업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헤드라인M"/>
              </a:rPr>
              <a:t>직전 사업연도 말일 현재 대차대조표에 표시된 자산총액</a:t>
            </a:r>
            <a:r>
              <a:rPr b="1" lang="en-US" sz="18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308" name="Picture 16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00000" y="364500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5"/>
          <p:cNvSpPr/>
          <p:nvPr/>
        </p:nvSpPr>
        <p:spPr>
          <a:xfrm>
            <a:off x="755640" y="4653000"/>
            <a:ext cx="7704000" cy="930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헤드라인M"/>
              </a:rPr>
              <a:t>독점규제 및 공정거래에 관한 법률 제</a:t>
            </a:r>
            <a:r>
              <a:rPr b="1" lang="en-US" sz="1800" spc="-1" strike="noStrike">
                <a:solidFill>
                  <a:srgbClr val="000000"/>
                </a:solidFill>
                <a:latin typeface="HY헤드라인M"/>
              </a:rPr>
              <a:t>14</a:t>
            </a:r>
            <a:r>
              <a:rPr b="1" lang="ko-KR" sz="1800" spc="-1" strike="noStrike">
                <a:solidFill>
                  <a:srgbClr val="000000"/>
                </a:solidFill>
                <a:latin typeface="HY헤드라인M"/>
              </a:rPr>
              <a:t>조 제</a:t>
            </a:r>
            <a:r>
              <a:rPr b="1" lang="en-US" sz="18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1" lang="ko-KR" sz="1800" spc="-1" strike="noStrike">
                <a:solidFill>
                  <a:srgbClr val="000000"/>
                </a:solidFill>
                <a:latin typeface="HY헤드라인M"/>
              </a:rPr>
              <a:t>항에 따른 출자총액제한기업집단에 속하지 않는 기업 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310" name="Picture 16" descr="009---1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900000" y="501336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66"/>
          <p:cNvSpPr/>
          <p:nvPr/>
        </p:nvSpPr>
        <p:spPr>
          <a:xfrm>
            <a:off x="338040" y="152280"/>
            <a:ext cx="704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지역산업기술개발사업 변경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313" name="Picture 10" descr="13 박스"/>
          <p:cNvPicPr/>
          <p:nvPr/>
        </p:nvPicPr>
        <p:blipFill>
          <a:blip r:embed="rId1"/>
          <a:srcRect l="72555" t="45512" r="2866" b="32919"/>
          <a:stretch/>
        </p:blipFill>
        <p:spPr>
          <a:xfrm>
            <a:off x="928800" y="1424160"/>
            <a:ext cx="2857320" cy="5760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2144"/>
          <p:cNvSpPr/>
          <p:nvPr/>
        </p:nvSpPr>
        <p:spPr>
          <a:xfrm>
            <a:off x="1357200" y="1528920"/>
            <a:ext cx="20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휴먼신그래픽"/>
              </a:rPr>
              <a:t>평 가 항 목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315" name="Group 534"/>
          <p:cNvGrpSpPr/>
          <p:nvPr/>
        </p:nvGrpSpPr>
        <p:grpSpPr>
          <a:xfrm>
            <a:off x="324000" y="1460520"/>
            <a:ext cx="525240" cy="610920"/>
            <a:chOff x="324000" y="1460520"/>
            <a:chExt cx="525240" cy="610920"/>
          </a:xfrm>
        </p:grpSpPr>
        <p:pic>
          <p:nvPicPr>
            <p:cNvPr id="316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60520"/>
              <a:ext cx="52524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7" name="Group 33"/>
            <p:cNvGrpSpPr/>
            <p:nvPr/>
          </p:nvGrpSpPr>
          <p:grpSpPr>
            <a:xfrm>
              <a:off x="455400" y="1530360"/>
              <a:ext cx="340200" cy="467640"/>
              <a:chOff x="455400" y="1530360"/>
              <a:chExt cx="340200" cy="467640"/>
            </a:xfrm>
          </p:grpSpPr>
          <p:grpSp>
            <p:nvGrpSpPr>
              <p:cNvPr id="318" name="Group 34"/>
              <p:cNvGrpSpPr/>
              <p:nvPr/>
            </p:nvGrpSpPr>
            <p:grpSpPr>
              <a:xfrm>
                <a:off x="455400" y="1530360"/>
                <a:ext cx="340200" cy="304560"/>
                <a:chOff x="455400" y="1530360"/>
                <a:chExt cx="340200" cy="304560"/>
              </a:xfrm>
            </p:grpSpPr>
            <p:sp>
              <p:nvSpPr>
                <p:cNvPr id="319" name="Oval 35"/>
                <p:cNvSpPr/>
                <p:nvPr/>
              </p:nvSpPr>
              <p:spPr>
                <a:xfrm>
                  <a:off x="455400" y="1530360"/>
                  <a:ext cx="34020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320" name="Oval 36"/>
                <p:cNvSpPr/>
                <p:nvPr/>
              </p:nvSpPr>
              <p:spPr>
                <a:xfrm>
                  <a:off x="474840" y="1545840"/>
                  <a:ext cx="30096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321" name="Oval 37"/>
                <p:cNvSpPr/>
                <p:nvPr/>
              </p:nvSpPr>
              <p:spPr>
                <a:xfrm>
                  <a:off x="513000" y="1545840"/>
                  <a:ext cx="22968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322" name="Rectangle 38"/>
              <p:cNvSpPr/>
              <p:nvPr/>
            </p:nvSpPr>
            <p:spPr>
              <a:xfrm>
                <a:off x="477000" y="1541520"/>
                <a:ext cx="1065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sp>
        <p:nvSpPr>
          <p:cNvPr id="323" name="Text Box 66"/>
          <p:cNvSpPr/>
          <p:nvPr/>
        </p:nvSpPr>
        <p:spPr>
          <a:xfrm>
            <a:off x="338040" y="152280"/>
            <a:ext cx="704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지역산업기술개발사업 변경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324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0000" rIns="90000" tIns="-46440" bIns="-4644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500040" y="2071800"/>
          <a:ext cx="8286840" cy="4106880"/>
        </p:xfrm>
        <a:graphic>
          <a:graphicData uri="http://schemas.openxmlformats.org/drawingml/2006/table">
            <a:tbl>
              <a:tblPr/>
              <a:tblGrid>
                <a:gridCol w="2168640"/>
                <a:gridCol w="760320"/>
                <a:gridCol w="5357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평 가 항 목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67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비중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67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세 부 항 목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67a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사업추진체계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-.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연구개발 추진조직 및 운영체계의 적정성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-.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총괄책임자의 연구실적 등 </a:t>
                      </a:r>
                      <a:r>
                        <a:rPr b="1" lang="ko-KR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연구능력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/</a:t>
                      </a:r>
                      <a:r>
                        <a:rPr b="1" lang="ko-KR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역량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-.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참여기관 및 인력의 연구실적 등 연구역량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-.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참여기업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위탁기관의 적정성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3e3"/>
                    </a:solidFill>
                  </a:tcPr>
                </a:tc>
              </a:tr>
              <a:tr h="115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기술성 및 사업성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-.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기술개발의 </a:t>
                      </a:r>
                      <a:r>
                        <a:rPr b="1" lang="ko-KR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성공가능성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-.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기술개발의 </a:t>
                      </a:r>
                      <a:r>
                        <a:rPr b="1" lang="ko-KR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개방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.</a:t>
                      </a:r>
                      <a:r>
                        <a:rPr b="1" lang="ko-KR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융합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.</a:t>
                      </a:r>
                      <a:r>
                        <a:rPr b="1" lang="ko-KR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창조성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-.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개발품목의 시장 진입 및 </a:t>
                      </a:r>
                      <a:r>
                        <a:rPr b="1" lang="ko-KR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사업화 전망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-.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성공시 시장창출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수출효과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고용창출 등 </a:t>
                      </a:r>
                      <a:r>
                        <a:rPr b="1" lang="ko-KR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파급효과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2"/>
                    </a:solidFill>
                  </a:tcPr>
                </a:tc>
              </a:tr>
              <a:tr h="95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계획의 적정성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30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3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-.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기술적 수준과 목표의 </a:t>
                      </a:r>
                      <a:r>
                        <a:rPr b="1" lang="ko-KR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적합성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-.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추진전략 및 내용의 </a:t>
                      </a:r>
                      <a:r>
                        <a:rPr b="1" lang="ko-KR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구체성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-.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기초데이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개념설계 등 </a:t>
                      </a:r>
                      <a:r>
                        <a:rPr b="1" lang="ko-KR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사전준비 정도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3e3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기여도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10</a:t>
                      </a:r>
                      <a:endParaRPr b="0" lang="en-US" sz="1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-. 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주관기관의 지역산업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고용 및 생산액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등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)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기여도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b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144"/>
          <p:cNvSpPr/>
          <p:nvPr/>
        </p:nvSpPr>
        <p:spPr>
          <a:xfrm>
            <a:off x="755640" y="25002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휴먼신그래픽"/>
                <a:ea typeface="휴먼신그래픽"/>
              </a:rPr>
              <a:t>II</a:t>
            </a:r>
            <a:r>
              <a:rPr b="1" lang="en-US" sz="3600" spc="-1" strike="noStrike">
                <a:solidFill>
                  <a:srgbClr val="0066ff"/>
                </a:solidFill>
                <a:latin typeface="HY헤드라인M"/>
              </a:rPr>
              <a:t>. </a:t>
            </a:r>
            <a:r>
              <a:rPr b="1" lang="ko-KR" sz="3600" spc="-1" strike="noStrike">
                <a:solidFill>
                  <a:srgbClr val="0066ff"/>
                </a:solidFill>
                <a:latin typeface="HY헤드라인M"/>
              </a:rPr>
              <a:t>지역산업기술개발사업</a:t>
            </a:r>
            <a:r>
              <a:rPr b="1" lang="en-US" sz="36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1" lang="ko-KR" sz="3600" spc="-1" strike="noStrike">
                <a:solidFill>
                  <a:srgbClr val="0066ff"/>
                </a:solidFill>
                <a:latin typeface="HY헤드라인M"/>
              </a:rPr>
              <a:t>일반사항</a:t>
            </a:r>
            <a:endParaRPr b="0" lang="en-US" sz="36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327" name="AutoShape 23"/>
          <p:cNvSpPr/>
          <p:nvPr/>
        </p:nvSpPr>
        <p:spPr>
          <a:xfrm>
            <a:off x="708120" y="3284640"/>
            <a:ext cx="843588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328" name="AutoShape 23"/>
          <p:cNvSpPr/>
          <p:nvPr/>
        </p:nvSpPr>
        <p:spPr>
          <a:xfrm flipV="1">
            <a:off x="1332000" y="2341080"/>
            <a:ext cx="781200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330" name="AutoShape 50"/>
          <p:cNvSpPr/>
          <p:nvPr/>
        </p:nvSpPr>
        <p:spPr>
          <a:xfrm>
            <a:off x="611280" y="2060640"/>
            <a:ext cx="7921440" cy="4032360"/>
          </a:xfrm>
          <a:prstGeom prst="roundRect">
            <a:avLst>
              <a:gd name="adj" fmla="val 4324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ffffff">
                <a:alpha val="93000"/>
              </a:srgbClr>
            </a:solidFill>
            <a:miter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331" name="Picture 13" descr="13 박스"/>
          <p:cNvPicPr/>
          <p:nvPr/>
        </p:nvPicPr>
        <p:blipFill>
          <a:blip r:embed="rId1"/>
          <a:srcRect l="72870" t="67087" r="3020" b="15024"/>
          <a:stretch/>
        </p:blipFill>
        <p:spPr>
          <a:xfrm>
            <a:off x="1517760" y="3251160"/>
            <a:ext cx="2808000" cy="79236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27"/>
          <p:cNvSpPr/>
          <p:nvPr/>
        </p:nvSpPr>
        <p:spPr>
          <a:xfrm>
            <a:off x="5771880" y="3932280"/>
            <a:ext cx="215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헤드라인M"/>
              </a:rPr>
              <a:t>기 획 단  </a:t>
            </a:r>
            <a:r>
              <a:rPr b="0" lang="en-US" sz="1200" spc="-1" strike="noStrike">
                <a:solidFill>
                  <a:srgbClr val="000000"/>
                </a:solidFill>
                <a:latin typeface="HY헤드라인M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HY헤드라인M"/>
              </a:rPr>
              <a:t>자유형</a:t>
            </a:r>
            <a:r>
              <a:rPr b="0" lang="en-US" sz="12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HY헤드라인M"/>
              </a:rPr>
              <a:t>지정형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333" name="Text Box 66"/>
          <p:cNvSpPr/>
          <p:nvPr/>
        </p:nvSpPr>
        <p:spPr>
          <a:xfrm>
            <a:off x="338040" y="152280"/>
            <a:ext cx="704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I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지역산업기술개발사업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일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334" name="Group 52"/>
          <p:cNvGrpSpPr/>
          <p:nvPr/>
        </p:nvGrpSpPr>
        <p:grpSpPr>
          <a:xfrm>
            <a:off x="324000" y="1282680"/>
            <a:ext cx="4043160" cy="652320"/>
            <a:chOff x="324000" y="1282680"/>
            <a:chExt cx="4043160" cy="652320"/>
          </a:xfrm>
        </p:grpSpPr>
        <p:grpSp>
          <p:nvGrpSpPr>
            <p:cNvPr id="335" name="Group 42"/>
            <p:cNvGrpSpPr/>
            <p:nvPr/>
          </p:nvGrpSpPr>
          <p:grpSpPr>
            <a:xfrm>
              <a:off x="755640" y="1282680"/>
              <a:ext cx="3611520" cy="576000"/>
              <a:chOff x="755640" y="1282680"/>
              <a:chExt cx="3611520" cy="576000"/>
            </a:xfrm>
          </p:grpSpPr>
          <p:pic>
            <p:nvPicPr>
              <p:cNvPr id="336" name="Picture 10" descr="13 박스"/>
              <p:cNvPicPr/>
              <p:nvPr/>
            </p:nvPicPr>
            <p:blipFill>
              <a:blip r:embed="rId2"/>
              <a:srcRect l="72555" t="45512" r="2866" b="32919"/>
              <a:stretch/>
            </p:blipFill>
            <p:spPr>
              <a:xfrm>
                <a:off x="755640" y="128268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Text Box 2144"/>
              <p:cNvSpPr/>
              <p:nvPr/>
            </p:nvSpPr>
            <p:spPr>
              <a:xfrm>
                <a:off x="1160640" y="130860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추진체계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338" name="Picture 4" descr="2"/>
            <p:cNvPicPr/>
            <p:nvPr/>
          </p:nvPicPr>
          <p:blipFill>
            <a:blip r:embed="rId3"/>
            <a:srcRect l="56514" t="27691" r="39475" b="61574"/>
            <a:stretch/>
          </p:blipFill>
          <p:spPr>
            <a:xfrm>
              <a:off x="324000" y="132408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9" name="Group 33"/>
            <p:cNvGrpSpPr/>
            <p:nvPr/>
          </p:nvGrpSpPr>
          <p:grpSpPr>
            <a:xfrm>
              <a:off x="452520" y="1393920"/>
              <a:ext cx="333360" cy="467640"/>
              <a:chOff x="452520" y="1393920"/>
              <a:chExt cx="333360" cy="467640"/>
            </a:xfrm>
          </p:grpSpPr>
          <p:grpSp>
            <p:nvGrpSpPr>
              <p:cNvPr id="340" name="Group 34"/>
              <p:cNvGrpSpPr/>
              <p:nvPr/>
            </p:nvGrpSpPr>
            <p:grpSpPr>
              <a:xfrm>
                <a:off x="452520" y="1393920"/>
                <a:ext cx="333360" cy="304560"/>
                <a:chOff x="452520" y="1393920"/>
                <a:chExt cx="333360" cy="304560"/>
              </a:xfrm>
            </p:grpSpPr>
            <p:sp>
              <p:nvSpPr>
                <p:cNvPr id="341" name="Oval 35"/>
                <p:cNvSpPr/>
                <p:nvPr/>
              </p:nvSpPr>
              <p:spPr>
                <a:xfrm>
                  <a:off x="452520" y="139392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342" name="Oval 36"/>
                <p:cNvSpPr/>
                <p:nvPr/>
              </p:nvSpPr>
              <p:spPr>
                <a:xfrm>
                  <a:off x="469440" y="140940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343" name="Oval 37"/>
                <p:cNvSpPr/>
                <p:nvPr/>
              </p:nvSpPr>
              <p:spPr>
                <a:xfrm>
                  <a:off x="507240" y="140940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344" name="Rectangle 38"/>
              <p:cNvSpPr/>
              <p:nvPr/>
            </p:nvSpPr>
            <p:spPr>
              <a:xfrm>
                <a:off x="473760" y="140508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345" name="Picture 13" descr="13 박스"/>
          <p:cNvPicPr/>
          <p:nvPr/>
        </p:nvPicPr>
        <p:blipFill>
          <a:blip r:embed="rId4"/>
          <a:srcRect l="72870" t="67087" r="3020" b="15024"/>
          <a:stretch/>
        </p:blipFill>
        <p:spPr>
          <a:xfrm>
            <a:off x="1571760" y="2214720"/>
            <a:ext cx="2811240" cy="79200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2144"/>
          <p:cNvSpPr/>
          <p:nvPr/>
        </p:nvSpPr>
        <p:spPr>
          <a:xfrm>
            <a:off x="1571760" y="2428920"/>
            <a:ext cx="270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휴먼신그래픽"/>
              </a:rPr>
              <a:t>지식경제부</a:t>
            </a:r>
            <a:r>
              <a:rPr b="1" lang="en-US" sz="2000" spc="-1" strike="noStrike">
                <a:solidFill>
                  <a:srgbClr val="000000"/>
                </a:solidFill>
                <a:latin typeface="HY헤드라인M"/>
                <a:ea typeface="휴먼신그래픽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휴먼신그래픽"/>
              </a:rPr>
              <a:t>경상남도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347" name="Group 65"/>
          <p:cNvGrpSpPr/>
          <p:nvPr/>
        </p:nvGrpSpPr>
        <p:grpSpPr>
          <a:xfrm>
            <a:off x="5796000" y="2241720"/>
            <a:ext cx="2251080" cy="568080"/>
            <a:chOff x="5796000" y="2241720"/>
            <a:chExt cx="2251080" cy="568080"/>
          </a:xfrm>
        </p:grpSpPr>
        <p:pic>
          <p:nvPicPr>
            <p:cNvPr id="348" name="Picture 32" descr="13 박스"/>
            <p:cNvPicPr/>
            <p:nvPr/>
          </p:nvPicPr>
          <p:blipFill>
            <a:blip r:embed="rId5"/>
            <a:srcRect l="1909" t="67942" r="68736" b="23307"/>
            <a:stretch/>
          </p:blipFill>
          <p:spPr>
            <a:xfrm>
              <a:off x="5796000" y="2241720"/>
              <a:ext cx="225108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2144"/>
            <p:cNvSpPr/>
            <p:nvPr/>
          </p:nvSpPr>
          <p:spPr>
            <a:xfrm>
              <a:off x="5867280" y="2384280"/>
              <a:ext cx="21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HY헤드라인M"/>
                  <a:ea typeface="휴먼신그래픽"/>
                </a:rPr>
                <a:t>조정위원회</a:t>
              </a:r>
              <a:endParaRPr b="0" lang="en-US" sz="18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350" name="Group 66"/>
          <p:cNvGrpSpPr/>
          <p:nvPr/>
        </p:nvGrpSpPr>
        <p:grpSpPr>
          <a:xfrm>
            <a:off x="5819760" y="3316320"/>
            <a:ext cx="2251080" cy="568440"/>
            <a:chOff x="5819760" y="3316320"/>
            <a:chExt cx="2251080" cy="568440"/>
          </a:xfrm>
        </p:grpSpPr>
        <p:pic>
          <p:nvPicPr>
            <p:cNvPr id="351" name="Picture 32" descr="13 박스"/>
            <p:cNvPicPr/>
            <p:nvPr/>
          </p:nvPicPr>
          <p:blipFill>
            <a:blip r:embed="rId6"/>
            <a:srcRect l="1909" t="67942" r="68736" b="23307"/>
            <a:stretch/>
          </p:blipFill>
          <p:spPr>
            <a:xfrm>
              <a:off x="5819760" y="3316320"/>
              <a:ext cx="225108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Text Box 2144"/>
            <p:cNvSpPr/>
            <p:nvPr/>
          </p:nvSpPr>
          <p:spPr>
            <a:xfrm>
              <a:off x="5891040" y="3459240"/>
              <a:ext cx="21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HY헤드라인M"/>
                  <a:ea typeface="휴먼신그래픽"/>
                </a:rPr>
                <a:t>평가위원회</a:t>
              </a:r>
              <a:endParaRPr b="0" lang="en-US" sz="18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sp>
        <p:nvSpPr>
          <p:cNvPr id="353" name="Text Box 2144"/>
          <p:cNvSpPr/>
          <p:nvPr/>
        </p:nvSpPr>
        <p:spPr>
          <a:xfrm>
            <a:off x="1692360" y="342900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휴먼신그래픽"/>
              </a:rPr>
              <a:t>전담기관</a:t>
            </a:r>
            <a:r>
              <a:rPr b="1" lang="en-US" sz="2000" spc="-1" strike="noStrike">
                <a:solidFill>
                  <a:srgbClr val="000000"/>
                </a:solidFill>
                <a:latin typeface="HY헤드라인M"/>
                <a:ea typeface="휴먼신그래픽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휴먼신그래픽"/>
              </a:rPr>
              <a:t>기획단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354" name="Picture 7" descr="13 박스"/>
          <p:cNvPicPr/>
          <p:nvPr/>
        </p:nvPicPr>
        <p:blipFill>
          <a:blip r:embed="rId7"/>
          <a:srcRect l="72535" t="20535" r="2693" b="54493"/>
          <a:stretch/>
        </p:blipFill>
        <p:spPr>
          <a:xfrm>
            <a:off x="1965240" y="4338720"/>
            <a:ext cx="1943280" cy="60300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2144"/>
          <p:cNvSpPr/>
          <p:nvPr/>
        </p:nvSpPr>
        <p:spPr>
          <a:xfrm>
            <a:off x="1951200" y="4454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휴먼신그래픽"/>
              </a:rPr>
              <a:t>주관기관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356" name="Group 91"/>
          <p:cNvGrpSpPr/>
          <p:nvPr/>
        </p:nvGrpSpPr>
        <p:grpSpPr>
          <a:xfrm>
            <a:off x="995400" y="5305320"/>
            <a:ext cx="1942920" cy="577800"/>
            <a:chOff x="995400" y="5305320"/>
            <a:chExt cx="1942920" cy="577800"/>
          </a:xfrm>
        </p:grpSpPr>
        <p:pic>
          <p:nvPicPr>
            <p:cNvPr id="357" name="Picture 7" descr="13 박스"/>
            <p:cNvPicPr/>
            <p:nvPr/>
          </p:nvPicPr>
          <p:blipFill>
            <a:blip r:embed="rId8"/>
            <a:srcRect l="72535" t="20535" r="2693" b="54493"/>
            <a:stretch/>
          </p:blipFill>
          <p:spPr>
            <a:xfrm>
              <a:off x="995400" y="5305320"/>
              <a:ext cx="194292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 Box 2144"/>
            <p:cNvSpPr/>
            <p:nvPr/>
          </p:nvSpPr>
          <p:spPr>
            <a:xfrm>
              <a:off x="1037880" y="539064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HY헤드라인M"/>
                  <a:ea typeface="휴먼신그래픽"/>
                </a:rPr>
                <a:t>참여기업</a:t>
              </a: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359" name="Group 90"/>
          <p:cNvGrpSpPr/>
          <p:nvPr/>
        </p:nvGrpSpPr>
        <p:grpSpPr>
          <a:xfrm>
            <a:off x="2992320" y="5305320"/>
            <a:ext cx="1942920" cy="577800"/>
            <a:chOff x="2992320" y="5305320"/>
            <a:chExt cx="1942920" cy="577800"/>
          </a:xfrm>
        </p:grpSpPr>
        <p:pic>
          <p:nvPicPr>
            <p:cNvPr id="360" name="Picture 7" descr="13 박스"/>
            <p:cNvPicPr/>
            <p:nvPr/>
          </p:nvPicPr>
          <p:blipFill>
            <a:blip r:embed="rId9"/>
            <a:srcRect l="72535" t="20535" r="2693" b="54493"/>
            <a:stretch/>
          </p:blipFill>
          <p:spPr>
            <a:xfrm>
              <a:off x="2992320" y="5305320"/>
              <a:ext cx="194292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Text Box 2144"/>
            <p:cNvSpPr/>
            <p:nvPr/>
          </p:nvSpPr>
          <p:spPr>
            <a:xfrm>
              <a:off x="3035160" y="5390640"/>
              <a:ext cx="18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HY헤드라인M"/>
                  <a:ea typeface="휴먼신그래픽"/>
                </a:rPr>
                <a:t>위탁기관</a:t>
              </a: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362" name="Group 96"/>
          <p:cNvGrpSpPr/>
          <p:nvPr/>
        </p:nvGrpSpPr>
        <p:grpSpPr>
          <a:xfrm>
            <a:off x="2916360" y="2923920"/>
            <a:ext cx="71280" cy="360360"/>
            <a:chOff x="2916360" y="2923920"/>
            <a:chExt cx="71280" cy="360360"/>
          </a:xfrm>
        </p:grpSpPr>
        <p:sp>
          <p:nvSpPr>
            <p:cNvPr id="363" name="AutoShape 58"/>
            <p:cNvSpPr/>
            <p:nvPr/>
          </p:nvSpPr>
          <p:spPr>
            <a:xfrm rot="16200000">
              <a:off x="2771640" y="3068280"/>
              <a:ext cx="360360" cy="7128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364" name="AutoShape 59"/>
            <p:cNvSpPr/>
            <p:nvPr/>
          </p:nvSpPr>
          <p:spPr>
            <a:xfrm rot="16200000">
              <a:off x="2766240" y="3082680"/>
              <a:ext cx="354240" cy="4284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365" name="Group 97"/>
          <p:cNvGrpSpPr/>
          <p:nvPr/>
        </p:nvGrpSpPr>
        <p:grpSpPr>
          <a:xfrm>
            <a:off x="2916360" y="4005000"/>
            <a:ext cx="71280" cy="315720"/>
            <a:chOff x="2916360" y="4005000"/>
            <a:chExt cx="71280" cy="315720"/>
          </a:xfrm>
        </p:grpSpPr>
        <p:sp>
          <p:nvSpPr>
            <p:cNvPr id="366" name="AutoShape 58"/>
            <p:cNvSpPr/>
            <p:nvPr/>
          </p:nvSpPr>
          <p:spPr>
            <a:xfrm rot="16200000">
              <a:off x="2793960" y="4127040"/>
              <a:ext cx="315720" cy="7128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367" name="AutoShape 59"/>
            <p:cNvSpPr/>
            <p:nvPr/>
          </p:nvSpPr>
          <p:spPr>
            <a:xfrm rot="16200000">
              <a:off x="2788200" y="4141440"/>
              <a:ext cx="310320" cy="4284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368" name="Group 100"/>
          <p:cNvGrpSpPr/>
          <p:nvPr/>
        </p:nvGrpSpPr>
        <p:grpSpPr>
          <a:xfrm>
            <a:off x="2916360" y="4944960"/>
            <a:ext cx="71280" cy="144720"/>
            <a:chOff x="2916360" y="4944960"/>
            <a:chExt cx="71280" cy="144720"/>
          </a:xfrm>
        </p:grpSpPr>
        <p:sp>
          <p:nvSpPr>
            <p:cNvPr id="369" name="AutoShape 58"/>
            <p:cNvSpPr/>
            <p:nvPr/>
          </p:nvSpPr>
          <p:spPr>
            <a:xfrm rot="16200000">
              <a:off x="2879640" y="4981680"/>
              <a:ext cx="144720" cy="7128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370" name="AutoShape 59"/>
            <p:cNvSpPr/>
            <p:nvPr/>
          </p:nvSpPr>
          <p:spPr>
            <a:xfrm rot="16200000">
              <a:off x="2872440" y="4996080"/>
              <a:ext cx="142200" cy="4284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371" name="Group 103"/>
          <p:cNvGrpSpPr/>
          <p:nvPr/>
        </p:nvGrpSpPr>
        <p:grpSpPr>
          <a:xfrm>
            <a:off x="2093760" y="5099040"/>
            <a:ext cx="1690920" cy="69840"/>
            <a:chOff x="2093760" y="5099040"/>
            <a:chExt cx="1690920" cy="69840"/>
          </a:xfrm>
        </p:grpSpPr>
        <p:sp>
          <p:nvSpPr>
            <p:cNvPr id="372" name="AutoShape 58"/>
            <p:cNvSpPr/>
            <p:nvPr/>
          </p:nvSpPr>
          <p:spPr>
            <a:xfrm>
              <a:off x="2093760" y="5099040"/>
              <a:ext cx="1690920" cy="6984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373" name="AutoShape 59"/>
            <p:cNvSpPr/>
            <p:nvPr/>
          </p:nvSpPr>
          <p:spPr>
            <a:xfrm>
              <a:off x="2108520" y="5104800"/>
              <a:ext cx="1661400" cy="4212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374" name="Group 106"/>
          <p:cNvGrpSpPr/>
          <p:nvPr/>
        </p:nvGrpSpPr>
        <p:grpSpPr>
          <a:xfrm>
            <a:off x="2089080" y="5141520"/>
            <a:ext cx="71640" cy="144360"/>
            <a:chOff x="2089080" y="5141520"/>
            <a:chExt cx="71640" cy="144360"/>
          </a:xfrm>
        </p:grpSpPr>
        <p:sp>
          <p:nvSpPr>
            <p:cNvPr id="375" name="AutoShape 58"/>
            <p:cNvSpPr/>
            <p:nvPr/>
          </p:nvSpPr>
          <p:spPr>
            <a:xfrm rot="16200000">
              <a:off x="2052720" y="5177880"/>
              <a:ext cx="144360" cy="7164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376" name="AutoShape 59"/>
            <p:cNvSpPr/>
            <p:nvPr/>
          </p:nvSpPr>
          <p:spPr>
            <a:xfrm rot="16200000">
              <a:off x="2045520" y="5192280"/>
              <a:ext cx="141840" cy="4320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377" name="Group 109"/>
          <p:cNvGrpSpPr/>
          <p:nvPr/>
        </p:nvGrpSpPr>
        <p:grpSpPr>
          <a:xfrm>
            <a:off x="3713040" y="5151240"/>
            <a:ext cx="71640" cy="144360"/>
            <a:chOff x="3713040" y="5151240"/>
            <a:chExt cx="71640" cy="144360"/>
          </a:xfrm>
        </p:grpSpPr>
        <p:sp>
          <p:nvSpPr>
            <p:cNvPr id="378" name="AutoShape 58"/>
            <p:cNvSpPr/>
            <p:nvPr/>
          </p:nvSpPr>
          <p:spPr>
            <a:xfrm rot="16200000">
              <a:off x="3676680" y="5187600"/>
              <a:ext cx="144360" cy="7164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379" name="AutoShape 59"/>
            <p:cNvSpPr/>
            <p:nvPr/>
          </p:nvSpPr>
          <p:spPr>
            <a:xfrm rot="16200000">
              <a:off x="3669480" y="5202000"/>
              <a:ext cx="141840" cy="4320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380" name="Group 112"/>
          <p:cNvGrpSpPr/>
          <p:nvPr/>
        </p:nvGrpSpPr>
        <p:grpSpPr>
          <a:xfrm>
            <a:off x="4357800" y="2499840"/>
            <a:ext cx="1490400" cy="135000"/>
            <a:chOff x="4357800" y="2499840"/>
            <a:chExt cx="1490400" cy="135000"/>
          </a:xfrm>
        </p:grpSpPr>
        <p:sp>
          <p:nvSpPr>
            <p:cNvPr id="381" name="AutoShape 58"/>
            <p:cNvSpPr/>
            <p:nvPr/>
          </p:nvSpPr>
          <p:spPr>
            <a:xfrm flipV="1">
              <a:off x="4357800" y="2499480"/>
              <a:ext cx="1490400" cy="13500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382" name="AutoShape 59"/>
            <p:cNvSpPr/>
            <p:nvPr/>
          </p:nvSpPr>
          <p:spPr>
            <a:xfrm flipV="1">
              <a:off x="4370760" y="2542320"/>
              <a:ext cx="1464480" cy="8136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383" name="Group 115"/>
          <p:cNvGrpSpPr/>
          <p:nvPr/>
        </p:nvGrpSpPr>
        <p:grpSpPr>
          <a:xfrm>
            <a:off x="4284720" y="3571560"/>
            <a:ext cx="1582560" cy="73080"/>
            <a:chOff x="4284720" y="3571560"/>
            <a:chExt cx="1582560" cy="73080"/>
          </a:xfrm>
        </p:grpSpPr>
        <p:sp>
          <p:nvSpPr>
            <p:cNvPr id="384" name="AutoShape 58"/>
            <p:cNvSpPr/>
            <p:nvPr/>
          </p:nvSpPr>
          <p:spPr>
            <a:xfrm flipV="1">
              <a:off x="4284720" y="3571200"/>
              <a:ext cx="1582560" cy="73080"/>
            </a:xfrm>
            <a:prstGeom prst="roundRect">
              <a:avLst>
                <a:gd name="adj" fmla="val 34278"/>
              </a:avLst>
            </a:prstGeom>
            <a:gradFill rotWithShape="0">
              <a:gsLst>
                <a:gs pos="0">
                  <a:srgbClr val="fbb425"/>
                </a:gs>
                <a:gs pos="50000">
                  <a:srgbClr val="fef5e2"/>
                </a:gs>
                <a:gs pos="100000">
                  <a:srgbClr val="fbb425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385" name="AutoShape 59"/>
            <p:cNvSpPr/>
            <p:nvPr/>
          </p:nvSpPr>
          <p:spPr>
            <a:xfrm flipV="1">
              <a:off x="4298400" y="3593880"/>
              <a:ext cx="1554840" cy="44280"/>
            </a:xfrm>
            <a:prstGeom prst="roundRect">
              <a:avLst>
                <a:gd name="adj" fmla="val 2713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387" name="AutoShape 1077"/>
          <p:cNvSpPr/>
          <p:nvPr/>
        </p:nvSpPr>
        <p:spPr>
          <a:xfrm>
            <a:off x="571680" y="2060640"/>
            <a:ext cx="8143560" cy="42260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388" name="Line 48"/>
          <p:cNvSpPr/>
          <p:nvPr/>
        </p:nvSpPr>
        <p:spPr>
          <a:xfrm>
            <a:off x="2602080" y="2637000"/>
            <a:ext cx="0" cy="3097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389" name="Group 37"/>
          <p:cNvGrpSpPr/>
          <p:nvPr/>
        </p:nvGrpSpPr>
        <p:grpSpPr>
          <a:xfrm>
            <a:off x="324000" y="1359000"/>
            <a:ext cx="4043160" cy="652320"/>
            <a:chOff x="324000" y="1359000"/>
            <a:chExt cx="4043160" cy="652320"/>
          </a:xfrm>
        </p:grpSpPr>
        <p:grpSp>
          <p:nvGrpSpPr>
            <p:cNvPr id="390" name="Group 38"/>
            <p:cNvGrpSpPr/>
            <p:nvPr/>
          </p:nvGrpSpPr>
          <p:grpSpPr>
            <a:xfrm>
              <a:off x="755640" y="1359000"/>
              <a:ext cx="3611520" cy="576000"/>
              <a:chOff x="755640" y="1359000"/>
              <a:chExt cx="3611520" cy="576000"/>
            </a:xfrm>
          </p:grpSpPr>
          <p:pic>
            <p:nvPicPr>
              <p:cNvPr id="391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35900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" name="Text Box 2144"/>
              <p:cNvSpPr/>
              <p:nvPr/>
            </p:nvSpPr>
            <p:spPr>
              <a:xfrm>
                <a:off x="1160640" y="138492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추진절차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393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0040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Group 33"/>
            <p:cNvGrpSpPr/>
            <p:nvPr/>
          </p:nvGrpSpPr>
          <p:grpSpPr>
            <a:xfrm>
              <a:off x="452520" y="1470240"/>
              <a:ext cx="333360" cy="467640"/>
              <a:chOff x="452520" y="1470240"/>
              <a:chExt cx="333360" cy="467640"/>
            </a:xfrm>
          </p:grpSpPr>
          <p:grpSp>
            <p:nvGrpSpPr>
              <p:cNvPr id="395" name="Group 34"/>
              <p:cNvGrpSpPr/>
              <p:nvPr/>
            </p:nvGrpSpPr>
            <p:grpSpPr>
              <a:xfrm>
                <a:off x="452520" y="1470240"/>
                <a:ext cx="333360" cy="304560"/>
                <a:chOff x="452520" y="1470240"/>
                <a:chExt cx="333360" cy="304560"/>
              </a:xfrm>
            </p:grpSpPr>
            <p:sp>
              <p:nvSpPr>
                <p:cNvPr id="396" name="Oval 35"/>
                <p:cNvSpPr/>
                <p:nvPr/>
              </p:nvSpPr>
              <p:spPr>
                <a:xfrm>
                  <a:off x="452520" y="147024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397" name="Oval 36"/>
                <p:cNvSpPr/>
                <p:nvPr/>
              </p:nvSpPr>
              <p:spPr>
                <a:xfrm>
                  <a:off x="469440" y="14857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398" name="Oval 37"/>
                <p:cNvSpPr/>
                <p:nvPr/>
              </p:nvSpPr>
              <p:spPr>
                <a:xfrm>
                  <a:off x="507240" y="148572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399" name="Rectangle 38"/>
              <p:cNvSpPr/>
              <p:nvPr/>
            </p:nvSpPr>
            <p:spPr>
              <a:xfrm>
                <a:off x="473760" y="148140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sp>
        <p:nvSpPr>
          <p:cNvPr id="400" name="Rectangle 6"/>
          <p:cNvSpPr/>
          <p:nvPr/>
        </p:nvSpPr>
        <p:spPr>
          <a:xfrm>
            <a:off x="1209600" y="2249640"/>
            <a:ext cx="2786040" cy="35712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500" spc="-1" strike="noStrike">
                <a:solidFill>
                  <a:srgbClr val="040807"/>
                </a:solidFill>
                <a:latin typeface="HY헤드라인M"/>
              </a:rPr>
              <a:t>사업공고</a:t>
            </a:r>
            <a:endParaRPr b="0" lang="en-US" sz="15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1209600" y="2743200"/>
            <a:ext cx="2786040" cy="33804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500" spc="-1" strike="noStrike">
                <a:solidFill>
                  <a:srgbClr val="040807"/>
                </a:solidFill>
                <a:latin typeface="HY헤드라인M"/>
              </a:rPr>
              <a:t>사업계획서 접수 및 평가</a:t>
            </a:r>
            <a:endParaRPr b="0" lang="en-US" sz="15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1209600" y="3701880"/>
            <a:ext cx="2786040" cy="36540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협약체결 및 정부출연금 지원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1209600" y="3224160"/>
            <a:ext cx="2786040" cy="31428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지원대상과제 확정 및 통보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1209600" y="4729320"/>
            <a:ext cx="2786040" cy="32688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중간평가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1209600" y="4227480"/>
            <a:ext cx="2786040" cy="34308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기술개발 수행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06" name="Rectangle 12"/>
          <p:cNvSpPr/>
          <p:nvPr/>
        </p:nvSpPr>
        <p:spPr>
          <a:xfrm>
            <a:off x="1209600" y="5205240"/>
            <a:ext cx="2786040" cy="31608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사업비정산 및 최종보고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1209600" y="5664240"/>
            <a:ext cx="2786040" cy="35712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50000">
                <a:srgbClr val="ffffff"/>
              </a:gs>
              <a:gs pos="100000">
                <a:srgbClr val="7067a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기술료 징수 및 사후관리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08" name="Rectangle 15"/>
          <p:cNvSpPr/>
          <p:nvPr/>
        </p:nvSpPr>
        <p:spPr>
          <a:xfrm>
            <a:off x="4254480" y="2241720"/>
            <a:ext cx="3799080" cy="33804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신청자격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지원대상기술 등 공고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09" name="Rectangle 16"/>
          <p:cNvSpPr/>
          <p:nvPr/>
        </p:nvSpPr>
        <p:spPr>
          <a:xfrm>
            <a:off x="4248000" y="2736720"/>
            <a:ext cx="3791160" cy="35244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1300" spc="-1" strike="noStrike">
                <a:solidFill>
                  <a:srgbClr val="040807"/>
                </a:solidFill>
                <a:latin typeface="굴림"/>
                <a:ea typeface="굴림"/>
              </a:rPr>
              <a:t> </a:t>
            </a:r>
            <a:r>
              <a:rPr b="0" lang="en-US" sz="12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200" spc="-1" strike="noStrike">
                <a:solidFill>
                  <a:srgbClr val="040807"/>
                </a:solidFill>
                <a:latin typeface="HY헤드라인M"/>
              </a:rPr>
              <a:t>평가위원회 구성</a:t>
            </a:r>
            <a:r>
              <a:rPr b="0" lang="en-US" sz="1200" spc="-1" strike="noStrike">
                <a:solidFill>
                  <a:srgbClr val="040807"/>
                </a:solidFill>
                <a:latin typeface="HY헤드라인M"/>
              </a:rPr>
              <a:t>, </a:t>
            </a:r>
            <a:r>
              <a:rPr b="0" lang="ko-KR" sz="1200" spc="-1" strike="noStrike">
                <a:solidFill>
                  <a:srgbClr val="040807"/>
                </a:solidFill>
                <a:latin typeface="HY헤드라인M"/>
              </a:rPr>
              <a:t>심의</a:t>
            </a:r>
            <a:r>
              <a:rPr b="0" lang="en-US" sz="1200" spc="-1" strike="noStrike">
                <a:solidFill>
                  <a:srgbClr val="040807"/>
                </a:solidFill>
                <a:latin typeface="HY헤드라인M"/>
              </a:rPr>
              <a:t>, </a:t>
            </a:r>
            <a:r>
              <a:rPr b="0" lang="ko-KR" sz="1200" spc="-1" strike="noStrike">
                <a:solidFill>
                  <a:srgbClr val="040807"/>
                </a:solidFill>
                <a:latin typeface="HY헤드라인M"/>
              </a:rPr>
              <a:t>기술성 및 사업성 평가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10" name="Rectangle 17"/>
          <p:cNvSpPr/>
          <p:nvPr/>
        </p:nvSpPr>
        <p:spPr>
          <a:xfrm>
            <a:off x="4254480" y="3255840"/>
            <a:ext cx="3790800" cy="30168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지원대상과제 지경부 제출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검토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확정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11" name="Rectangle 18"/>
          <p:cNvSpPr/>
          <p:nvPr/>
        </p:nvSpPr>
        <p:spPr>
          <a:xfrm>
            <a:off x="4254480" y="4202280"/>
            <a:ext cx="3790800" cy="34596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협약내용 변경 신청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·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승인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12" name="Rectangle 19"/>
          <p:cNvSpPr/>
          <p:nvPr/>
        </p:nvSpPr>
        <p:spPr>
          <a:xfrm>
            <a:off x="4254480" y="4705200"/>
            <a:ext cx="3790800" cy="37476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1300" spc="-1" strike="noStrike">
                <a:solidFill>
                  <a:srgbClr val="040807"/>
                </a:solidFill>
                <a:latin typeface="굴림"/>
                <a:ea typeface="굴림"/>
              </a:rPr>
              <a:t> 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매년 중간보고서 제출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13" name="Rectangle 20"/>
          <p:cNvSpPr/>
          <p:nvPr/>
        </p:nvSpPr>
        <p:spPr>
          <a:xfrm>
            <a:off x="4254480" y="3697200"/>
            <a:ext cx="3790800" cy="32724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총개발기간 일괄협약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14" name="Rectangle 21"/>
          <p:cNvSpPr/>
          <p:nvPr/>
        </p:nvSpPr>
        <p:spPr>
          <a:xfrm>
            <a:off x="4264200" y="5210280"/>
            <a:ext cx="3790800" cy="360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1300" spc="-1" strike="noStrike">
                <a:solidFill>
                  <a:srgbClr val="040807"/>
                </a:solidFill>
                <a:latin typeface="굴림"/>
                <a:ea typeface="굴림"/>
              </a:rPr>
              <a:t> 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현장실사 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/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평가위원회 평가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15" name="Rectangle 22"/>
          <p:cNvSpPr/>
          <p:nvPr/>
        </p:nvSpPr>
        <p:spPr>
          <a:xfrm>
            <a:off x="4264200" y="5675400"/>
            <a:ext cx="3790800" cy="326880"/>
          </a:xfrm>
          <a:prstGeom prst="rect">
            <a:avLst/>
          </a:prstGeom>
          <a:solidFill>
            <a:srgbClr val="ebf7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en-US" sz="1300" spc="-1" strike="noStrike">
                <a:solidFill>
                  <a:srgbClr val="040807"/>
                </a:solidFill>
                <a:latin typeface="굴림"/>
                <a:ea typeface="굴림"/>
              </a:rPr>
              <a:t> </a:t>
            </a:r>
            <a:r>
              <a:rPr b="0" lang="en-US" sz="1400" spc="-1" strike="noStrike">
                <a:solidFill>
                  <a:srgbClr val="040807"/>
                </a:solidFill>
                <a:latin typeface="HY헤드라인M"/>
              </a:rPr>
              <a:t>- 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성공시 출연금의 </a:t>
            </a:r>
            <a:r>
              <a:rPr b="0" lang="en-US" sz="1400" spc="-1" strike="noStrike">
                <a:solidFill>
                  <a:srgbClr val="ff9900"/>
                </a:solidFill>
                <a:latin typeface="HY헤드라인M"/>
              </a:rPr>
              <a:t>20~40%</a:t>
            </a:r>
            <a:r>
              <a:rPr b="0" lang="ko-KR" sz="1400" spc="-1" strike="noStrike">
                <a:solidFill>
                  <a:srgbClr val="040807"/>
                </a:solidFill>
                <a:latin typeface="HY헤드라인M"/>
              </a:rPr>
              <a:t>를 징수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16" name="Text Box 66"/>
          <p:cNvSpPr/>
          <p:nvPr/>
        </p:nvSpPr>
        <p:spPr>
          <a:xfrm>
            <a:off x="338040" y="152280"/>
            <a:ext cx="704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I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지역산업기술개발사업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일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2144"/>
          <p:cNvSpPr/>
          <p:nvPr/>
        </p:nvSpPr>
        <p:spPr>
          <a:xfrm>
            <a:off x="755640" y="25002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휴먼신그래픽"/>
                <a:ea typeface="휴먼신그래픽"/>
              </a:rPr>
              <a:t>III</a:t>
            </a:r>
            <a:r>
              <a:rPr b="1" lang="en-US" sz="3600" spc="-1" strike="noStrike">
                <a:solidFill>
                  <a:srgbClr val="0066ff"/>
                </a:solidFill>
                <a:latin typeface="HY헤드라인M"/>
              </a:rPr>
              <a:t>. </a:t>
            </a:r>
            <a:r>
              <a:rPr b="1" lang="ko-KR" sz="3600" spc="-1" strike="noStrike">
                <a:solidFill>
                  <a:srgbClr val="0066ff"/>
                </a:solidFill>
                <a:latin typeface="HY헤드라인M"/>
              </a:rPr>
              <a:t>세부 사업별 지원계획 </a:t>
            </a:r>
            <a:endParaRPr b="0" lang="en-US" sz="36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18" name="AutoShape 23"/>
          <p:cNvSpPr/>
          <p:nvPr/>
        </p:nvSpPr>
        <p:spPr>
          <a:xfrm>
            <a:off x="708120" y="3284640"/>
            <a:ext cx="843588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19" name="AutoShape 23"/>
          <p:cNvSpPr/>
          <p:nvPr/>
        </p:nvSpPr>
        <p:spPr>
          <a:xfrm flipV="1">
            <a:off x="1332000" y="2341080"/>
            <a:ext cx="781200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1655640" y="3876840"/>
            <a:ext cx="4202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지역산업기술개발사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자유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421" name="Picture 12" descr="그림1 copy 2"/>
          <p:cNvPicPr/>
          <p:nvPr/>
        </p:nvPicPr>
        <p:blipFill>
          <a:blip r:embed="rId1"/>
          <a:stretch/>
        </p:blipFill>
        <p:spPr>
          <a:xfrm>
            <a:off x="1438200" y="3949560"/>
            <a:ext cx="290520" cy="2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AutoShape 4"/>
          <p:cNvSpPr/>
          <p:nvPr/>
        </p:nvSpPr>
        <p:spPr>
          <a:xfrm>
            <a:off x="250920" y="130644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23" name="AutoShape 1077"/>
          <p:cNvSpPr/>
          <p:nvPr/>
        </p:nvSpPr>
        <p:spPr>
          <a:xfrm>
            <a:off x="611280" y="5133960"/>
            <a:ext cx="7961400" cy="122400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ts val="998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0" y="793800"/>
            <a:ext cx="89330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굴림"/>
              <a:buChar char="•"/>
              <a:tabLst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25" name="Text Box 66"/>
          <p:cNvSpPr/>
          <p:nvPr/>
        </p:nvSpPr>
        <p:spPr>
          <a:xfrm>
            <a:off x="338040" y="152280"/>
            <a:ext cx="6556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II. 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세부 사업별 지원 계획 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(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안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)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26" name="AutoShape 1077"/>
          <p:cNvSpPr/>
          <p:nvPr/>
        </p:nvSpPr>
        <p:spPr>
          <a:xfrm>
            <a:off x="673200" y="2128680"/>
            <a:ext cx="7970760" cy="943200"/>
          </a:xfrm>
          <a:prstGeom prst="roundRect">
            <a:avLst>
              <a:gd name="adj" fmla="val 21352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ts val="998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기업주도의 핵심기술개발과제를 자유롭게 도출하여 신청하고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평가를 통해 선정된 과제에 대해 지원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800" spc="-1" strike="noStrike">
                <a:solidFill>
                  <a:srgbClr val="ff0000"/>
                </a:solidFill>
                <a:latin typeface="HY헤드라인M"/>
              </a:rPr>
              <a:t>전략산업 범위 내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27" name="AutoShape 1077"/>
          <p:cNvSpPr/>
          <p:nvPr/>
        </p:nvSpPr>
        <p:spPr>
          <a:xfrm>
            <a:off x="682560" y="3321000"/>
            <a:ext cx="7961400" cy="158112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ts val="998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9900"/>
                </a:solidFill>
                <a:latin typeface="HY헤드라인M"/>
              </a:rPr>
              <a:t>   </a:t>
            </a:r>
            <a:r>
              <a:rPr b="0" lang="ko-KR" sz="1800" spc="-1" strike="noStrike">
                <a:solidFill>
                  <a:srgbClr val="ff9900"/>
                </a:solidFill>
                <a:latin typeface="HY헤드라인M"/>
              </a:rPr>
              <a:t>신규지원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분야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바이오분야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  </a:t>
            </a:r>
            <a:r>
              <a:rPr b="0" lang="ko-KR" sz="1800" spc="-1" strike="noStrike">
                <a:solidFill>
                  <a:srgbClr val="ff9900"/>
                </a:solidFill>
                <a:latin typeface="HY헤드라인M"/>
              </a:rPr>
              <a:t>지원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대상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주관기관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참여기업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위탁기관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  </a:t>
            </a:r>
            <a:r>
              <a:rPr b="0" lang="ko-KR" sz="1800" spc="-1" strike="noStrike">
                <a:solidFill>
                  <a:srgbClr val="ff9900"/>
                </a:solidFill>
                <a:latin typeface="HY헤드라인M"/>
              </a:rPr>
              <a:t>지원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조건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: 3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년이내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, 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과제당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억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년 이내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2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년을 기본으로 함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428" name="Group 88"/>
          <p:cNvGrpSpPr/>
          <p:nvPr/>
        </p:nvGrpSpPr>
        <p:grpSpPr>
          <a:xfrm>
            <a:off x="322200" y="1320840"/>
            <a:ext cx="6177960" cy="657360"/>
            <a:chOff x="322200" y="1320840"/>
            <a:chExt cx="6177960" cy="657360"/>
          </a:xfrm>
        </p:grpSpPr>
        <p:grpSp>
          <p:nvGrpSpPr>
            <p:cNvPr id="429" name="Group 13"/>
            <p:cNvGrpSpPr/>
            <p:nvPr/>
          </p:nvGrpSpPr>
          <p:grpSpPr>
            <a:xfrm>
              <a:off x="929520" y="1320840"/>
              <a:ext cx="5570640" cy="574200"/>
              <a:chOff x="929520" y="1320840"/>
              <a:chExt cx="5570640" cy="574200"/>
            </a:xfrm>
          </p:grpSpPr>
          <p:pic>
            <p:nvPicPr>
              <p:cNvPr id="430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929520" y="1320840"/>
                <a:ext cx="5570640" cy="57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Text Box 2144"/>
              <p:cNvSpPr/>
              <p:nvPr/>
            </p:nvSpPr>
            <p:spPr>
              <a:xfrm>
                <a:off x="1554480" y="1348560"/>
                <a:ext cx="458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지역산업기술개발사업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(</a:t>
                </a: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자유형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)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432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2200" y="1366920"/>
              <a:ext cx="72324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Group 33"/>
            <p:cNvGrpSpPr/>
            <p:nvPr/>
          </p:nvGrpSpPr>
          <p:grpSpPr>
            <a:xfrm>
              <a:off x="502560" y="1436760"/>
              <a:ext cx="468360" cy="468000"/>
              <a:chOff x="502560" y="1436760"/>
              <a:chExt cx="468360" cy="468000"/>
            </a:xfrm>
          </p:grpSpPr>
          <p:grpSp>
            <p:nvGrpSpPr>
              <p:cNvPr id="434" name="Group 34"/>
              <p:cNvGrpSpPr/>
              <p:nvPr/>
            </p:nvGrpSpPr>
            <p:grpSpPr>
              <a:xfrm>
                <a:off x="502560" y="1436760"/>
                <a:ext cx="468360" cy="304920"/>
                <a:chOff x="502560" y="1436760"/>
                <a:chExt cx="468360" cy="304920"/>
              </a:xfrm>
            </p:grpSpPr>
            <p:sp>
              <p:nvSpPr>
                <p:cNvPr id="435" name="Oval 35"/>
                <p:cNvSpPr/>
                <p:nvPr/>
              </p:nvSpPr>
              <p:spPr>
                <a:xfrm>
                  <a:off x="502560" y="1436760"/>
                  <a:ext cx="468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436" name="Oval 36"/>
                <p:cNvSpPr/>
                <p:nvPr/>
              </p:nvSpPr>
              <p:spPr>
                <a:xfrm>
                  <a:off x="526320" y="1452240"/>
                  <a:ext cx="42228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437" name="Oval 37"/>
                <p:cNvSpPr/>
                <p:nvPr/>
              </p:nvSpPr>
              <p:spPr>
                <a:xfrm>
                  <a:off x="579600" y="1452240"/>
                  <a:ext cx="32220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438" name="Rectangle 38"/>
              <p:cNvSpPr/>
              <p:nvPr/>
            </p:nvSpPr>
            <p:spPr>
              <a:xfrm>
                <a:off x="532440" y="1447920"/>
                <a:ext cx="2322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439" name="Picture 24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84360" y="2496960"/>
            <a:ext cx="217440" cy="21456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28"/>
          <p:cNvGrpSpPr/>
          <p:nvPr/>
        </p:nvGrpSpPr>
        <p:grpSpPr>
          <a:xfrm>
            <a:off x="684360" y="1920960"/>
            <a:ext cx="1655640" cy="425520"/>
            <a:chOff x="684360" y="1920960"/>
            <a:chExt cx="1655640" cy="425520"/>
          </a:xfrm>
        </p:grpSpPr>
        <p:sp>
          <p:nvSpPr>
            <p:cNvPr id="441" name="AutoShape 25"/>
            <p:cNvSpPr/>
            <p:nvPr/>
          </p:nvSpPr>
          <p:spPr>
            <a:xfrm>
              <a:off x="684360" y="1920960"/>
              <a:ext cx="1655640" cy="425520"/>
            </a:xfrm>
            <a:prstGeom prst="flowChartTerminator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442" name="Text Box 26"/>
            <p:cNvSpPr/>
            <p:nvPr/>
          </p:nvSpPr>
          <p:spPr>
            <a:xfrm>
              <a:off x="961920" y="1928880"/>
              <a:ext cx="1080720" cy="368280"/>
            </a:xfrm>
            <a:prstGeom prst="rect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HY헤드라인M"/>
                </a:rPr>
                <a:t>사업개요</a:t>
              </a:r>
              <a:endParaRPr b="0" lang="en-US" sz="18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443" name="Group 29"/>
          <p:cNvGrpSpPr/>
          <p:nvPr/>
        </p:nvGrpSpPr>
        <p:grpSpPr>
          <a:xfrm>
            <a:off x="674640" y="3138480"/>
            <a:ext cx="1655640" cy="425520"/>
            <a:chOff x="674640" y="3138480"/>
            <a:chExt cx="1655640" cy="425520"/>
          </a:xfrm>
        </p:grpSpPr>
        <p:sp>
          <p:nvSpPr>
            <p:cNvPr id="444" name="AutoShape 30"/>
            <p:cNvSpPr/>
            <p:nvPr/>
          </p:nvSpPr>
          <p:spPr>
            <a:xfrm>
              <a:off x="674640" y="3138480"/>
              <a:ext cx="1655640" cy="425520"/>
            </a:xfrm>
            <a:prstGeom prst="flowChartTerminator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445" name="Text Box 31"/>
            <p:cNvSpPr/>
            <p:nvPr/>
          </p:nvSpPr>
          <p:spPr>
            <a:xfrm>
              <a:off x="952200" y="3146400"/>
              <a:ext cx="1080720" cy="368280"/>
            </a:xfrm>
            <a:prstGeom prst="rect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HY헤드라인M"/>
                </a:rPr>
                <a:t>지원내용</a:t>
              </a:r>
              <a:endParaRPr b="0" lang="en-US" sz="18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pic>
        <p:nvPicPr>
          <p:cNvPr id="446" name="Picture 32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684360" y="4438800"/>
            <a:ext cx="217440" cy="2142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3" descr="009---1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684360" y="4156200"/>
            <a:ext cx="217440" cy="2142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34" descr="009---1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684360" y="3857760"/>
            <a:ext cx="217440" cy="21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9" name=""/>
          <p:cNvGraphicFramePr/>
          <p:nvPr/>
        </p:nvGraphicFramePr>
        <p:xfrm>
          <a:off x="900000" y="5421240"/>
          <a:ext cx="7458120" cy="838440"/>
        </p:xfrm>
        <a:graphic>
          <a:graphicData uri="http://schemas.openxmlformats.org/drawingml/2006/table">
            <a:tbl>
              <a:tblPr/>
              <a:tblGrid>
                <a:gridCol w="1457280"/>
                <a:gridCol w="2143440"/>
                <a:gridCol w="1928520"/>
                <a:gridCol w="1928880"/>
              </a:tblGrid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사업공고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사업계획 전산입력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사업계획서 접수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선정평가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11. 18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12. 8 ~ 12. 15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12. 16 ~ 12. 17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12</a:t>
                      </a:r>
                      <a:r>
                        <a:rPr b="0" lang="ko-KR" sz="1400" spc="-1" strike="noStrike">
                          <a:solidFill>
                            <a:srgbClr val="ffffff"/>
                          </a:solidFill>
                          <a:latin typeface="HY헤드라인M"/>
                        </a:rPr>
                        <a:t>월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66cc">
                        <a:alpha val="88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450" name="Group 55"/>
          <p:cNvGrpSpPr/>
          <p:nvPr/>
        </p:nvGrpSpPr>
        <p:grpSpPr>
          <a:xfrm>
            <a:off x="642960" y="4951440"/>
            <a:ext cx="1655640" cy="425520"/>
            <a:chOff x="642960" y="4951440"/>
            <a:chExt cx="1655640" cy="425520"/>
          </a:xfrm>
        </p:grpSpPr>
        <p:sp>
          <p:nvSpPr>
            <p:cNvPr id="451" name="AutoShape 56"/>
            <p:cNvSpPr/>
            <p:nvPr/>
          </p:nvSpPr>
          <p:spPr>
            <a:xfrm>
              <a:off x="642960" y="4951440"/>
              <a:ext cx="1655640" cy="425520"/>
            </a:xfrm>
            <a:prstGeom prst="flowChartTerminator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452" name="Text Box 57"/>
            <p:cNvSpPr/>
            <p:nvPr/>
          </p:nvSpPr>
          <p:spPr>
            <a:xfrm>
              <a:off x="920520" y="4959360"/>
              <a:ext cx="1080720" cy="368280"/>
            </a:xfrm>
            <a:prstGeom prst="rect">
              <a:avLst/>
            </a:prstGeom>
            <a:gradFill rotWithShape="0">
              <a:gsLst>
                <a:gs pos="0">
                  <a:srgbClr val="0238d0"/>
                </a:gs>
                <a:gs pos="100000">
                  <a:srgbClr val="011a6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HY헤드라인M"/>
                </a:rPr>
                <a:t>추진일정</a:t>
              </a:r>
              <a:endParaRPr b="0" lang="en-US" sz="18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54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II. 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세부 사업별 지원 계획 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(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안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)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455" name="Group 88"/>
          <p:cNvGrpSpPr/>
          <p:nvPr/>
        </p:nvGrpSpPr>
        <p:grpSpPr>
          <a:xfrm>
            <a:off x="322200" y="1325520"/>
            <a:ext cx="6177960" cy="652680"/>
            <a:chOff x="322200" y="1325520"/>
            <a:chExt cx="6177960" cy="652680"/>
          </a:xfrm>
        </p:grpSpPr>
        <p:grpSp>
          <p:nvGrpSpPr>
            <p:cNvPr id="456" name="Group 13"/>
            <p:cNvGrpSpPr/>
            <p:nvPr/>
          </p:nvGrpSpPr>
          <p:grpSpPr>
            <a:xfrm>
              <a:off x="929520" y="1325520"/>
              <a:ext cx="5570640" cy="576000"/>
              <a:chOff x="929520" y="1325520"/>
              <a:chExt cx="5570640" cy="576000"/>
            </a:xfrm>
          </p:grpSpPr>
          <p:pic>
            <p:nvPicPr>
              <p:cNvPr id="457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929520" y="1325520"/>
                <a:ext cx="557064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Text Box 2144"/>
              <p:cNvSpPr/>
              <p:nvPr/>
            </p:nvSpPr>
            <p:spPr>
              <a:xfrm>
                <a:off x="1554480" y="1351440"/>
                <a:ext cx="423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지역산업기술개발사업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(</a:t>
                </a: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자유형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)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459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2200" y="1366920"/>
              <a:ext cx="72324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0" name="Group 33"/>
            <p:cNvGrpSpPr/>
            <p:nvPr/>
          </p:nvGrpSpPr>
          <p:grpSpPr>
            <a:xfrm>
              <a:off x="502560" y="1436760"/>
              <a:ext cx="468360" cy="468000"/>
              <a:chOff x="502560" y="1436760"/>
              <a:chExt cx="468360" cy="468000"/>
            </a:xfrm>
          </p:grpSpPr>
          <p:grpSp>
            <p:nvGrpSpPr>
              <p:cNvPr id="461" name="Group 34"/>
              <p:cNvGrpSpPr/>
              <p:nvPr/>
            </p:nvGrpSpPr>
            <p:grpSpPr>
              <a:xfrm>
                <a:off x="502560" y="1436760"/>
                <a:ext cx="468360" cy="304920"/>
                <a:chOff x="502560" y="1436760"/>
                <a:chExt cx="468360" cy="304920"/>
              </a:xfrm>
            </p:grpSpPr>
            <p:sp>
              <p:nvSpPr>
                <p:cNvPr id="462" name="Oval 35"/>
                <p:cNvSpPr/>
                <p:nvPr/>
              </p:nvSpPr>
              <p:spPr>
                <a:xfrm>
                  <a:off x="502560" y="1436760"/>
                  <a:ext cx="468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463" name="Oval 36"/>
                <p:cNvSpPr/>
                <p:nvPr/>
              </p:nvSpPr>
              <p:spPr>
                <a:xfrm>
                  <a:off x="526320" y="1452240"/>
                  <a:ext cx="42228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464" name="Oval 37"/>
                <p:cNvSpPr/>
                <p:nvPr/>
              </p:nvSpPr>
              <p:spPr>
                <a:xfrm>
                  <a:off x="579600" y="1452240"/>
                  <a:ext cx="32220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465" name="Rectangle 38"/>
              <p:cNvSpPr/>
              <p:nvPr/>
            </p:nvSpPr>
            <p:spPr>
              <a:xfrm>
                <a:off x="532440" y="1447920"/>
                <a:ext cx="2322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grpSp>
        <p:nvGrpSpPr>
          <p:cNvPr id="466" name="그룹 50"/>
          <p:cNvGrpSpPr/>
          <p:nvPr/>
        </p:nvGrpSpPr>
        <p:grpSpPr>
          <a:xfrm>
            <a:off x="714240" y="1928880"/>
            <a:ext cx="8001000" cy="4000320"/>
            <a:chOff x="714240" y="1928880"/>
            <a:chExt cx="8001000" cy="4000320"/>
          </a:xfrm>
        </p:grpSpPr>
        <p:sp>
          <p:nvSpPr>
            <p:cNvPr id="467" name="AutoShape 1077"/>
            <p:cNvSpPr/>
            <p:nvPr/>
          </p:nvSpPr>
          <p:spPr>
            <a:xfrm>
              <a:off x="718920" y="2120760"/>
              <a:ext cx="7946640" cy="3808440"/>
            </a:xfrm>
            <a:prstGeom prst="roundRect">
              <a:avLst>
                <a:gd name="adj" fmla="val 5630"/>
              </a:avLst>
            </a:prstGeom>
            <a:gradFill rotWithShape="0">
              <a:gsLst>
                <a:gs pos="0">
                  <a:srgbClr val="ababab"/>
                </a:gs>
                <a:gs pos="50000">
                  <a:srgbClr val="f6f6f6"/>
                </a:gs>
                <a:gs pos="100000">
                  <a:srgbClr val="ababab"/>
                </a:gs>
              </a:gsLst>
              <a:lin ang="5400000"/>
            </a:gradFill>
            <a:ln w="190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468" name="Rectangle 8"/>
            <p:cNvSpPr/>
            <p:nvPr/>
          </p:nvSpPr>
          <p:spPr>
            <a:xfrm>
              <a:off x="993600" y="2428920"/>
              <a:ext cx="757080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333399"/>
                  </a:solidFill>
                  <a:latin typeface="HY헤드라인M"/>
                </a:rPr>
                <a:t>주관기관</a:t>
              </a: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66ff"/>
                </a:solidFill>
                <a:latin typeface="HY헤드라인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HY헤드라인M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HY헤드라인M"/>
                </a:rPr>
                <a:t>부가가치세법 제</a:t>
              </a:r>
              <a:r>
                <a:rPr b="0" lang="en-US" sz="1600" spc="-1" strike="noStrike">
                  <a:solidFill>
                    <a:srgbClr val="000000"/>
                  </a:solidFill>
                  <a:latin typeface="HY헤드라인M"/>
                </a:rPr>
                <a:t>4</a:t>
              </a:r>
              <a:r>
                <a:rPr b="0" lang="ko-KR" sz="1600" spc="-1" strike="noStrike">
                  <a:solidFill>
                    <a:srgbClr val="000000"/>
                  </a:solidFill>
                  <a:latin typeface="HY헤드라인M"/>
                </a:rPr>
                <a:t>조 규정에 의하여 </a:t>
              </a:r>
              <a:r>
                <a:rPr b="0" lang="ko-KR" sz="1600" spc="-1" strike="noStrike">
                  <a:solidFill>
                    <a:srgbClr val="cc0000"/>
                  </a:solidFill>
                  <a:latin typeface="HY헤드라인M"/>
                </a:rPr>
                <a:t>해당지역에 사업장</a:t>
              </a:r>
              <a:r>
                <a:rPr b="0" lang="en-US" sz="1600" spc="-1" strike="noStrike">
                  <a:solidFill>
                    <a:srgbClr val="3333cc"/>
                  </a:solidFill>
                  <a:latin typeface="HY헤드라인M"/>
                </a:rPr>
                <a:t>(</a:t>
              </a:r>
              <a:r>
                <a:rPr b="0" lang="ko-KR" sz="1600" spc="-1" strike="noStrike">
                  <a:solidFill>
                    <a:srgbClr val="3333cc"/>
                  </a:solidFill>
                  <a:latin typeface="HY헤드라인M"/>
                </a:rPr>
                <a:t>본사</a:t>
              </a:r>
              <a:r>
                <a:rPr b="0" lang="en-US" sz="1600" spc="-1" strike="noStrike">
                  <a:solidFill>
                    <a:srgbClr val="3333cc"/>
                  </a:solidFill>
                  <a:latin typeface="HY헤드라인M"/>
                </a:rPr>
                <a:t>, </a:t>
              </a:r>
              <a:r>
                <a:rPr b="0" lang="ko-KR" sz="1600" spc="-1" strike="noStrike">
                  <a:solidFill>
                    <a:srgbClr val="3333cc"/>
                  </a:solidFill>
                  <a:latin typeface="HY헤드라인M"/>
                </a:rPr>
                <a:t>공장</a:t>
              </a:r>
              <a:r>
                <a:rPr b="0" lang="en-US" sz="1600" spc="-1" strike="noStrike">
                  <a:solidFill>
                    <a:srgbClr val="3333cc"/>
                  </a:solidFill>
                  <a:latin typeface="HY헤드라인M"/>
                </a:rPr>
                <a:t>, </a:t>
              </a:r>
              <a:r>
                <a:rPr b="0" lang="ko-KR" sz="1600" spc="-1" strike="noStrike">
                  <a:solidFill>
                    <a:srgbClr val="3333cc"/>
                  </a:solidFill>
                  <a:latin typeface="HY헤드라인M"/>
                </a:rPr>
                <a:t>연구소</a:t>
              </a:r>
              <a:r>
                <a:rPr b="0" lang="en-US" sz="1600" spc="-1" strike="noStrike">
                  <a:solidFill>
                    <a:srgbClr val="3333cc"/>
                  </a:solidFill>
                  <a:latin typeface="HY헤드라인M"/>
                </a:rPr>
                <a:t>)</a:t>
              </a:r>
              <a:r>
                <a:rPr b="0" lang="ko-KR" sz="1600" spc="-1" strike="noStrike">
                  <a:solidFill>
                    <a:srgbClr val="cc0000"/>
                  </a:solidFill>
                  <a:latin typeface="HY헤드라인M"/>
                </a:rPr>
                <a:t>을 </a:t>
              </a: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cc0000"/>
                  </a:solidFill>
                  <a:latin typeface="HY헤드라인M"/>
                </a:rPr>
                <a:t>  </a:t>
              </a:r>
              <a:r>
                <a:rPr b="0" lang="ko-KR" sz="1600" spc="-1" strike="noStrike">
                  <a:solidFill>
                    <a:srgbClr val="cc0000"/>
                  </a:solidFill>
                  <a:latin typeface="HY헤드라인M"/>
                </a:rPr>
                <a:t>보유한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HY헤드라인M"/>
                </a:rPr>
                <a:t>※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HY헤드라인M"/>
                </a:rPr>
                <a:t>)</a:t>
              </a:r>
              <a:r>
                <a:rPr b="0" lang="ko-KR" sz="1600" spc="-1" strike="noStrike">
                  <a:solidFill>
                    <a:srgbClr val="000000"/>
                  </a:solidFill>
                  <a:latin typeface="HY헤드라인M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HY헤드라인M"/>
                </a:rPr>
                <a:t>접수 마감일 현재</a:t>
              </a:r>
              <a:r>
                <a:rPr b="0" lang="ko-KR" sz="1600" spc="-1" strike="noStrike">
                  <a:solidFill>
                    <a:srgbClr val="cc0000"/>
                  </a:solidFill>
                  <a:latin typeface="HY헤드라인M"/>
                </a:rPr>
                <a:t> 창업</a:t>
              </a:r>
              <a:r>
                <a:rPr b="0" lang="ko-KR" sz="1600" spc="-1" strike="noStrike">
                  <a:solidFill>
                    <a:srgbClr val="000000"/>
                  </a:solidFill>
                  <a:latin typeface="HY헤드라인M"/>
                </a:rPr>
                <a:t>한지 </a:t>
              </a:r>
              <a:r>
                <a:rPr b="0" lang="en-US" sz="1600" spc="-1" strike="noStrike">
                  <a:solidFill>
                    <a:srgbClr val="cc0000"/>
                  </a:solidFill>
                  <a:latin typeface="HY헤드라인M"/>
                </a:rPr>
                <a:t>1</a:t>
              </a:r>
              <a:r>
                <a:rPr b="0" lang="ko-KR" sz="1600" spc="-1" strike="noStrike">
                  <a:solidFill>
                    <a:srgbClr val="cc0000"/>
                  </a:solidFill>
                  <a:latin typeface="HY헤드라인M"/>
                </a:rPr>
                <a:t>년 이상인 기업</a:t>
              </a:r>
              <a:r>
                <a:rPr b="0" lang="en-US" sz="1600" spc="-1" strike="noStrike">
                  <a:solidFill>
                    <a:srgbClr val="cc0000"/>
                  </a:solidFill>
                  <a:latin typeface="HY헤드라인M"/>
                </a:rPr>
                <a:t>(</a:t>
              </a:r>
              <a:r>
                <a:rPr b="0" lang="ko-KR" sz="1600" spc="-1" strike="noStrike">
                  <a:solidFill>
                    <a:srgbClr val="cc0000"/>
                  </a:solidFill>
                  <a:latin typeface="HY헤드라인M"/>
                </a:rPr>
                <a:t>법인사업자</a:t>
              </a:r>
              <a:r>
                <a:rPr b="0" lang="en-US" sz="1600" spc="-1" strike="noStrike">
                  <a:solidFill>
                    <a:srgbClr val="cc0000"/>
                  </a:solidFill>
                  <a:latin typeface="HY헤드라인M"/>
                </a:rPr>
                <a:t>)</a:t>
              </a:r>
              <a:r>
                <a:rPr b="1" lang="en-US" sz="1600" spc="-1" strike="noStrike">
                  <a:solidFill>
                    <a:srgbClr val="0066ff"/>
                  </a:solidFill>
                  <a:latin typeface="HY헤드라인M"/>
                </a:rPr>
                <a:t> </a:t>
              </a: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469" name="Rectangle 15"/>
            <p:cNvSpPr/>
            <p:nvPr/>
          </p:nvSpPr>
          <p:spPr>
            <a:xfrm>
              <a:off x="993600" y="3357360"/>
              <a:ext cx="7364520" cy="12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333399"/>
                  </a:solidFill>
                  <a:latin typeface="HY헤드라인M"/>
                </a:rPr>
                <a:t>참여기관</a:t>
              </a: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66ff"/>
                </a:solidFill>
                <a:latin typeface="HY헤드라인M"/>
              </a:endParaRPr>
            </a:p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ff"/>
                  </a:solidFill>
                  <a:latin typeface="HY헤드라인M"/>
                </a:rPr>
                <a:t>- </a:t>
              </a:r>
              <a:r>
                <a:rPr b="0" lang="ko-KR" sz="1600" spc="-1" strike="noStrike">
                  <a:solidFill>
                    <a:srgbClr val="0066ff"/>
                  </a:solidFill>
                  <a:latin typeface="HY헤드라인M"/>
                </a:rPr>
                <a:t>해당지역 및 타 지역</a:t>
              </a:r>
              <a:r>
                <a:rPr b="0" lang="en-US" sz="1600" spc="-1" strike="noStrike">
                  <a:solidFill>
                    <a:srgbClr val="0066ff"/>
                  </a:solidFill>
                  <a:latin typeface="HY헤드라인M"/>
                </a:rPr>
                <a:t>(</a:t>
              </a:r>
              <a:r>
                <a:rPr b="0" lang="ko-KR" sz="1600" spc="-1" strike="noStrike">
                  <a:solidFill>
                    <a:srgbClr val="0066ff"/>
                  </a:solidFill>
                  <a:latin typeface="HY헤드라인M"/>
                </a:rPr>
                <a:t>수도권 포함</a:t>
              </a:r>
              <a:r>
                <a:rPr b="0" lang="en-US" sz="1600" spc="-1" strike="noStrike">
                  <a:solidFill>
                    <a:srgbClr val="0066ff"/>
                  </a:solidFill>
                  <a:latin typeface="HY헤드라인M"/>
                </a:rPr>
                <a:t>)</a:t>
              </a:r>
              <a:r>
                <a:rPr b="0" lang="ko-KR" sz="1600" spc="-1" strike="noStrike">
                  <a:solidFill>
                    <a:srgbClr val="0066ff"/>
                  </a:solidFill>
                  <a:latin typeface="HY헤드라인M"/>
                </a:rPr>
                <a:t>에 소재하는 접수마감일 현재 창업한지 </a:t>
              </a:r>
              <a:r>
                <a:rPr b="0" lang="en-US" sz="1600" spc="-1" strike="noStrike">
                  <a:solidFill>
                    <a:srgbClr val="0066ff"/>
                  </a:solidFill>
                  <a:latin typeface="HY헤드라인M"/>
                </a:rPr>
                <a:t>1</a:t>
              </a:r>
              <a:r>
                <a:rPr b="0" lang="ko-KR" sz="1600" spc="-1" strike="noStrike">
                  <a:solidFill>
                    <a:srgbClr val="0066ff"/>
                  </a:solidFill>
                  <a:latin typeface="HY헤드라인M"/>
                </a:rPr>
                <a:t>년 이상인 기업 또는 해당지역 및 타 지역</a:t>
              </a:r>
              <a:r>
                <a:rPr b="0" lang="en-US" sz="1600" spc="-1" strike="noStrike">
                  <a:solidFill>
                    <a:srgbClr val="0066ff"/>
                  </a:solidFill>
                  <a:latin typeface="HY헤드라인M"/>
                </a:rPr>
                <a:t>(</a:t>
              </a:r>
              <a:r>
                <a:rPr b="0" lang="ko-KR" sz="1600" spc="-1" strike="noStrike">
                  <a:solidFill>
                    <a:srgbClr val="0066ff"/>
                  </a:solidFill>
                  <a:latin typeface="HY헤드라인M"/>
                </a:rPr>
                <a:t>수도권 포함</a:t>
              </a:r>
              <a:r>
                <a:rPr b="0" lang="en-US" sz="1600" spc="-1" strike="noStrike">
                  <a:solidFill>
                    <a:srgbClr val="0066ff"/>
                  </a:solidFill>
                  <a:latin typeface="HY헤드라인M"/>
                </a:rPr>
                <a:t>)</a:t>
              </a:r>
              <a:r>
                <a:rPr b="0" lang="ko-KR" sz="1600" spc="-1" strike="noStrike">
                  <a:solidFill>
                    <a:srgbClr val="0066ff"/>
                  </a:solidFill>
                  <a:latin typeface="HY헤드라인M"/>
                </a:rPr>
                <a:t>에 소재하는 지역특화센터의 법인</a:t>
              </a:r>
              <a:r>
                <a:rPr b="0" lang="en-US" sz="1600" spc="-1" strike="noStrike">
                  <a:solidFill>
                    <a:srgbClr val="0066ff"/>
                  </a:solidFill>
                  <a:latin typeface="HY헤드라인M"/>
                </a:rPr>
                <a:t>, </a:t>
              </a:r>
              <a:r>
                <a:rPr b="0" lang="ko-KR" sz="1600" spc="-1" strike="noStrike">
                  <a:solidFill>
                    <a:srgbClr val="0066ff"/>
                  </a:solidFill>
                  <a:latin typeface="HY헤드라인M"/>
                </a:rPr>
                <a:t>테크노파크</a:t>
              </a:r>
              <a:r>
                <a:rPr b="0" lang="en-US" sz="1600" spc="-1" strike="noStrike">
                  <a:solidFill>
                    <a:srgbClr val="0066ff"/>
                  </a:solidFill>
                  <a:latin typeface="HY헤드라인M"/>
                </a:rPr>
                <a:t>, </a:t>
              </a:r>
              <a:r>
                <a:rPr b="0" lang="ko-KR" sz="1600" spc="-1" strike="noStrike">
                  <a:solidFill>
                    <a:srgbClr val="0066ff"/>
                  </a:solidFill>
                  <a:latin typeface="HY헤드라인M"/>
                </a:rPr>
                <a:t>지역기술혁신센터</a:t>
              </a:r>
              <a:r>
                <a:rPr b="0" lang="en-US" sz="1600" spc="-1" strike="noStrike">
                  <a:solidFill>
                    <a:srgbClr val="0066ff"/>
                  </a:solidFill>
                  <a:latin typeface="HY헤드라인M"/>
                </a:rPr>
                <a:t>, </a:t>
              </a:r>
              <a:r>
                <a:rPr b="0" lang="ko-KR" sz="1600" spc="-1" strike="noStrike">
                  <a:solidFill>
                    <a:srgbClr val="0066ff"/>
                  </a:solidFill>
                  <a:latin typeface="HY헤드라인M"/>
                </a:rPr>
                <a:t>대학</a:t>
              </a:r>
              <a:r>
                <a:rPr b="0" lang="en-US" sz="1600" spc="-1" strike="noStrike">
                  <a:solidFill>
                    <a:srgbClr val="0066ff"/>
                  </a:solidFill>
                  <a:latin typeface="HY헤드라인M"/>
                </a:rPr>
                <a:t>, </a:t>
              </a:r>
              <a:r>
                <a:rPr b="0" lang="ko-KR" sz="1600" spc="-1" strike="noStrike">
                  <a:solidFill>
                    <a:srgbClr val="0066ff"/>
                  </a:solidFill>
                  <a:latin typeface="HY헤드라인M"/>
                </a:rPr>
                <a:t>비영리연구기관 등</a:t>
              </a: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pic>
          <p:nvPicPr>
            <p:cNvPr id="470" name="Picture 16" descr="009----3"/>
            <p:cNvPicPr/>
            <p:nvPr/>
          </p:nvPicPr>
          <p:blipFill>
            <a:blip r:embed="rId3">
              <a:lum bright="6000"/>
            </a:blip>
            <a:stretch/>
          </p:blipFill>
          <p:spPr>
            <a:xfrm>
              <a:off x="768600" y="3424320"/>
              <a:ext cx="194760" cy="17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Rectangle 17"/>
            <p:cNvSpPr/>
            <p:nvPr/>
          </p:nvSpPr>
          <p:spPr>
            <a:xfrm>
              <a:off x="993600" y="4822920"/>
              <a:ext cx="7721640" cy="7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HY헤드라인M"/>
                </a:rPr>
                <a:t>위탁기관</a:t>
              </a:r>
              <a:r>
                <a:rPr b="1" lang="en-US" sz="1600" spc="-1" strike="noStrike">
                  <a:solidFill>
                    <a:srgbClr val="000000"/>
                  </a:solidFill>
                  <a:latin typeface="HY헤드라인M"/>
                </a:rPr>
                <a:t>(</a:t>
              </a:r>
              <a:r>
                <a:rPr b="1" lang="ko-KR" sz="1600" spc="-1" strike="noStrike">
                  <a:solidFill>
                    <a:srgbClr val="ff0101"/>
                  </a:solidFill>
                  <a:latin typeface="HY헤드라인M"/>
                </a:rPr>
                <a:t>주관 및 참여기관 인건비와 직접비 합의 </a:t>
              </a:r>
              <a:r>
                <a:rPr b="1" lang="en-US" sz="1600" spc="-1" strike="noStrike">
                  <a:solidFill>
                    <a:srgbClr val="ff0101"/>
                  </a:solidFill>
                  <a:latin typeface="HY헤드라인M"/>
                </a:rPr>
                <a:t>10% </a:t>
              </a:r>
              <a:r>
                <a:rPr b="1" lang="ko-KR" sz="1600" spc="-1" strike="noStrike">
                  <a:solidFill>
                    <a:srgbClr val="ff0101"/>
                  </a:solidFill>
                  <a:latin typeface="HY헤드라인M"/>
                </a:rPr>
                <a:t>이내</a:t>
              </a:r>
              <a:r>
                <a:rPr b="1" lang="en-US" sz="1600" spc="-1" strike="noStrike">
                  <a:solidFill>
                    <a:srgbClr val="ff0101"/>
                  </a:solidFill>
                  <a:latin typeface="HY헤드라인M"/>
                </a:rPr>
                <a:t>)</a:t>
              </a: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66ff"/>
                </a:solidFill>
                <a:latin typeface="HY헤드라인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HY헤드라인M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HY헤드라인M"/>
                </a:rPr>
                <a:t>해당지역 및 타 지역</a:t>
              </a:r>
              <a:r>
                <a:rPr b="0" lang="en-US" sz="1600" spc="-1" strike="noStrike">
                  <a:solidFill>
                    <a:srgbClr val="000000"/>
                  </a:solidFill>
                  <a:latin typeface="HY헤드라인M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HY헤드라인M"/>
                </a:rPr>
                <a:t>수도권 포함</a:t>
              </a:r>
              <a:r>
                <a:rPr b="0" lang="en-US" sz="1600" spc="-1" strike="noStrike">
                  <a:solidFill>
                    <a:srgbClr val="000000"/>
                  </a:solidFill>
                  <a:latin typeface="HY헤드라인M"/>
                </a:rPr>
                <a:t>)</a:t>
              </a:r>
              <a:r>
                <a:rPr b="0" lang="ko-KR" sz="1600" spc="-1" strike="noStrike">
                  <a:solidFill>
                    <a:srgbClr val="000000"/>
                  </a:solidFill>
                  <a:latin typeface="HY헤드라인M"/>
                </a:rPr>
                <a:t>에 소재하는 지역특화센터의 법인</a:t>
              </a:r>
              <a:r>
                <a:rPr b="0" lang="en-US" sz="1600" spc="-1" strike="noStrike">
                  <a:solidFill>
                    <a:srgbClr val="000000"/>
                  </a:solidFill>
                  <a:latin typeface="HY헤드라인M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HY헤드라인M"/>
                </a:rPr>
                <a:t>테크노파크</a:t>
              </a:r>
              <a:r>
                <a:rPr b="0" lang="en-US" sz="1600" spc="-1" strike="noStrike">
                  <a:solidFill>
                    <a:srgbClr val="000000"/>
                  </a:solidFill>
                  <a:latin typeface="HY헤드라인M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HY헤드라인M"/>
                </a:rPr>
                <a:t>지역기술혁신센터</a:t>
              </a:r>
              <a:r>
                <a:rPr b="0" lang="en-US" sz="1600" spc="-1" strike="noStrike">
                  <a:solidFill>
                    <a:srgbClr val="000000"/>
                  </a:solidFill>
                  <a:latin typeface="HY헤드라인M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HY헤드라인M"/>
                </a:rPr>
                <a:t>대학</a:t>
              </a:r>
              <a:r>
                <a:rPr b="0" lang="en-US" sz="1600" spc="-1" strike="noStrike">
                  <a:solidFill>
                    <a:srgbClr val="000000"/>
                  </a:solidFill>
                  <a:latin typeface="HY헤드라인M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HY헤드라인M"/>
                </a:rPr>
                <a:t>비영리연구기관 등</a:t>
              </a: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pic>
          <p:nvPicPr>
            <p:cNvPr id="472" name="Picture 18" descr="009----3"/>
            <p:cNvPicPr/>
            <p:nvPr/>
          </p:nvPicPr>
          <p:blipFill>
            <a:blip r:embed="rId4">
              <a:lum bright="6000"/>
            </a:blip>
            <a:stretch/>
          </p:blipFill>
          <p:spPr>
            <a:xfrm>
              <a:off x="768600" y="4889880"/>
              <a:ext cx="194760" cy="17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12" descr="009----3"/>
            <p:cNvPicPr/>
            <p:nvPr/>
          </p:nvPicPr>
          <p:blipFill>
            <a:blip r:embed="rId5">
              <a:lum bright="6000"/>
            </a:blip>
            <a:stretch/>
          </p:blipFill>
          <p:spPr>
            <a:xfrm>
              <a:off x="768600" y="2495520"/>
              <a:ext cx="194760" cy="176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4" name="Group 33"/>
            <p:cNvGrpSpPr/>
            <p:nvPr/>
          </p:nvGrpSpPr>
          <p:grpSpPr>
            <a:xfrm>
              <a:off x="714240" y="1928880"/>
              <a:ext cx="1723320" cy="401760"/>
              <a:chOff x="714240" y="1928880"/>
              <a:chExt cx="1723320" cy="401760"/>
            </a:xfrm>
          </p:grpSpPr>
          <p:sp>
            <p:nvSpPr>
              <p:cNvPr id="475" name="AutoShape 34"/>
              <p:cNvSpPr/>
              <p:nvPr/>
            </p:nvSpPr>
            <p:spPr>
              <a:xfrm>
                <a:off x="714240" y="1928880"/>
                <a:ext cx="1723320" cy="401760"/>
              </a:xfrm>
              <a:prstGeom prst="flowChartTerminator">
                <a:avLst/>
              </a:prstGeom>
              <a:gradFill rotWithShape="0">
                <a:gsLst>
                  <a:gs pos="0">
                    <a:srgbClr val="0238d0"/>
                  </a:gs>
                  <a:gs pos="100000">
                    <a:srgbClr val="011a60"/>
                  </a:gs>
                </a:gsLst>
                <a:lin ang="2700000"/>
              </a:gradFill>
              <a:ln w="381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  <p:sp>
            <p:nvSpPr>
              <p:cNvPr id="476" name="Text Box 35"/>
              <p:cNvSpPr/>
              <p:nvPr/>
            </p:nvSpPr>
            <p:spPr>
              <a:xfrm>
                <a:off x="1003320" y="1936080"/>
                <a:ext cx="1125000" cy="368280"/>
              </a:xfrm>
              <a:prstGeom prst="rect">
                <a:avLst/>
              </a:prstGeom>
              <a:gradFill rotWithShape="0">
                <a:gsLst>
                  <a:gs pos="0">
                    <a:srgbClr val="0238d0"/>
                  </a:gs>
                  <a:gs pos="100000">
                    <a:srgbClr val="011a6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HY헤드라인M"/>
                  </a:rPr>
                  <a:t>신청자격</a:t>
                </a:r>
                <a:endParaRPr b="0" lang="en-US" sz="18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sp>
        <p:nvSpPr>
          <p:cNvPr id="477" name="Rectangle 15"/>
          <p:cNvSpPr/>
          <p:nvPr/>
        </p:nvSpPr>
        <p:spPr>
          <a:xfrm>
            <a:off x="857160" y="5499000"/>
            <a:ext cx="7286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HY헤드라인M"/>
              </a:rPr>
              <a:t>* </a:t>
            </a:r>
            <a:r>
              <a:rPr b="0" lang="ko-KR" sz="1600" spc="-1" strike="noStrike">
                <a:solidFill>
                  <a:srgbClr val="cc0000"/>
                </a:solidFill>
                <a:latin typeface="HY헤드라인M"/>
              </a:rPr>
              <a:t>기관 및 기업별 자격요건은 사업자등록증</a:t>
            </a:r>
            <a:r>
              <a:rPr b="0" lang="en-US" sz="1600" spc="-1" strike="noStrike">
                <a:solidFill>
                  <a:srgbClr val="cc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cc0000"/>
                </a:solidFill>
                <a:latin typeface="HY헤드라인M"/>
              </a:rPr>
              <a:t>사본</a:t>
            </a:r>
            <a:r>
              <a:rPr b="0" lang="en-US" sz="1600" spc="-1" strike="noStrike">
                <a:solidFill>
                  <a:srgbClr val="cc0000"/>
                </a:solidFill>
                <a:latin typeface="HY헤드라인M"/>
              </a:rPr>
              <a:t>) </a:t>
            </a:r>
            <a:r>
              <a:rPr b="0" lang="ko-KR" sz="1600" spc="-1" strike="noStrike">
                <a:solidFill>
                  <a:srgbClr val="cc0000"/>
                </a:solidFill>
                <a:latin typeface="HY헤드라인M"/>
              </a:rPr>
              <a:t>또는 법인등기부등본에 따름</a:t>
            </a:r>
            <a:r>
              <a:rPr b="0" lang="en-US" sz="1600" spc="-1" strike="noStrike">
                <a:solidFill>
                  <a:srgbClr val="cc0000"/>
                </a:solidFill>
                <a:latin typeface="HY헤드라인M"/>
              </a:rPr>
              <a:t>.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2144"/>
          <p:cNvSpPr/>
          <p:nvPr/>
        </p:nvSpPr>
        <p:spPr>
          <a:xfrm>
            <a:off x="755640" y="2500200"/>
            <a:ext cx="68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휴먼신그래픽"/>
                <a:ea typeface="휴먼신그래픽"/>
              </a:rPr>
              <a:t>IV</a:t>
            </a:r>
            <a:r>
              <a:rPr b="1" lang="en-US" sz="3600" spc="-1" strike="noStrike">
                <a:solidFill>
                  <a:srgbClr val="0066ff"/>
                </a:solidFill>
                <a:latin typeface="HY헤드라인M"/>
              </a:rPr>
              <a:t>. </a:t>
            </a:r>
            <a:r>
              <a:rPr b="1" lang="ko-KR" sz="3600" spc="-1" strike="noStrike">
                <a:solidFill>
                  <a:srgbClr val="0066ff"/>
                </a:solidFill>
                <a:latin typeface="HY헤드라인M"/>
              </a:rPr>
              <a:t>유의사항</a:t>
            </a:r>
            <a:endParaRPr b="0" lang="en-US" sz="36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79" name="AutoShape 23"/>
          <p:cNvSpPr/>
          <p:nvPr/>
        </p:nvSpPr>
        <p:spPr>
          <a:xfrm>
            <a:off x="708120" y="3284640"/>
            <a:ext cx="843588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80" name="AutoShape 23"/>
          <p:cNvSpPr/>
          <p:nvPr/>
        </p:nvSpPr>
        <p:spPr>
          <a:xfrm flipV="1">
            <a:off x="1332000" y="2341080"/>
            <a:ext cx="781200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144"/>
          <p:cNvSpPr/>
          <p:nvPr/>
        </p:nvSpPr>
        <p:spPr>
          <a:xfrm>
            <a:off x="1785960" y="2500200"/>
            <a:ext cx="57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HY헤드라인M"/>
              </a:rPr>
              <a:t> </a:t>
            </a:r>
            <a:r>
              <a:rPr b="1" lang="ko-KR" sz="3600" spc="-1" strike="noStrike">
                <a:solidFill>
                  <a:srgbClr val="000000"/>
                </a:solidFill>
                <a:latin typeface="HY헤드라인M"/>
              </a:rPr>
              <a:t>연구개발과제의 성과제고</a:t>
            </a:r>
            <a:endParaRPr b="0" lang="en-US" sz="36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93" name="AutoShape 23"/>
          <p:cNvSpPr/>
          <p:nvPr/>
        </p:nvSpPr>
        <p:spPr>
          <a:xfrm>
            <a:off x="1143000" y="3284640"/>
            <a:ext cx="7078680" cy="7308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94" name="AutoShape 23"/>
          <p:cNvSpPr/>
          <p:nvPr/>
        </p:nvSpPr>
        <p:spPr>
          <a:xfrm flipV="1">
            <a:off x="1785960" y="2340360"/>
            <a:ext cx="6383160" cy="8748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95" name="Text Box 2144"/>
          <p:cNvSpPr/>
          <p:nvPr/>
        </p:nvSpPr>
        <p:spPr>
          <a:xfrm>
            <a:off x="1857240" y="4143240"/>
            <a:ext cx="560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HY헤드라인M"/>
              </a:rPr>
              <a:t>개발사업비의 집행 투명성</a:t>
            </a:r>
            <a:endParaRPr b="0" lang="en-US" sz="36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96" name="AutoShape 23"/>
          <p:cNvSpPr/>
          <p:nvPr/>
        </p:nvSpPr>
        <p:spPr>
          <a:xfrm>
            <a:off x="1214280" y="4929120"/>
            <a:ext cx="6650280" cy="716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97" name="AutoShape 23"/>
          <p:cNvSpPr/>
          <p:nvPr/>
        </p:nvSpPr>
        <p:spPr>
          <a:xfrm flipV="1">
            <a:off x="1714680" y="4000320"/>
            <a:ext cx="7026120" cy="8568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482" name="AutoShape 1077"/>
          <p:cNvSpPr/>
          <p:nvPr/>
        </p:nvSpPr>
        <p:spPr>
          <a:xfrm>
            <a:off x="500040" y="1954080"/>
            <a:ext cx="8072640" cy="43214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483" name="Group 12"/>
          <p:cNvGrpSpPr/>
          <p:nvPr/>
        </p:nvGrpSpPr>
        <p:grpSpPr>
          <a:xfrm>
            <a:off x="324000" y="1325520"/>
            <a:ext cx="4043160" cy="652320"/>
            <a:chOff x="324000" y="1325520"/>
            <a:chExt cx="4043160" cy="652320"/>
          </a:xfrm>
        </p:grpSpPr>
        <p:grpSp>
          <p:nvGrpSpPr>
            <p:cNvPr id="484" name="Group 13"/>
            <p:cNvGrpSpPr/>
            <p:nvPr/>
          </p:nvGrpSpPr>
          <p:grpSpPr>
            <a:xfrm>
              <a:off x="755640" y="1325520"/>
              <a:ext cx="3611520" cy="576000"/>
              <a:chOff x="755640" y="1325520"/>
              <a:chExt cx="3611520" cy="576000"/>
            </a:xfrm>
          </p:grpSpPr>
          <p:pic>
            <p:nvPicPr>
              <p:cNvPr id="485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32552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Text Box 2144"/>
              <p:cNvSpPr/>
              <p:nvPr/>
            </p:nvSpPr>
            <p:spPr>
              <a:xfrm>
                <a:off x="1160640" y="135144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지원제외 사항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487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36692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8" name="Group 33"/>
            <p:cNvGrpSpPr/>
            <p:nvPr/>
          </p:nvGrpSpPr>
          <p:grpSpPr>
            <a:xfrm>
              <a:off x="452520" y="1436760"/>
              <a:ext cx="333360" cy="467640"/>
              <a:chOff x="452520" y="1436760"/>
              <a:chExt cx="333360" cy="467640"/>
            </a:xfrm>
          </p:grpSpPr>
          <p:grpSp>
            <p:nvGrpSpPr>
              <p:cNvPr id="489" name="Group 34"/>
              <p:cNvGrpSpPr/>
              <p:nvPr/>
            </p:nvGrpSpPr>
            <p:grpSpPr>
              <a:xfrm>
                <a:off x="452520" y="1436760"/>
                <a:ext cx="333360" cy="304560"/>
                <a:chOff x="452520" y="1436760"/>
                <a:chExt cx="333360" cy="304560"/>
              </a:xfrm>
            </p:grpSpPr>
            <p:sp>
              <p:nvSpPr>
                <p:cNvPr id="490" name="Oval 35"/>
                <p:cNvSpPr/>
                <p:nvPr/>
              </p:nvSpPr>
              <p:spPr>
                <a:xfrm>
                  <a:off x="452520" y="143676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491" name="Oval 36"/>
                <p:cNvSpPr/>
                <p:nvPr/>
              </p:nvSpPr>
              <p:spPr>
                <a:xfrm>
                  <a:off x="469440" y="145224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492" name="Oval 37"/>
                <p:cNvSpPr/>
                <p:nvPr/>
              </p:nvSpPr>
              <p:spPr>
                <a:xfrm>
                  <a:off x="507240" y="145224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493" name="Rectangle 38"/>
              <p:cNvSpPr/>
              <p:nvPr/>
            </p:nvSpPr>
            <p:spPr>
              <a:xfrm>
                <a:off x="473760" y="144792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sp>
        <p:nvSpPr>
          <p:cNvPr id="494" name="AutoShape 5"/>
          <p:cNvSpPr/>
          <p:nvPr/>
        </p:nvSpPr>
        <p:spPr>
          <a:xfrm>
            <a:off x="755640" y="2295360"/>
            <a:ext cx="770400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신청된 기술개발계획이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기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개발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되었거나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기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지원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된 경우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※ 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중복성 검토 방법</a:t>
            </a:r>
            <a:endParaRPr b="0" lang="en-US" sz="15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   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국가</a:t>
            </a: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R&amp;D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사업관리서비스</a:t>
            </a:r>
            <a:r>
              <a:rPr b="0" lang="en-US" sz="1500" spc="-1" strike="noStrike">
                <a:solidFill>
                  <a:srgbClr val="000066"/>
                </a:solidFill>
                <a:latin typeface="HY헤드라인M"/>
              </a:rPr>
              <a:t>[http://www.ntis.go.kr)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검색</a:t>
            </a:r>
            <a:endParaRPr b="0" lang="en-US" sz="15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495" name="Picture 24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900000" y="244008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496" name="AutoShape 5"/>
          <p:cNvSpPr/>
          <p:nvPr/>
        </p:nvSpPr>
        <p:spPr>
          <a:xfrm>
            <a:off x="755640" y="3540240"/>
            <a:ext cx="7704000" cy="417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의무사항 불이행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각종 보고서 미제출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정산잔액 미납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기술료 미납 등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497" name="Picture 29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00000" y="365292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498" name="AutoShape 5"/>
          <p:cNvSpPr/>
          <p:nvPr/>
        </p:nvSpPr>
        <p:spPr>
          <a:xfrm>
            <a:off x="755640" y="4070520"/>
            <a:ext cx="7704000" cy="442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국가연구개발사업에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참여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800" spc="-1" strike="noStrike">
                <a:solidFill>
                  <a:srgbClr val="cc0000"/>
                </a:solidFill>
                <a:latin typeface="HY헤드라인M"/>
              </a:rPr>
              <a:t>제한중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인 자 또는 기관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기업</a:t>
            </a:r>
            <a:r>
              <a:rPr b="0" lang="en-US" sz="18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499" name="Picture 31" descr="009---1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890640" y="4176720"/>
            <a:ext cx="288720" cy="284040"/>
          </a:xfrm>
          <a:prstGeom prst="rect">
            <a:avLst/>
          </a:prstGeom>
          <a:ln w="0">
            <a:noFill/>
          </a:ln>
        </p:spPr>
      </p:pic>
      <p:sp>
        <p:nvSpPr>
          <p:cNvPr id="500" name="AutoShape 5"/>
          <p:cNvSpPr/>
          <p:nvPr/>
        </p:nvSpPr>
        <p:spPr>
          <a:xfrm>
            <a:off x="779400" y="4645080"/>
            <a:ext cx="7680240" cy="42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금융기관 등의 신용거래 불량자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501" name="Picture 33" descr="009---1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900000" y="4748040"/>
            <a:ext cx="289080" cy="284400"/>
          </a:xfrm>
          <a:prstGeom prst="rect">
            <a:avLst/>
          </a:prstGeom>
          <a:ln w="0">
            <a:noFill/>
          </a:ln>
        </p:spPr>
      </p:pic>
      <p:sp>
        <p:nvSpPr>
          <p:cNvPr id="502" name="AutoShape 5"/>
          <p:cNvSpPr/>
          <p:nvPr/>
        </p:nvSpPr>
        <p:spPr>
          <a:xfrm>
            <a:off x="784080" y="5211720"/>
            <a:ext cx="767556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</a:rPr>
              <a:t>전산양식 등록 후 출력하여 날인을 하지 않고 제출한 경우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503" name="Picture 35" descr="009---1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905040" y="5353200"/>
            <a:ext cx="288720" cy="28404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Ⅳ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506" name="AutoShape 1077"/>
          <p:cNvSpPr/>
          <p:nvPr/>
        </p:nvSpPr>
        <p:spPr>
          <a:xfrm>
            <a:off x="500040" y="1954080"/>
            <a:ext cx="8072640" cy="318960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507" name="Group 12"/>
          <p:cNvGrpSpPr/>
          <p:nvPr/>
        </p:nvGrpSpPr>
        <p:grpSpPr>
          <a:xfrm>
            <a:off x="324000" y="1325520"/>
            <a:ext cx="4043160" cy="652320"/>
            <a:chOff x="324000" y="1325520"/>
            <a:chExt cx="4043160" cy="652320"/>
          </a:xfrm>
        </p:grpSpPr>
        <p:grpSp>
          <p:nvGrpSpPr>
            <p:cNvPr id="508" name="Group 13"/>
            <p:cNvGrpSpPr/>
            <p:nvPr/>
          </p:nvGrpSpPr>
          <p:grpSpPr>
            <a:xfrm>
              <a:off x="755640" y="1325520"/>
              <a:ext cx="3611520" cy="576000"/>
              <a:chOff x="755640" y="1325520"/>
              <a:chExt cx="3611520" cy="576000"/>
            </a:xfrm>
          </p:grpSpPr>
          <p:pic>
            <p:nvPicPr>
              <p:cNvPr id="509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32552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0" name="Text Box 2144"/>
              <p:cNvSpPr/>
              <p:nvPr/>
            </p:nvSpPr>
            <p:spPr>
              <a:xfrm>
                <a:off x="1160640" y="135144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지원제외 사항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511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36692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2" name="Group 33"/>
            <p:cNvGrpSpPr/>
            <p:nvPr/>
          </p:nvGrpSpPr>
          <p:grpSpPr>
            <a:xfrm>
              <a:off x="452520" y="1436760"/>
              <a:ext cx="333360" cy="467640"/>
              <a:chOff x="452520" y="1436760"/>
              <a:chExt cx="333360" cy="467640"/>
            </a:xfrm>
          </p:grpSpPr>
          <p:grpSp>
            <p:nvGrpSpPr>
              <p:cNvPr id="513" name="Group 34"/>
              <p:cNvGrpSpPr/>
              <p:nvPr/>
            </p:nvGrpSpPr>
            <p:grpSpPr>
              <a:xfrm>
                <a:off x="452520" y="1436760"/>
                <a:ext cx="333360" cy="304560"/>
                <a:chOff x="452520" y="1436760"/>
                <a:chExt cx="333360" cy="304560"/>
              </a:xfrm>
            </p:grpSpPr>
            <p:sp>
              <p:nvSpPr>
                <p:cNvPr id="514" name="Oval 35"/>
                <p:cNvSpPr/>
                <p:nvPr/>
              </p:nvSpPr>
              <p:spPr>
                <a:xfrm>
                  <a:off x="452520" y="143676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515" name="Oval 36"/>
                <p:cNvSpPr/>
                <p:nvPr/>
              </p:nvSpPr>
              <p:spPr>
                <a:xfrm>
                  <a:off x="469440" y="145224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516" name="Oval 37"/>
                <p:cNvSpPr/>
                <p:nvPr/>
              </p:nvSpPr>
              <p:spPr>
                <a:xfrm>
                  <a:off x="507240" y="145224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517" name="Rectangle 38"/>
              <p:cNvSpPr/>
              <p:nvPr/>
            </p:nvSpPr>
            <p:spPr>
              <a:xfrm>
                <a:off x="473760" y="144792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sp>
        <p:nvSpPr>
          <p:cNvPr id="518" name="AutoShape 5"/>
          <p:cNvSpPr/>
          <p:nvPr/>
        </p:nvSpPr>
        <p:spPr>
          <a:xfrm>
            <a:off x="755640" y="2279520"/>
            <a:ext cx="770400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주관기관 또는 참여기업이 최근년도 결산 재무제표상의 부채비율이 </a:t>
            </a: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500%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이상</a:t>
            </a: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,</a:t>
            </a:r>
            <a:endParaRPr b="0" lang="en-US" sz="15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유동비율 </a:t>
            </a: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50%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이하</a:t>
            </a: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, 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완전자본잠식</a:t>
            </a: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, 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감사의견이 </a:t>
            </a: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“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의견거절</a:t>
            </a: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” 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또는 </a:t>
            </a: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“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부적정</a:t>
            </a:r>
            <a:r>
              <a:rPr b="0" lang="en-US" sz="1500" spc="-1" strike="noStrike">
                <a:solidFill>
                  <a:srgbClr val="333399"/>
                </a:solidFill>
                <a:latin typeface="HY헤드라인M"/>
              </a:rPr>
              <a:t>”</a:t>
            </a:r>
            <a:r>
              <a:rPr b="0" lang="ko-KR" sz="1500" spc="-1" strike="noStrike">
                <a:solidFill>
                  <a:srgbClr val="333399"/>
                </a:solidFill>
                <a:latin typeface="HY헤드라인M"/>
              </a:rPr>
              <a:t>인 경우</a:t>
            </a:r>
            <a:endParaRPr b="0" lang="en-US" sz="15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519" name="Picture 24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900000" y="242424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520" name="AutoShape 5"/>
          <p:cNvSpPr/>
          <p:nvPr/>
        </p:nvSpPr>
        <p:spPr>
          <a:xfrm>
            <a:off x="755640" y="3524400"/>
            <a:ext cx="7704000" cy="111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66cc"/>
                </a:solidFill>
                <a:latin typeface="HY헤드라인M"/>
              </a:rPr>
              <a:t>총괄책임자 또는 참여인력이 협약 월을 기준으로 정부출연연구개발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66cc"/>
                </a:solidFill>
                <a:latin typeface="HY헤드라인M"/>
              </a:rPr>
              <a:t>과제 및 기관 고유사업에 참여하는 비율을 포함하여 과제수행참여율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66cc"/>
                </a:solidFill>
                <a:latin typeface="HY헤드라인M"/>
              </a:rPr>
              <a:t>이 총 </a:t>
            </a:r>
            <a:r>
              <a:rPr b="0" lang="en-US" sz="1800" spc="-1" strike="noStrike">
                <a:solidFill>
                  <a:srgbClr val="0066cc"/>
                </a:solidFill>
                <a:latin typeface="HY헤드라인M"/>
              </a:rPr>
              <a:t>100%</a:t>
            </a:r>
            <a:r>
              <a:rPr b="0" lang="ko-KR" sz="1800" spc="-1" strike="noStrike">
                <a:solidFill>
                  <a:srgbClr val="0066cc"/>
                </a:solidFill>
                <a:latin typeface="HY헤드라인M"/>
              </a:rPr>
              <a:t>를 초과한 경우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521" name="Picture 29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00000" y="363708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Ⅳ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524" name="AutoShape 1077"/>
          <p:cNvSpPr/>
          <p:nvPr/>
        </p:nvSpPr>
        <p:spPr>
          <a:xfrm>
            <a:off x="500040" y="1954080"/>
            <a:ext cx="8072640" cy="41896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525" name="Group 12"/>
          <p:cNvGrpSpPr/>
          <p:nvPr/>
        </p:nvGrpSpPr>
        <p:grpSpPr>
          <a:xfrm>
            <a:off x="324000" y="1325520"/>
            <a:ext cx="4043160" cy="652320"/>
            <a:chOff x="324000" y="1325520"/>
            <a:chExt cx="4043160" cy="652320"/>
          </a:xfrm>
        </p:grpSpPr>
        <p:grpSp>
          <p:nvGrpSpPr>
            <p:cNvPr id="526" name="Group 13"/>
            <p:cNvGrpSpPr/>
            <p:nvPr/>
          </p:nvGrpSpPr>
          <p:grpSpPr>
            <a:xfrm>
              <a:off x="755640" y="1325520"/>
              <a:ext cx="3611520" cy="576000"/>
              <a:chOff x="755640" y="1325520"/>
              <a:chExt cx="3611520" cy="576000"/>
            </a:xfrm>
          </p:grpSpPr>
          <p:pic>
            <p:nvPicPr>
              <p:cNvPr id="527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32552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8" name="Text Box 2144"/>
              <p:cNvSpPr/>
              <p:nvPr/>
            </p:nvSpPr>
            <p:spPr>
              <a:xfrm>
                <a:off x="1160640" y="135144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기타유의사항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529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36692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0" name="Group 33"/>
            <p:cNvGrpSpPr/>
            <p:nvPr/>
          </p:nvGrpSpPr>
          <p:grpSpPr>
            <a:xfrm>
              <a:off x="452520" y="1436760"/>
              <a:ext cx="333360" cy="467640"/>
              <a:chOff x="452520" y="1436760"/>
              <a:chExt cx="333360" cy="467640"/>
            </a:xfrm>
          </p:grpSpPr>
          <p:grpSp>
            <p:nvGrpSpPr>
              <p:cNvPr id="531" name="Group 34"/>
              <p:cNvGrpSpPr/>
              <p:nvPr/>
            </p:nvGrpSpPr>
            <p:grpSpPr>
              <a:xfrm>
                <a:off x="452520" y="1436760"/>
                <a:ext cx="333360" cy="304560"/>
                <a:chOff x="452520" y="1436760"/>
                <a:chExt cx="333360" cy="304560"/>
              </a:xfrm>
            </p:grpSpPr>
            <p:sp>
              <p:nvSpPr>
                <p:cNvPr id="532" name="Oval 35"/>
                <p:cNvSpPr/>
                <p:nvPr/>
              </p:nvSpPr>
              <p:spPr>
                <a:xfrm>
                  <a:off x="452520" y="143676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533" name="Oval 36"/>
                <p:cNvSpPr/>
                <p:nvPr/>
              </p:nvSpPr>
              <p:spPr>
                <a:xfrm>
                  <a:off x="469440" y="145224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534" name="Oval 37"/>
                <p:cNvSpPr/>
                <p:nvPr/>
              </p:nvSpPr>
              <p:spPr>
                <a:xfrm>
                  <a:off x="507240" y="145224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535" name="Rectangle 38"/>
              <p:cNvSpPr/>
              <p:nvPr/>
            </p:nvSpPr>
            <p:spPr>
              <a:xfrm>
                <a:off x="473760" y="144792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sp>
        <p:nvSpPr>
          <p:cNvPr id="536" name="AutoShape 5"/>
          <p:cNvSpPr/>
          <p:nvPr/>
        </p:nvSpPr>
        <p:spPr>
          <a:xfrm>
            <a:off x="755640" y="2208240"/>
            <a:ext cx="770400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99"/>
                </a:solidFill>
                <a:latin typeface="HY헤드라인M"/>
              </a:rPr>
              <a:t>연구장비의 과도한 구매 등 해당 기술개발사업 목적과 부합되지 않는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99"/>
                </a:solidFill>
                <a:latin typeface="HY헤드라인M"/>
              </a:rPr>
              <a:t>과제는 평가 시 감점요인이 될 수 있음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537" name="Picture 24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900000" y="2352600"/>
            <a:ext cx="289080" cy="284400"/>
          </a:xfrm>
          <a:prstGeom prst="rect">
            <a:avLst/>
          </a:prstGeom>
          <a:ln w="0">
            <a:noFill/>
          </a:ln>
        </p:spPr>
      </p:pic>
      <p:sp>
        <p:nvSpPr>
          <p:cNvPr id="538" name="AutoShape 5"/>
          <p:cNvSpPr/>
          <p:nvPr/>
        </p:nvSpPr>
        <p:spPr>
          <a:xfrm>
            <a:off x="755640" y="3452760"/>
            <a:ext cx="7704000" cy="1119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66cc"/>
                </a:solidFill>
                <a:latin typeface="HY헤드라인M"/>
              </a:rPr>
              <a:t>주관기관 또는 참여기관의 연구개발역량을 감안하되</a:t>
            </a:r>
            <a:r>
              <a:rPr b="0" lang="en-US" sz="1800" spc="-1" strike="noStrike">
                <a:solidFill>
                  <a:srgbClr val="0066cc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0066cc"/>
                </a:solidFill>
                <a:latin typeface="HY헤드라인M"/>
              </a:rPr>
              <a:t>접수마감일 현재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66cc"/>
                </a:solidFill>
                <a:latin typeface="HY헤드라인M"/>
              </a:rPr>
              <a:t>수행중인 정부출연연구개발과제가 </a:t>
            </a:r>
            <a:r>
              <a:rPr b="0" lang="en-US" sz="1800" spc="-1" strike="noStrike">
                <a:solidFill>
                  <a:srgbClr val="0066cc"/>
                </a:solidFill>
                <a:latin typeface="HY헤드라인M"/>
              </a:rPr>
              <a:t>2</a:t>
            </a:r>
            <a:r>
              <a:rPr b="0" lang="ko-KR" sz="1800" spc="-1" strike="noStrike">
                <a:solidFill>
                  <a:srgbClr val="0066cc"/>
                </a:solidFill>
                <a:latin typeface="HY헤드라인M"/>
              </a:rPr>
              <a:t>건 이상인 경우 평가 시 감점요인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66cc"/>
                </a:solidFill>
                <a:latin typeface="HY헤드라인M"/>
              </a:rPr>
              <a:t>이 될 수 있음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539" name="Picture 29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00000" y="3565440"/>
            <a:ext cx="289080" cy="28440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Ⅳ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541" name="AutoShape 5"/>
          <p:cNvSpPr/>
          <p:nvPr/>
        </p:nvSpPr>
        <p:spPr>
          <a:xfrm>
            <a:off x="797040" y="4738680"/>
            <a:ext cx="7704000" cy="1119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66cc"/>
                </a:solidFill>
                <a:latin typeface="HY헤드라인M"/>
              </a:rPr>
              <a:t>선정된 과제는 과제 추진 중 규정에 따라 중간평가 시 상대평가를 통해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66cc"/>
                </a:solidFill>
                <a:latin typeface="HY헤드라인M"/>
              </a:rPr>
              <a:t>하위 </a:t>
            </a:r>
            <a:r>
              <a:rPr b="0" lang="en-US" sz="1800" spc="-1" strike="noStrike">
                <a:solidFill>
                  <a:srgbClr val="0066cc"/>
                </a:solidFill>
                <a:latin typeface="HY헤드라인M"/>
              </a:rPr>
              <a:t>20%</a:t>
            </a:r>
            <a:r>
              <a:rPr b="0" lang="ko-KR" sz="1800" spc="-1" strike="noStrike">
                <a:solidFill>
                  <a:srgbClr val="0066cc"/>
                </a:solidFill>
                <a:latin typeface="HY헤드라인M"/>
              </a:rPr>
              <a:t>이내에서 중단 될 수 있음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542" name="Picture 29" descr="009---1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928800" y="4859280"/>
            <a:ext cx="288720" cy="2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544" name="AutoShape 1077"/>
          <p:cNvSpPr/>
          <p:nvPr/>
        </p:nvSpPr>
        <p:spPr>
          <a:xfrm>
            <a:off x="500040" y="1954080"/>
            <a:ext cx="8072640" cy="247500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545" name="Group 12"/>
          <p:cNvGrpSpPr/>
          <p:nvPr/>
        </p:nvGrpSpPr>
        <p:grpSpPr>
          <a:xfrm>
            <a:off x="324000" y="1325520"/>
            <a:ext cx="4043160" cy="652320"/>
            <a:chOff x="324000" y="1325520"/>
            <a:chExt cx="4043160" cy="652320"/>
          </a:xfrm>
        </p:grpSpPr>
        <p:grpSp>
          <p:nvGrpSpPr>
            <p:cNvPr id="546" name="Group 13"/>
            <p:cNvGrpSpPr/>
            <p:nvPr/>
          </p:nvGrpSpPr>
          <p:grpSpPr>
            <a:xfrm>
              <a:off x="755640" y="1325520"/>
              <a:ext cx="3611520" cy="576000"/>
              <a:chOff x="755640" y="1325520"/>
              <a:chExt cx="3611520" cy="576000"/>
            </a:xfrm>
          </p:grpSpPr>
          <p:pic>
            <p:nvPicPr>
              <p:cNvPr id="547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325520"/>
                <a:ext cx="36115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Text Box 2144"/>
              <p:cNvSpPr/>
              <p:nvPr/>
            </p:nvSpPr>
            <p:spPr>
              <a:xfrm>
                <a:off x="1160640" y="1351440"/>
                <a:ext cx="274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기타유의사항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549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366920"/>
              <a:ext cx="514080" cy="61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0" name="Group 33"/>
            <p:cNvGrpSpPr/>
            <p:nvPr/>
          </p:nvGrpSpPr>
          <p:grpSpPr>
            <a:xfrm>
              <a:off x="452520" y="1436760"/>
              <a:ext cx="333360" cy="467640"/>
              <a:chOff x="452520" y="1436760"/>
              <a:chExt cx="333360" cy="467640"/>
            </a:xfrm>
          </p:grpSpPr>
          <p:grpSp>
            <p:nvGrpSpPr>
              <p:cNvPr id="551" name="Group 34"/>
              <p:cNvGrpSpPr/>
              <p:nvPr/>
            </p:nvGrpSpPr>
            <p:grpSpPr>
              <a:xfrm>
                <a:off x="452520" y="1436760"/>
                <a:ext cx="333360" cy="304560"/>
                <a:chOff x="452520" y="1436760"/>
                <a:chExt cx="333360" cy="304560"/>
              </a:xfrm>
            </p:grpSpPr>
            <p:sp>
              <p:nvSpPr>
                <p:cNvPr id="552" name="Oval 35"/>
                <p:cNvSpPr/>
                <p:nvPr/>
              </p:nvSpPr>
              <p:spPr>
                <a:xfrm>
                  <a:off x="452520" y="1436760"/>
                  <a:ext cx="333360" cy="30456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553" name="Oval 36"/>
                <p:cNvSpPr/>
                <p:nvPr/>
              </p:nvSpPr>
              <p:spPr>
                <a:xfrm>
                  <a:off x="469440" y="145224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554" name="Oval 37"/>
                <p:cNvSpPr/>
                <p:nvPr/>
              </p:nvSpPr>
              <p:spPr>
                <a:xfrm>
                  <a:off x="507240" y="1452240"/>
                  <a:ext cx="229320" cy="1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555" name="Rectangle 38"/>
              <p:cNvSpPr/>
              <p:nvPr/>
            </p:nvSpPr>
            <p:spPr>
              <a:xfrm>
                <a:off x="473760" y="1447920"/>
                <a:ext cx="16488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sp>
        <p:nvSpPr>
          <p:cNvPr id="556" name="AutoShape 5"/>
          <p:cNvSpPr/>
          <p:nvPr/>
        </p:nvSpPr>
        <p:spPr>
          <a:xfrm>
            <a:off x="755640" y="2208240"/>
            <a:ext cx="7704000" cy="179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lin ang="2700000"/>
          </a:gradFill>
          <a:ln w="0">
            <a:noFill/>
          </a:ln>
          <a:effectLst>
            <a:outerShdw dist="54496" dir="448070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99"/>
                </a:solidFill>
                <a:latin typeface="HY헤드라인M"/>
              </a:rPr>
              <a:t>연구개발사업 수행자의 연구윤리확보를 위하여 </a:t>
            </a:r>
            <a:r>
              <a:rPr b="0" lang="en-US" sz="1800" spc="-1" strike="noStrike">
                <a:solidFill>
                  <a:srgbClr val="333399"/>
                </a:solidFill>
                <a:latin typeface="HY헤드라인M"/>
              </a:rPr>
              <a:t>“</a:t>
            </a:r>
            <a:r>
              <a:rPr b="0" lang="ko-KR" sz="1800" spc="-1" strike="noStrike">
                <a:solidFill>
                  <a:srgbClr val="333399"/>
                </a:solidFill>
                <a:latin typeface="HY헤드라인M"/>
              </a:rPr>
              <a:t>위조</a:t>
            </a:r>
            <a:r>
              <a:rPr b="0" lang="en-US" sz="1800" spc="-1" strike="noStrike">
                <a:solidFill>
                  <a:srgbClr val="333399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333399"/>
                </a:solidFill>
                <a:latin typeface="HY헤드라인M"/>
              </a:rPr>
              <a:t>변조</a:t>
            </a:r>
            <a:r>
              <a:rPr b="0" lang="en-US" sz="1800" spc="-1" strike="noStrike">
                <a:solidFill>
                  <a:srgbClr val="333399"/>
                </a:solidFill>
                <a:latin typeface="HY헤드라인M"/>
              </a:rPr>
              <a:t>, </a:t>
            </a:r>
            <a:r>
              <a:rPr b="0" lang="ko-KR" sz="1800" spc="-1" strike="noStrike">
                <a:solidFill>
                  <a:srgbClr val="333399"/>
                </a:solidFill>
                <a:latin typeface="HY헤드라인M"/>
              </a:rPr>
              <a:t>표절</a:t>
            </a:r>
            <a:r>
              <a:rPr b="0" lang="en-US" sz="1800" spc="-1" strike="noStrike">
                <a:solidFill>
                  <a:srgbClr val="333399"/>
                </a:solidFill>
                <a:latin typeface="HY헤드라인M"/>
              </a:rPr>
              <a:t>, 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99"/>
                </a:solidFill>
                <a:latin typeface="HY헤드라인M"/>
              </a:rPr>
              <a:t>부당한 논문저자 표시 등</a:t>
            </a:r>
            <a:r>
              <a:rPr b="0" lang="en-US" sz="1800" spc="-1" strike="noStrike">
                <a:solidFill>
                  <a:srgbClr val="333399"/>
                </a:solidFill>
                <a:latin typeface="HY헤드라인M"/>
              </a:rPr>
              <a:t>”</a:t>
            </a:r>
            <a:r>
              <a:rPr b="0" lang="ko-KR" sz="1800" spc="-1" strike="noStrike">
                <a:solidFill>
                  <a:srgbClr val="333399"/>
                </a:solidFill>
                <a:latin typeface="HY헤드라인M"/>
              </a:rPr>
              <a:t>의 연구 부정행위 적발 시 그 결과에 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99"/>
                </a:solidFill>
                <a:latin typeface="HY헤드라인M"/>
              </a:rPr>
              <a:t>따라서 관련 볍령 및 요령에 의하여 관련자의 징계 및 정부연구개발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99"/>
                </a:solidFill>
                <a:latin typeface="HY헤드라인M"/>
              </a:rPr>
              <a:t>사업 참여제한 조치 등이 이루어질 수 있음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557" name="Picture 24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900000" y="2352600"/>
            <a:ext cx="289080" cy="28440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Ⅳ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2144"/>
          <p:cNvSpPr/>
          <p:nvPr/>
        </p:nvSpPr>
        <p:spPr>
          <a:xfrm>
            <a:off x="755640" y="25002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휴먼신그래픽"/>
                <a:ea typeface="휴먼신그래픽"/>
              </a:rPr>
              <a:t>V</a:t>
            </a:r>
            <a:r>
              <a:rPr b="1" lang="en-US" sz="3600" spc="-1" strike="noStrike">
                <a:solidFill>
                  <a:srgbClr val="0066ff"/>
                </a:solidFill>
                <a:latin typeface="HY헤드라인M"/>
              </a:rPr>
              <a:t>. </a:t>
            </a:r>
            <a:r>
              <a:rPr b="1" lang="ko-KR" sz="3600" spc="-1" strike="noStrike">
                <a:solidFill>
                  <a:srgbClr val="0066ff"/>
                </a:solidFill>
                <a:latin typeface="HY헤드라인M"/>
              </a:rPr>
              <a:t>신청서 제출 유의사항</a:t>
            </a:r>
            <a:endParaRPr b="0" lang="en-US" sz="36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560" name="AutoShape 23"/>
          <p:cNvSpPr/>
          <p:nvPr/>
        </p:nvSpPr>
        <p:spPr>
          <a:xfrm>
            <a:off x="708120" y="3284640"/>
            <a:ext cx="843588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561" name="AutoShape 23"/>
          <p:cNvSpPr/>
          <p:nvPr/>
        </p:nvSpPr>
        <p:spPr>
          <a:xfrm flipV="1">
            <a:off x="1332000" y="2341080"/>
            <a:ext cx="781200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563" name="AutoShape 1077"/>
          <p:cNvSpPr/>
          <p:nvPr/>
        </p:nvSpPr>
        <p:spPr>
          <a:xfrm>
            <a:off x="714240" y="2157480"/>
            <a:ext cx="7715520" cy="38638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반드시 동 사업계획서 서식을 사용하여 제출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요약서의 경우 인터넷으로 등록한 전산양식을 출력하여 표지에만 날인함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600" spc="-1" strike="noStrike" u="sng">
                <a:solidFill>
                  <a:srgbClr val="ff0101"/>
                </a:solidFill>
                <a:uFillTx/>
                <a:latin typeface="HY헤드라인M"/>
              </a:rPr>
              <a:t>사업계획서는 </a:t>
            </a:r>
            <a:r>
              <a:rPr b="0" lang="en-US" sz="1600" spc="-1" strike="noStrike" u="sng">
                <a:solidFill>
                  <a:srgbClr val="ff0101"/>
                </a:solidFill>
                <a:uFillTx/>
                <a:latin typeface="HY헤드라인M"/>
              </a:rPr>
              <a:t>A4 </a:t>
            </a:r>
            <a:r>
              <a:rPr b="0" lang="ko-KR" sz="1600" spc="-1" strike="noStrike" u="sng">
                <a:solidFill>
                  <a:srgbClr val="ff0101"/>
                </a:solidFill>
                <a:uFillTx/>
                <a:latin typeface="HY헤드라인M"/>
              </a:rPr>
              <a:t>용지를 사용하여 작성하고</a:t>
            </a:r>
            <a:r>
              <a:rPr b="0" lang="en-US" sz="1600" spc="-1" strike="noStrike" u="sng">
                <a:solidFill>
                  <a:srgbClr val="ff0101"/>
                </a:solidFill>
                <a:uFillTx/>
                <a:latin typeface="HY헤드라인M"/>
              </a:rPr>
              <a:t>, </a:t>
            </a:r>
            <a:r>
              <a:rPr b="0" lang="ko-KR" sz="1600" spc="-1" strike="noStrike" u="sng">
                <a:solidFill>
                  <a:srgbClr val="ff0101"/>
                </a:solidFill>
                <a:uFillTx/>
                <a:latin typeface="HY헤드라인M"/>
              </a:rPr>
              <a:t>쪽번호를 기입하고</a:t>
            </a:r>
            <a:r>
              <a:rPr b="0" lang="en-US" sz="1600" spc="-1" strike="noStrike" u="sng">
                <a:solidFill>
                  <a:srgbClr val="ff0101"/>
                </a:solidFill>
                <a:uFillTx/>
                <a:latin typeface="HY헤드라인M"/>
              </a:rPr>
              <a:t>, </a:t>
            </a:r>
            <a:r>
              <a:rPr b="0" lang="ko-KR" sz="1600" spc="-1" strike="noStrike" u="sng">
                <a:solidFill>
                  <a:srgbClr val="ff0101"/>
                </a:solidFill>
                <a:uFillTx/>
                <a:latin typeface="HY헤드라인M"/>
              </a:rPr>
              <a:t>링 처리</a:t>
            </a:r>
            <a:r>
              <a:rPr b="0" lang="en-US" sz="1600" spc="-1" strike="noStrike" u="sng">
                <a:solidFill>
                  <a:srgbClr val="ff0101"/>
                </a:solidFill>
                <a:uFillTx/>
                <a:latin typeface="HY헤드라인M"/>
              </a:rPr>
              <a:t>, </a:t>
            </a:r>
            <a:r>
              <a:rPr b="0" lang="ko-KR" sz="1600" spc="-1" strike="noStrike" u="sng">
                <a:solidFill>
                  <a:srgbClr val="ff0101"/>
                </a:solidFill>
                <a:uFillTx/>
                <a:latin typeface="HY헤드라인M"/>
              </a:rPr>
              <a:t>제본 또는 책자로 제출하지 말 것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요약서 원본은 인터넷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HY헤드라인M"/>
                <a:hlinkClick r:id="rId1"/>
              </a:rPr>
              <a:t>http://rnd.risnet.or.kr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)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에 등록한 전산양식을 출력하여 표지에만 날인함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☞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제출된 서류 및 사업계획서가 허위이거나 거짓인 경우 관련 규정에 의거 선정 취소  및 협약 해약됨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.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☞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신청자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기업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대표자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총괄책임자 등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는 채무불이행 등 신용조회에 동의한 것으로 간주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.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☞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경남테크노파크 홈페이지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HY헤드라인M"/>
                <a:hlinkClick r:id="rId2"/>
              </a:rPr>
              <a:t>http://www.gntp.or.kr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에서 양식 다운로드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564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565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Ⅴ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566" name="Group 6"/>
          <p:cNvGrpSpPr/>
          <p:nvPr/>
        </p:nvGrpSpPr>
        <p:grpSpPr>
          <a:xfrm>
            <a:off x="324000" y="1411200"/>
            <a:ext cx="5760360" cy="814320"/>
            <a:chOff x="324000" y="1411200"/>
            <a:chExt cx="5760360" cy="814320"/>
          </a:xfrm>
        </p:grpSpPr>
        <p:sp>
          <p:nvSpPr>
            <p:cNvPr id="567" name="Text Box 6"/>
            <p:cNvSpPr/>
            <p:nvPr/>
          </p:nvSpPr>
          <p:spPr>
            <a:xfrm>
              <a:off x="1332000" y="1859040"/>
              <a:ext cx="172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568" name="Text Box 7"/>
            <p:cNvSpPr/>
            <p:nvPr/>
          </p:nvSpPr>
          <p:spPr>
            <a:xfrm>
              <a:off x="1332000" y="1785960"/>
              <a:ext cx="22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569" name="Group 9"/>
            <p:cNvGrpSpPr/>
            <p:nvPr/>
          </p:nvGrpSpPr>
          <p:grpSpPr>
            <a:xfrm>
              <a:off x="755640" y="1411200"/>
              <a:ext cx="5328720" cy="576000"/>
              <a:chOff x="755640" y="1411200"/>
              <a:chExt cx="5328720" cy="576000"/>
            </a:xfrm>
          </p:grpSpPr>
          <p:pic>
            <p:nvPicPr>
              <p:cNvPr id="570" name="Picture 10" descr="13 박스"/>
              <p:cNvPicPr/>
              <p:nvPr/>
            </p:nvPicPr>
            <p:blipFill>
              <a:blip r:embed="rId3"/>
              <a:srcRect l="72555" t="45512" r="2866" b="32919"/>
              <a:stretch/>
            </p:blipFill>
            <p:spPr>
              <a:xfrm>
                <a:off x="755640" y="1411200"/>
                <a:ext cx="5328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Text Box 2144"/>
              <p:cNvSpPr/>
              <p:nvPr/>
            </p:nvSpPr>
            <p:spPr>
              <a:xfrm>
                <a:off x="1353240" y="1437120"/>
                <a:ext cx="40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유의 사항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[</a:t>
                </a: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자유형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]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572" name="Picture 4" descr="2"/>
            <p:cNvPicPr/>
            <p:nvPr/>
          </p:nvPicPr>
          <p:blipFill>
            <a:blip r:embed="rId4"/>
            <a:srcRect l="56514" t="27691" r="39475" b="61574"/>
            <a:stretch/>
          </p:blipFill>
          <p:spPr>
            <a:xfrm>
              <a:off x="324000" y="145260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3" name="Group 33"/>
            <p:cNvGrpSpPr/>
            <p:nvPr/>
          </p:nvGrpSpPr>
          <p:grpSpPr>
            <a:xfrm>
              <a:off x="452520" y="1522440"/>
              <a:ext cx="333360" cy="468000"/>
              <a:chOff x="452520" y="1522440"/>
              <a:chExt cx="333360" cy="468000"/>
            </a:xfrm>
          </p:grpSpPr>
          <p:grpSp>
            <p:nvGrpSpPr>
              <p:cNvPr id="574" name="Group 34"/>
              <p:cNvGrpSpPr/>
              <p:nvPr/>
            </p:nvGrpSpPr>
            <p:grpSpPr>
              <a:xfrm>
                <a:off x="452520" y="1522440"/>
                <a:ext cx="333360" cy="304920"/>
                <a:chOff x="452520" y="1522440"/>
                <a:chExt cx="333360" cy="304920"/>
              </a:xfrm>
            </p:grpSpPr>
            <p:sp>
              <p:nvSpPr>
                <p:cNvPr id="575" name="Oval 35"/>
                <p:cNvSpPr/>
                <p:nvPr/>
              </p:nvSpPr>
              <p:spPr>
                <a:xfrm>
                  <a:off x="452520" y="152244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576" name="Oval 36"/>
                <p:cNvSpPr/>
                <p:nvPr/>
              </p:nvSpPr>
              <p:spPr>
                <a:xfrm>
                  <a:off x="469440" y="15379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577" name="Oval 37"/>
                <p:cNvSpPr/>
                <p:nvPr/>
              </p:nvSpPr>
              <p:spPr>
                <a:xfrm>
                  <a:off x="507240" y="153792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578" name="Rectangle 38"/>
              <p:cNvSpPr/>
              <p:nvPr/>
            </p:nvSpPr>
            <p:spPr>
              <a:xfrm>
                <a:off x="473760" y="153360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580" name="AutoShape 1077"/>
          <p:cNvSpPr/>
          <p:nvPr/>
        </p:nvSpPr>
        <p:spPr>
          <a:xfrm>
            <a:off x="714240" y="2157480"/>
            <a:ext cx="7715520" cy="40798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사업계획서 인쇄물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0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CD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저장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요약서 원본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주관기관 및 참여기업의 법인등기부 등본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법인인 경우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및 사업자 등록증 사본 각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참여기업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위탁기관대표의 참여의사 확인서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기술료징수용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주관기관 및 참여기업의 공장등록증 사본 각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주관기관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영리법인인 경우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및 참여기업의 최근 년도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08, 09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년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[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회계감사보고서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]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또는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[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결산재무제표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]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원본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각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지역특화센터 입주 임대차계약서 등 우대관련 증빙자료 사본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해당시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HY헤드라인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지역산업기술개발사업 신규과제 자기진단서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부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.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3348000" y="2577960"/>
            <a:ext cx="3095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582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Ⅴ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583" name="Group 19"/>
          <p:cNvGrpSpPr/>
          <p:nvPr/>
        </p:nvGrpSpPr>
        <p:grpSpPr>
          <a:xfrm>
            <a:off x="324000" y="1411200"/>
            <a:ext cx="5760360" cy="814320"/>
            <a:chOff x="324000" y="1411200"/>
            <a:chExt cx="5760360" cy="814320"/>
          </a:xfrm>
        </p:grpSpPr>
        <p:sp>
          <p:nvSpPr>
            <p:cNvPr id="584" name="Text Box 6"/>
            <p:cNvSpPr/>
            <p:nvPr/>
          </p:nvSpPr>
          <p:spPr>
            <a:xfrm>
              <a:off x="1332000" y="1859040"/>
              <a:ext cx="172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585" name="Text Box 7"/>
            <p:cNvSpPr/>
            <p:nvPr/>
          </p:nvSpPr>
          <p:spPr>
            <a:xfrm>
              <a:off x="1332000" y="1785960"/>
              <a:ext cx="22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586" name="Group 22"/>
            <p:cNvGrpSpPr/>
            <p:nvPr/>
          </p:nvGrpSpPr>
          <p:grpSpPr>
            <a:xfrm>
              <a:off x="755640" y="1411200"/>
              <a:ext cx="5328720" cy="576000"/>
              <a:chOff x="755640" y="1411200"/>
              <a:chExt cx="5328720" cy="576000"/>
            </a:xfrm>
          </p:grpSpPr>
          <p:pic>
            <p:nvPicPr>
              <p:cNvPr id="587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411200"/>
                <a:ext cx="5328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8" name="Text Box 2144"/>
              <p:cNvSpPr/>
              <p:nvPr/>
            </p:nvSpPr>
            <p:spPr>
              <a:xfrm>
                <a:off x="1353240" y="1438920"/>
                <a:ext cx="40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신청서 제출 서류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[</a:t>
                </a: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자유형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]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589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0" name="Group 33"/>
            <p:cNvGrpSpPr/>
            <p:nvPr/>
          </p:nvGrpSpPr>
          <p:grpSpPr>
            <a:xfrm>
              <a:off x="452520" y="1522440"/>
              <a:ext cx="333360" cy="468000"/>
              <a:chOff x="452520" y="1522440"/>
              <a:chExt cx="333360" cy="468000"/>
            </a:xfrm>
          </p:grpSpPr>
          <p:grpSp>
            <p:nvGrpSpPr>
              <p:cNvPr id="591" name="Group 34"/>
              <p:cNvGrpSpPr/>
              <p:nvPr/>
            </p:nvGrpSpPr>
            <p:grpSpPr>
              <a:xfrm>
                <a:off x="452520" y="1522440"/>
                <a:ext cx="333360" cy="304920"/>
                <a:chOff x="452520" y="1522440"/>
                <a:chExt cx="333360" cy="304920"/>
              </a:xfrm>
            </p:grpSpPr>
            <p:sp>
              <p:nvSpPr>
                <p:cNvPr id="592" name="Oval 35"/>
                <p:cNvSpPr/>
                <p:nvPr/>
              </p:nvSpPr>
              <p:spPr>
                <a:xfrm>
                  <a:off x="452520" y="152244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593" name="Oval 36"/>
                <p:cNvSpPr/>
                <p:nvPr/>
              </p:nvSpPr>
              <p:spPr>
                <a:xfrm>
                  <a:off x="469440" y="15379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594" name="Oval 37"/>
                <p:cNvSpPr/>
                <p:nvPr/>
              </p:nvSpPr>
              <p:spPr>
                <a:xfrm>
                  <a:off x="507240" y="153792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595" name="Rectangle 38"/>
              <p:cNvSpPr/>
              <p:nvPr/>
            </p:nvSpPr>
            <p:spPr>
              <a:xfrm>
                <a:off x="473760" y="153360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597" name="AutoShape 1077"/>
          <p:cNvSpPr/>
          <p:nvPr/>
        </p:nvSpPr>
        <p:spPr>
          <a:xfrm>
            <a:off x="714240" y="2157480"/>
            <a:ext cx="7715520" cy="386388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◎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신청서 교부 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교부기간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: 2010. 11. 18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목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~ 12. 17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금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전산입력 기간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: 2010. 12. 8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수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~ 12. 15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수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18:00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까지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    ☞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사업계획서 접수 마감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2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일전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(12. 15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수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18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시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까지 전산입력 완료하여야 하며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전산입력하지 않고 서류만 접수한 경우 반려함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사업계획서 접수 기간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: 2010. 12. 16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목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 ~ 12. 17(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금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), 18:00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 ◎ </a:t>
            </a:r>
            <a:r>
              <a:rPr b="0" lang="ko-KR" sz="1600" spc="-1" strike="noStrike">
                <a:solidFill>
                  <a:srgbClr val="000000"/>
                </a:solidFill>
                <a:latin typeface="HY헤드라인M"/>
              </a:rPr>
              <a:t>신청서 접수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  <a:p>
            <a:pPr marL="209520" indent="-209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헤드라인M"/>
              </a:rPr>
              <a:t>- 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지역산업평가단</a:t>
            </a:r>
            <a:r>
              <a:rPr b="0" lang="en-US" sz="1600" spc="-1" strike="noStrike">
                <a:solidFill>
                  <a:srgbClr val="ff9900"/>
                </a:solidFill>
                <a:latin typeface="HY헤드라인M"/>
              </a:rPr>
              <a:t>(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경남테크노파크 본부 본관 </a:t>
            </a:r>
            <a:r>
              <a:rPr b="0" lang="en-US" sz="1600" spc="-1" strike="noStrike">
                <a:solidFill>
                  <a:srgbClr val="ff9900"/>
                </a:solidFill>
                <a:latin typeface="HY헤드라인M"/>
              </a:rPr>
              <a:t>5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층 </a:t>
            </a:r>
            <a:r>
              <a:rPr b="0" lang="en-US" sz="1600" spc="-1" strike="noStrike">
                <a:solidFill>
                  <a:srgbClr val="ff9900"/>
                </a:solidFill>
                <a:latin typeface="HY헤드라인M"/>
              </a:rPr>
              <a:t>501</a:t>
            </a:r>
            <a:r>
              <a:rPr b="0" lang="ko-KR" sz="1600" spc="-1" strike="noStrike">
                <a:solidFill>
                  <a:srgbClr val="ff9900"/>
                </a:solidFill>
                <a:latin typeface="HY헤드라인M"/>
              </a:rPr>
              <a:t>호</a:t>
            </a:r>
            <a:r>
              <a:rPr b="0" lang="en-US" sz="1600" spc="-1" strike="noStrike">
                <a:solidFill>
                  <a:srgbClr val="ff9900"/>
                </a:solidFill>
                <a:latin typeface="HY헤드라인M"/>
              </a:rPr>
              <a:t>)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598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Ⅴ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신청서 제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599" name="Group 8"/>
          <p:cNvGrpSpPr/>
          <p:nvPr/>
        </p:nvGrpSpPr>
        <p:grpSpPr>
          <a:xfrm>
            <a:off x="324000" y="1411200"/>
            <a:ext cx="5760360" cy="814320"/>
            <a:chOff x="324000" y="1411200"/>
            <a:chExt cx="5760360" cy="814320"/>
          </a:xfrm>
        </p:grpSpPr>
        <p:sp>
          <p:nvSpPr>
            <p:cNvPr id="600" name="Text Box 6"/>
            <p:cNvSpPr/>
            <p:nvPr/>
          </p:nvSpPr>
          <p:spPr>
            <a:xfrm>
              <a:off x="1332000" y="1859040"/>
              <a:ext cx="172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601" name="Text Box 7"/>
            <p:cNvSpPr/>
            <p:nvPr/>
          </p:nvSpPr>
          <p:spPr>
            <a:xfrm>
              <a:off x="1332000" y="1785960"/>
              <a:ext cx="22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602" name="Group 11"/>
            <p:cNvGrpSpPr/>
            <p:nvPr/>
          </p:nvGrpSpPr>
          <p:grpSpPr>
            <a:xfrm>
              <a:off x="755640" y="1411200"/>
              <a:ext cx="5328720" cy="576000"/>
              <a:chOff x="755640" y="1411200"/>
              <a:chExt cx="5328720" cy="576000"/>
            </a:xfrm>
          </p:grpSpPr>
          <p:pic>
            <p:nvPicPr>
              <p:cNvPr id="603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411200"/>
                <a:ext cx="5328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Text Box 2144"/>
              <p:cNvSpPr/>
              <p:nvPr/>
            </p:nvSpPr>
            <p:spPr>
              <a:xfrm>
                <a:off x="1353240" y="1437120"/>
                <a:ext cx="40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신청서 교부 및 접수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605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6" name="Group 33"/>
            <p:cNvGrpSpPr/>
            <p:nvPr/>
          </p:nvGrpSpPr>
          <p:grpSpPr>
            <a:xfrm>
              <a:off x="452520" y="1522440"/>
              <a:ext cx="333360" cy="468000"/>
              <a:chOff x="452520" y="1522440"/>
              <a:chExt cx="333360" cy="468000"/>
            </a:xfrm>
          </p:grpSpPr>
          <p:grpSp>
            <p:nvGrpSpPr>
              <p:cNvPr id="607" name="Group 34"/>
              <p:cNvGrpSpPr/>
              <p:nvPr/>
            </p:nvGrpSpPr>
            <p:grpSpPr>
              <a:xfrm>
                <a:off x="452520" y="1522440"/>
                <a:ext cx="333360" cy="304920"/>
                <a:chOff x="452520" y="1522440"/>
                <a:chExt cx="333360" cy="304920"/>
              </a:xfrm>
            </p:grpSpPr>
            <p:sp>
              <p:nvSpPr>
                <p:cNvPr id="608" name="Oval 35"/>
                <p:cNvSpPr/>
                <p:nvPr/>
              </p:nvSpPr>
              <p:spPr>
                <a:xfrm>
                  <a:off x="452520" y="152244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609" name="Oval 36"/>
                <p:cNvSpPr/>
                <p:nvPr/>
              </p:nvSpPr>
              <p:spPr>
                <a:xfrm>
                  <a:off x="469440" y="15379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610" name="Oval 37"/>
                <p:cNvSpPr/>
                <p:nvPr/>
              </p:nvSpPr>
              <p:spPr>
                <a:xfrm>
                  <a:off x="507240" y="153792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611" name="Rectangle 38"/>
              <p:cNvSpPr/>
              <p:nvPr/>
            </p:nvSpPr>
            <p:spPr>
              <a:xfrm>
                <a:off x="473760" y="153360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2144"/>
          <p:cNvSpPr/>
          <p:nvPr/>
        </p:nvSpPr>
        <p:spPr>
          <a:xfrm>
            <a:off x="755640" y="25002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휴먼신그래픽"/>
                <a:ea typeface="휴먼신그래픽"/>
              </a:rPr>
              <a:t>VI</a:t>
            </a:r>
            <a:r>
              <a:rPr b="1" lang="en-US" sz="3600" spc="-1" strike="noStrike">
                <a:solidFill>
                  <a:srgbClr val="0066ff"/>
                </a:solidFill>
                <a:latin typeface="HY헤드라인M"/>
              </a:rPr>
              <a:t>. </a:t>
            </a:r>
            <a:r>
              <a:rPr b="1" lang="ko-KR" sz="3600" spc="-1" strike="noStrike">
                <a:solidFill>
                  <a:srgbClr val="0066ff"/>
                </a:solidFill>
                <a:latin typeface="HY헤드라인M"/>
              </a:rPr>
              <a:t>사업계획서 작성시 유의사항</a:t>
            </a:r>
            <a:endParaRPr b="0" lang="en-US" sz="36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613" name="AutoShape 23"/>
          <p:cNvSpPr/>
          <p:nvPr/>
        </p:nvSpPr>
        <p:spPr>
          <a:xfrm>
            <a:off x="708120" y="3284640"/>
            <a:ext cx="843588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614" name="AutoShape 23"/>
          <p:cNvSpPr/>
          <p:nvPr/>
        </p:nvSpPr>
        <p:spPr>
          <a:xfrm flipV="1">
            <a:off x="1332000" y="2341080"/>
            <a:ext cx="781200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901800" y="1447920"/>
            <a:ext cx="7848360" cy="4876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617" name="AutoShape 1077"/>
          <p:cNvSpPr/>
          <p:nvPr/>
        </p:nvSpPr>
        <p:spPr>
          <a:xfrm>
            <a:off x="714240" y="2133720"/>
            <a:ext cx="7572600" cy="415296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618" name="AutoShape 5"/>
          <p:cNvSpPr/>
          <p:nvPr/>
        </p:nvSpPr>
        <p:spPr>
          <a:xfrm>
            <a:off x="1071720" y="2292480"/>
            <a:ext cx="678636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목표 및 연구내용을 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명확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하게 설정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619" name="AutoShape 5"/>
          <p:cNvSpPr/>
          <p:nvPr/>
        </p:nvSpPr>
        <p:spPr>
          <a:xfrm>
            <a:off x="1071720" y="2960640"/>
            <a:ext cx="6786360" cy="50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연구내용과 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조화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되게 사업비를 구성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620" name="AutoShape 5"/>
          <p:cNvSpPr/>
          <p:nvPr/>
        </p:nvSpPr>
        <p:spPr>
          <a:xfrm>
            <a:off x="1071720" y="3629160"/>
            <a:ext cx="675936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국내외 경쟁 기술 및 기업과 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차별화</a:t>
            </a:r>
            <a:r>
              <a:rPr b="0" lang="en-US" sz="2000" spc="-1" strike="noStrike">
                <a:solidFill>
                  <a:srgbClr val="c00000"/>
                </a:solidFill>
                <a:latin typeface="HY헤드라인M"/>
              </a:rPr>
              <a:t>(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우위</a:t>
            </a:r>
            <a:r>
              <a:rPr b="0" lang="en-US" sz="2000" spc="-1" strike="noStrike">
                <a:solidFill>
                  <a:srgbClr val="c00000"/>
                </a:solidFill>
                <a:latin typeface="HY헤드라인M"/>
              </a:rPr>
              <a:t>)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621" name="AutoShape 5"/>
          <p:cNvSpPr/>
          <p:nvPr/>
        </p:nvSpPr>
        <p:spPr>
          <a:xfrm>
            <a:off x="1071720" y="4289400"/>
            <a:ext cx="6744960" cy="490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시장규모</a:t>
            </a:r>
            <a:r>
              <a:rPr b="0" lang="en-US" sz="2000" spc="-1" strike="noStrike">
                <a:solidFill>
                  <a:srgbClr val="c00000"/>
                </a:solidFill>
                <a:latin typeface="HY헤드라인M"/>
              </a:rPr>
              <a:t>, 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가격동향</a:t>
            </a:r>
            <a:r>
              <a:rPr b="0" lang="en-US" sz="2000" spc="-1" strike="noStrike">
                <a:solidFill>
                  <a:srgbClr val="c00000"/>
                </a:solidFill>
                <a:latin typeface="HY헤드라인M"/>
              </a:rPr>
              <a:t>, 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수요처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 관련 자료 제시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622" name="AutoShape 5"/>
          <p:cNvSpPr/>
          <p:nvPr/>
        </p:nvSpPr>
        <p:spPr>
          <a:xfrm>
            <a:off x="1071720" y="4938840"/>
            <a:ext cx="6744960" cy="48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그림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도표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사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샘플 제시를 통한 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가시적 내용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제시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623" name="AutoShape 5"/>
          <p:cNvSpPr/>
          <p:nvPr/>
        </p:nvSpPr>
        <p:spPr>
          <a:xfrm>
            <a:off x="1071720" y="5586480"/>
            <a:ext cx="6773760" cy="49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발표 및 질의응답시간 </a:t>
            </a:r>
            <a:r>
              <a:rPr b="0" lang="en-US" sz="2000" spc="-1" strike="noStrike">
                <a:solidFill>
                  <a:srgbClr val="c00000"/>
                </a:solidFill>
                <a:latin typeface="HY헤드라인M"/>
              </a:rPr>
              <a:t>30</a:t>
            </a: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</a:rPr>
              <a:t> 내외 운영              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624" name="Group 21"/>
          <p:cNvGrpSpPr/>
          <p:nvPr/>
        </p:nvGrpSpPr>
        <p:grpSpPr>
          <a:xfrm>
            <a:off x="324000" y="1411200"/>
            <a:ext cx="5760360" cy="814320"/>
            <a:chOff x="324000" y="1411200"/>
            <a:chExt cx="5760360" cy="814320"/>
          </a:xfrm>
        </p:grpSpPr>
        <p:sp>
          <p:nvSpPr>
            <p:cNvPr id="625" name="Text Box 6"/>
            <p:cNvSpPr/>
            <p:nvPr/>
          </p:nvSpPr>
          <p:spPr>
            <a:xfrm>
              <a:off x="1332000" y="1859040"/>
              <a:ext cx="172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626" name="Text Box 7"/>
            <p:cNvSpPr/>
            <p:nvPr/>
          </p:nvSpPr>
          <p:spPr>
            <a:xfrm>
              <a:off x="1332000" y="1785960"/>
              <a:ext cx="22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627" name="Group 24"/>
            <p:cNvGrpSpPr/>
            <p:nvPr/>
          </p:nvGrpSpPr>
          <p:grpSpPr>
            <a:xfrm>
              <a:off x="755640" y="1411200"/>
              <a:ext cx="5328720" cy="576000"/>
              <a:chOff x="755640" y="1411200"/>
              <a:chExt cx="5328720" cy="576000"/>
            </a:xfrm>
          </p:grpSpPr>
          <p:pic>
            <p:nvPicPr>
              <p:cNvPr id="628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411200"/>
                <a:ext cx="5328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9" name="Text Box 2144"/>
              <p:cNvSpPr/>
              <p:nvPr/>
            </p:nvSpPr>
            <p:spPr>
              <a:xfrm>
                <a:off x="1353240" y="1437120"/>
                <a:ext cx="40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사업신청의 주요 고려사항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630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1" name="Group 33"/>
            <p:cNvGrpSpPr/>
            <p:nvPr/>
          </p:nvGrpSpPr>
          <p:grpSpPr>
            <a:xfrm>
              <a:off x="452520" y="1522440"/>
              <a:ext cx="333360" cy="468000"/>
              <a:chOff x="452520" y="1522440"/>
              <a:chExt cx="333360" cy="468000"/>
            </a:xfrm>
          </p:grpSpPr>
          <p:grpSp>
            <p:nvGrpSpPr>
              <p:cNvPr id="632" name="Group 34"/>
              <p:cNvGrpSpPr/>
              <p:nvPr/>
            </p:nvGrpSpPr>
            <p:grpSpPr>
              <a:xfrm>
                <a:off x="452520" y="1522440"/>
                <a:ext cx="333360" cy="304920"/>
                <a:chOff x="452520" y="1522440"/>
                <a:chExt cx="333360" cy="304920"/>
              </a:xfrm>
            </p:grpSpPr>
            <p:sp>
              <p:nvSpPr>
                <p:cNvPr id="633" name="Oval 35"/>
                <p:cNvSpPr/>
                <p:nvPr/>
              </p:nvSpPr>
              <p:spPr>
                <a:xfrm>
                  <a:off x="452520" y="152244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634" name="Oval 36"/>
                <p:cNvSpPr/>
                <p:nvPr/>
              </p:nvSpPr>
              <p:spPr>
                <a:xfrm>
                  <a:off x="469440" y="15379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635" name="Oval 37"/>
                <p:cNvSpPr/>
                <p:nvPr/>
              </p:nvSpPr>
              <p:spPr>
                <a:xfrm>
                  <a:off x="507240" y="153792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636" name="Rectangle 38"/>
              <p:cNvSpPr/>
              <p:nvPr/>
            </p:nvSpPr>
            <p:spPr>
              <a:xfrm>
                <a:off x="473760" y="153360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637" name="Picture 35" descr="009---1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1125360" y="2421000"/>
            <a:ext cx="289080" cy="2840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36" descr="009---1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1125360" y="3087720"/>
            <a:ext cx="289080" cy="28404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37" descr="009---1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1125360" y="3770280"/>
            <a:ext cx="289080" cy="28404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38" descr="009---1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1116000" y="4432320"/>
            <a:ext cx="289080" cy="28404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39" descr="009---1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1125360" y="5065560"/>
            <a:ext cx="289080" cy="2844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40" descr="009---1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1125360" y="5715000"/>
            <a:ext cx="289080" cy="28404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3"/>
          <p:cNvGrpSpPr/>
          <p:nvPr/>
        </p:nvGrpSpPr>
        <p:grpSpPr>
          <a:xfrm>
            <a:off x="37800" y="2371680"/>
            <a:ext cx="8278920" cy="669960"/>
            <a:chOff x="37800" y="2371680"/>
            <a:chExt cx="8278920" cy="669960"/>
          </a:xfrm>
        </p:grpSpPr>
        <p:pic>
          <p:nvPicPr>
            <p:cNvPr id="99" name="Picture 35" descr="발표순서바"/>
            <p:cNvPicPr/>
            <p:nvPr/>
          </p:nvPicPr>
          <p:blipFill>
            <a:blip r:embed="rId1"/>
            <a:stretch/>
          </p:blipFill>
          <p:spPr>
            <a:xfrm>
              <a:off x="431640" y="2371680"/>
              <a:ext cx="78850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Rectangle 36"/>
            <p:cNvSpPr/>
            <p:nvPr/>
          </p:nvSpPr>
          <p:spPr>
            <a:xfrm>
              <a:off x="1986840" y="2514240"/>
              <a:ext cx="45514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763560" indent="-763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000000"/>
                  </a:solidFill>
                  <a:latin typeface="HY헤드라인M"/>
                </a:rPr>
                <a:t> </a:t>
              </a:r>
              <a:r>
                <a:rPr b="1" lang="ko-KR" sz="2600" spc="-1" strike="noStrike">
                  <a:solidFill>
                    <a:srgbClr val="000000"/>
                  </a:solidFill>
                  <a:latin typeface="HY헤드라인M"/>
                </a:rPr>
                <a:t>지역산업기술개발사업 일반사항</a:t>
              </a:r>
              <a:endParaRPr b="0" lang="en-US" sz="26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01" name="Rectangle 37"/>
            <p:cNvSpPr/>
            <p:nvPr/>
          </p:nvSpPr>
          <p:spPr>
            <a:xfrm>
              <a:off x="37800" y="2504520"/>
              <a:ext cx="1805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763560" indent="-763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28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102" name="Group 19"/>
          <p:cNvGrpSpPr/>
          <p:nvPr/>
        </p:nvGrpSpPr>
        <p:grpSpPr>
          <a:xfrm>
            <a:off x="117360" y="1500120"/>
            <a:ext cx="8184960" cy="700200"/>
            <a:chOff x="117360" y="1500120"/>
            <a:chExt cx="8184960" cy="700200"/>
          </a:xfrm>
        </p:grpSpPr>
        <p:pic>
          <p:nvPicPr>
            <p:cNvPr id="103" name="Picture 39" descr="발표순서바"/>
            <p:cNvPicPr/>
            <p:nvPr/>
          </p:nvPicPr>
          <p:blipFill>
            <a:blip r:embed="rId2"/>
            <a:stretch/>
          </p:blipFill>
          <p:spPr>
            <a:xfrm>
              <a:off x="414360" y="1500120"/>
              <a:ext cx="788796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Rectangle 40"/>
            <p:cNvSpPr/>
            <p:nvPr/>
          </p:nvSpPr>
          <p:spPr>
            <a:xfrm>
              <a:off x="2041560" y="1643400"/>
              <a:ext cx="56937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763560" indent="-763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000000"/>
                  </a:solidFill>
                  <a:latin typeface="HY헤드라인M"/>
                </a:rPr>
                <a:t> </a:t>
              </a:r>
              <a:r>
                <a:rPr b="1" lang="ko-KR" sz="2600" spc="-1" strike="noStrike">
                  <a:solidFill>
                    <a:srgbClr val="000000"/>
                  </a:solidFill>
                  <a:latin typeface="HY헤드라인M"/>
                </a:rPr>
                <a:t>지역산업기술개발사업 주요 변경사항</a:t>
              </a:r>
              <a:r>
                <a:rPr b="1" lang="en-US" sz="2600" spc="-1" strike="noStrike">
                  <a:solidFill>
                    <a:srgbClr val="000000"/>
                  </a:solidFill>
                  <a:latin typeface="HY헤드라인M"/>
                </a:rPr>
                <a:t>(</a:t>
              </a:r>
              <a:r>
                <a:rPr b="1" lang="ko-KR" sz="2600" spc="-1" strike="noStrike">
                  <a:solidFill>
                    <a:srgbClr val="000000"/>
                  </a:solidFill>
                  <a:latin typeface="HY헤드라인M"/>
                </a:rPr>
                <a:t>안</a:t>
              </a:r>
              <a:r>
                <a:rPr b="1" lang="en-US" sz="2600" spc="-1" strike="noStrike">
                  <a:solidFill>
                    <a:srgbClr val="000000"/>
                  </a:solidFill>
                  <a:latin typeface="HY헤드라인M"/>
                </a:rPr>
                <a:t>)</a:t>
              </a:r>
              <a:endParaRPr b="0" lang="en-US" sz="26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05" name="Rectangle 41"/>
            <p:cNvSpPr/>
            <p:nvPr/>
          </p:nvSpPr>
          <p:spPr>
            <a:xfrm>
              <a:off x="117360" y="1631160"/>
              <a:ext cx="1666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763560" indent="-763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sp>
        <p:nvSpPr>
          <p:cNvPr id="106" name="WordArt 45"/>
          <p:cNvSpPr txBox="1"/>
          <p:nvPr/>
        </p:nvSpPr>
        <p:spPr>
          <a:xfrm>
            <a:off x="611280" y="260280"/>
            <a:ext cx="11570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56"/>
              </a:avLst>
            </a:prstTxWarp>
            <a:no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HY헤드라인M"/>
              </a:rPr>
              <a:t>목 차</a:t>
            </a:r>
            <a:endParaRPr b="1" lang="en-US" sz="4000" spc="1" strike="noStrike">
              <a:ln w="32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HY헤드라인M"/>
              <a:ea typeface="HY헤드라인M"/>
            </a:endParaRPr>
          </a:p>
        </p:txBody>
      </p:sp>
      <p:grpSp>
        <p:nvGrpSpPr>
          <p:cNvPr id="107" name="Group 40"/>
          <p:cNvGrpSpPr/>
          <p:nvPr/>
        </p:nvGrpSpPr>
        <p:grpSpPr>
          <a:xfrm>
            <a:off x="47520" y="3157560"/>
            <a:ext cx="8278560" cy="647640"/>
            <a:chOff x="47520" y="3157560"/>
            <a:chExt cx="8278560" cy="647640"/>
          </a:xfrm>
        </p:grpSpPr>
        <p:pic>
          <p:nvPicPr>
            <p:cNvPr id="108" name="Picture 35" descr="발표순서바"/>
            <p:cNvPicPr/>
            <p:nvPr/>
          </p:nvPicPr>
          <p:blipFill>
            <a:blip r:embed="rId3"/>
            <a:stretch/>
          </p:blipFill>
          <p:spPr>
            <a:xfrm>
              <a:off x="441360" y="3157560"/>
              <a:ext cx="78847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angle 37"/>
            <p:cNvSpPr/>
            <p:nvPr/>
          </p:nvSpPr>
          <p:spPr>
            <a:xfrm>
              <a:off x="47520" y="3256920"/>
              <a:ext cx="1944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763560" indent="-763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II</a:t>
              </a:r>
              <a:endParaRPr b="0" lang="en-US" sz="28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pic>
        <p:nvPicPr>
          <p:cNvPr id="110" name="Picture 35" descr="발표순서바"/>
          <p:cNvPicPr/>
          <p:nvPr/>
        </p:nvPicPr>
        <p:blipFill>
          <a:blip r:embed="rId4"/>
          <a:stretch/>
        </p:blipFill>
        <p:spPr>
          <a:xfrm>
            <a:off x="449280" y="4014720"/>
            <a:ext cx="7867800" cy="6285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6"/>
          <p:cNvSpPr/>
          <p:nvPr/>
        </p:nvSpPr>
        <p:spPr>
          <a:xfrm>
            <a:off x="1928880" y="3302280"/>
            <a:ext cx="4070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763560" indent="-76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HY헤드라인M"/>
              </a:rPr>
              <a:t>세부 사업별 지원 계획</a:t>
            </a:r>
            <a:r>
              <a:rPr b="1" lang="en-US" sz="26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1" lang="ko-KR" sz="2600" spc="-1" strike="noStrike">
                <a:solidFill>
                  <a:srgbClr val="000000"/>
                </a:solidFill>
                <a:latin typeface="HY헤드라인M"/>
              </a:rPr>
              <a:t>안</a:t>
            </a:r>
            <a:r>
              <a:rPr b="1" lang="en-US" sz="2600" spc="-1" strike="noStrike">
                <a:solidFill>
                  <a:srgbClr val="000000"/>
                </a:solidFill>
                <a:latin typeface="HY헤드라인M"/>
              </a:rPr>
              <a:t>) </a:t>
            </a:r>
            <a:endParaRPr b="0" lang="en-US" sz="26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112" name="Rectangle 37"/>
          <p:cNvSpPr/>
          <p:nvPr/>
        </p:nvSpPr>
        <p:spPr>
          <a:xfrm>
            <a:off x="10800" y="4086360"/>
            <a:ext cx="1902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763560" indent="-76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8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113" name="Rectangle 36"/>
          <p:cNvSpPr/>
          <p:nvPr/>
        </p:nvSpPr>
        <p:spPr>
          <a:xfrm>
            <a:off x="1323720" y="4132440"/>
            <a:ext cx="2484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763560" indent="-76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1" lang="ko-KR" sz="2600" spc="-1" strike="noStrike">
                <a:solidFill>
                  <a:srgbClr val="000000"/>
                </a:solidFill>
                <a:latin typeface="HY헤드라인M"/>
              </a:rPr>
              <a:t>유의사항</a:t>
            </a:r>
            <a:endParaRPr b="0" lang="en-US" sz="26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114" name="Group 40"/>
          <p:cNvGrpSpPr/>
          <p:nvPr/>
        </p:nvGrpSpPr>
        <p:grpSpPr>
          <a:xfrm>
            <a:off x="10080" y="4743360"/>
            <a:ext cx="8276400" cy="647640"/>
            <a:chOff x="10080" y="4743360"/>
            <a:chExt cx="8276400" cy="647640"/>
          </a:xfrm>
        </p:grpSpPr>
        <p:pic>
          <p:nvPicPr>
            <p:cNvPr id="115" name="Picture 35" descr="발표순서바"/>
            <p:cNvPicPr/>
            <p:nvPr/>
          </p:nvPicPr>
          <p:blipFill>
            <a:blip r:embed="rId5"/>
            <a:stretch/>
          </p:blipFill>
          <p:spPr>
            <a:xfrm>
              <a:off x="401760" y="4743360"/>
              <a:ext cx="78847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Rectangle 37"/>
            <p:cNvSpPr/>
            <p:nvPr/>
          </p:nvSpPr>
          <p:spPr>
            <a:xfrm>
              <a:off x="10080" y="4843080"/>
              <a:ext cx="1764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marL="763560" indent="-7635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8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pic>
        <p:nvPicPr>
          <p:cNvPr id="117" name="Picture 35" descr="발표순서바"/>
          <p:cNvPicPr/>
          <p:nvPr/>
        </p:nvPicPr>
        <p:blipFill>
          <a:blip r:embed="rId6"/>
          <a:stretch/>
        </p:blipFill>
        <p:spPr>
          <a:xfrm>
            <a:off x="409680" y="5600880"/>
            <a:ext cx="7867440" cy="6285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6"/>
          <p:cNvSpPr/>
          <p:nvPr/>
        </p:nvSpPr>
        <p:spPr>
          <a:xfrm>
            <a:off x="1889280" y="4888080"/>
            <a:ext cx="4070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763560" indent="-76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HY헤드라인M"/>
              </a:rPr>
              <a:t>신청서제출 유의사항</a:t>
            </a:r>
            <a:r>
              <a:rPr b="1" lang="en-US" sz="2600" spc="-1" strike="noStrike">
                <a:solidFill>
                  <a:srgbClr val="000000"/>
                </a:solidFill>
                <a:latin typeface="HY헤드라인M"/>
              </a:rPr>
              <a:t> </a:t>
            </a:r>
            <a:endParaRPr b="0" lang="en-US" sz="26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-27360" y="5673600"/>
            <a:ext cx="1902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763560" indent="-76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28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120" name="Rectangle 36"/>
          <p:cNvSpPr/>
          <p:nvPr/>
        </p:nvSpPr>
        <p:spPr>
          <a:xfrm>
            <a:off x="1823040" y="5718240"/>
            <a:ext cx="42404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763560" indent="-763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HY헤드라인M"/>
              </a:rPr>
              <a:t> </a:t>
            </a:r>
            <a:r>
              <a:rPr b="1" lang="ko-KR" sz="2600" spc="-1" strike="noStrike">
                <a:solidFill>
                  <a:srgbClr val="000000"/>
                </a:solidFill>
                <a:latin typeface="HY헤드라인M"/>
              </a:rPr>
              <a:t>사업계획서 작성시 유의사항</a:t>
            </a:r>
            <a:endParaRPr b="0" lang="en-US" sz="26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645" name="AutoShape 1077"/>
          <p:cNvSpPr/>
          <p:nvPr/>
        </p:nvSpPr>
        <p:spPr>
          <a:xfrm>
            <a:off x="714240" y="2157480"/>
            <a:ext cx="7715520" cy="3929040"/>
          </a:xfrm>
          <a:prstGeom prst="roundRect">
            <a:avLst>
              <a:gd name="adj" fmla="val 5630"/>
            </a:avLst>
          </a:prstGeom>
          <a:gradFill rotWithShape="0">
            <a:gsLst>
              <a:gs pos="0">
                <a:srgbClr val="ababab"/>
              </a:gs>
              <a:gs pos="50000">
                <a:srgbClr val="f6f6f6"/>
              </a:gs>
              <a:gs pos="100000">
                <a:srgbClr val="ababab"/>
              </a:gs>
            </a:gsLst>
            <a:lin ang="5400000"/>
          </a:gradFill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646" name="그룹 25"/>
          <p:cNvGrpSpPr/>
          <p:nvPr/>
        </p:nvGrpSpPr>
        <p:grpSpPr>
          <a:xfrm>
            <a:off x="1071720" y="2362320"/>
            <a:ext cx="7143480" cy="3176640"/>
            <a:chOff x="1071720" y="2362320"/>
            <a:chExt cx="7143480" cy="3176640"/>
          </a:xfrm>
        </p:grpSpPr>
        <p:sp>
          <p:nvSpPr>
            <p:cNvPr id="647" name="Text Box 12"/>
            <p:cNvSpPr/>
            <p:nvPr/>
          </p:nvSpPr>
          <p:spPr>
            <a:xfrm>
              <a:off x="4140360" y="2362320"/>
              <a:ext cx="37447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648" name="그룹 24"/>
            <p:cNvGrpSpPr/>
            <p:nvPr/>
          </p:nvGrpSpPr>
          <p:grpSpPr>
            <a:xfrm>
              <a:off x="1071720" y="2657520"/>
              <a:ext cx="7143480" cy="2881440"/>
              <a:chOff x="1071720" y="2657520"/>
              <a:chExt cx="7143480" cy="2881440"/>
            </a:xfrm>
          </p:grpSpPr>
          <p:sp>
            <p:nvSpPr>
              <p:cNvPr id="649" name="Rectangle 11"/>
              <p:cNvSpPr/>
              <p:nvPr/>
            </p:nvSpPr>
            <p:spPr>
              <a:xfrm>
                <a:off x="2720520" y="2657520"/>
                <a:ext cx="3930480" cy="2881440"/>
              </a:xfrm>
              <a:prstGeom prst="rect">
                <a:avLst/>
              </a:prstGeom>
              <a:gradFill rotWithShape="0">
                <a:gsLst>
                  <a:gs pos="0">
                    <a:srgbClr val="ff7c80"/>
                  </a:gs>
                  <a:gs pos="50000">
                    <a:srgbClr val="ffd5d7"/>
                  </a:gs>
                  <a:gs pos="100000">
                    <a:srgbClr val="ff7c80"/>
                  </a:gs>
                </a:gsLst>
                <a:lin ang="5400000"/>
              </a:gradFill>
              <a:ln w="93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  <p:sp>
            <p:nvSpPr>
              <p:cNvPr id="650" name="AutoShape 15"/>
              <p:cNvSpPr/>
              <p:nvPr/>
            </p:nvSpPr>
            <p:spPr>
              <a:xfrm rot="16200000">
                <a:off x="3002400" y="3909240"/>
                <a:ext cx="619200" cy="5857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99ccff"/>
              </a:solidFill>
              <a:ln w="9360">
                <a:solidFill>
                  <a:srgbClr val="003366"/>
                </a:solidFill>
                <a:miter/>
              </a:ln>
              <a:effectLst>
                <a:outerShdw dist="107932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  <p:sp>
            <p:nvSpPr>
              <p:cNvPr id="651" name="Rectangle 16"/>
              <p:cNvSpPr/>
              <p:nvPr/>
            </p:nvSpPr>
            <p:spPr>
              <a:xfrm>
                <a:off x="1071720" y="3481560"/>
                <a:ext cx="1882440" cy="144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HY헤드라인M"/>
                  </a:rPr>
                  <a:t>Lab.(Bench)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HY헤드라인M"/>
                  </a:rPr>
                  <a:t>Scale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  <p:sp>
            <p:nvSpPr>
              <p:cNvPr id="652" name="Rectangle 17"/>
              <p:cNvSpPr/>
              <p:nvPr/>
            </p:nvSpPr>
            <p:spPr>
              <a:xfrm>
                <a:off x="3733920" y="3481560"/>
                <a:ext cx="1882440" cy="144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  <p:sp>
            <p:nvSpPr>
              <p:cNvPr id="653" name="Rectangle 18"/>
              <p:cNvSpPr/>
              <p:nvPr/>
            </p:nvSpPr>
            <p:spPr>
              <a:xfrm>
                <a:off x="6332760" y="3481560"/>
                <a:ext cx="1882440" cy="144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HY헤드라인M"/>
                  </a:rPr>
                  <a:t>Mass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ff"/>
                    </a:solidFill>
                    <a:latin typeface="HY헤드라인M"/>
                  </a:rPr>
                  <a:t>Production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  <p:sp>
            <p:nvSpPr>
              <p:cNvPr id="654" name="AutoShape 19"/>
              <p:cNvSpPr/>
              <p:nvPr/>
            </p:nvSpPr>
            <p:spPr>
              <a:xfrm rot="16200000">
                <a:off x="5664600" y="3909240"/>
                <a:ext cx="619200" cy="5857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99ccff"/>
              </a:solidFill>
              <a:ln w="9360">
                <a:solidFill>
                  <a:srgbClr val="003366"/>
                </a:solidFill>
                <a:miter/>
              </a:ln>
              <a:effectLst>
                <a:outerShdw dist="107932" dir="2700000" blurRad="0" rotWithShape="0">
                  <a:srgbClr val="4d4d4d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  <p:sp>
            <p:nvSpPr>
              <p:cNvPr id="655" name="Text Box 20"/>
              <p:cNvSpPr/>
              <p:nvPr/>
            </p:nvSpPr>
            <p:spPr>
              <a:xfrm>
                <a:off x="4113720" y="3826080"/>
                <a:ext cx="10922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HY헤드라인M"/>
                  </a:rPr>
                  <a:t>P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HY헤드라인M"/>
                  </a:rPr>
                  <a:t>i</a:t>
                </a:r>
                <a:r>
                  <a:rPr b="1" lang="en-US" sz="2800" spc="-1" strike="noStrike">
                    <a:solidFill>
                      <a:srgbClr val="0000ff"/>
                    </a:solidFill>
                    <a:latin typeface="HY헤드라인M"/>
                  </a:rPr>
                  <a:t>lot</a:t>
                </a:r>
                <a:endParaRPr b="0" lang="en-US" sz="2800" spc="-1" strike="noStrike">
                  <a:solidFill>
                    <a:srgbClr val="0066ff"/>
                  </a:solidFill>
                  <a:latin typeface="HY헤드라인M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HY헤드라인M"/>
                  </a:rPr>
                  <a:t>Scale</a:t>
                </a:r>
                <a:endParaRPr b="0" lang="en-US" sz="28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sp>
        <p:nvSpPr>
          <p:cNvPr id="656" name="Text Box 21"/>
          <p:cNvSpPr/>
          <p:nvPr/>
        </p:nvSpPr>
        <p:spPr>
          <a:xfrm>
            <a:off x="3832200" y="2930400"/>
            <a:ext cx="15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</a:rPr>
              <a:t>지원범위</a:t>
            </a:r>
            <a:endParaRPr b="0" lang="en-US" sz="2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657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658" name="Group 34"/>
          <p:cNvGrpSpPr/>
          <p:nvPr/>
        </p:nvGrpSpPr>
        <p:grpSpPr>
          <a:xfrm>
            <a:off x="324000" y="1411200"/>
            <a:ext cx="5760360" cy="814320"/>
            <a:chOff x="324000" y="1411200"/>
            <a:chExt cx="5760360" cy="814320"/>
          </a:xfrm>
        </p:grpSpPr>
        <p:sp>
          <p:nvSpPr>
            <p:cNvPr id="659" name="Text Box 6"/>
            <p:cNvSpPr/>
            <p:nvPr/>
          </p:nvSpPr>
          <p:spPr>
            <a:xfrm>
              <a:off x="1332000" y="1859040"/>
              <a:ext cx="172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660" name="Text Box 7"/>
            <p:cNvSpPr/>
            <p:nvPr/>
          </p:nvSpPr>
          <p:spPr>
            <a:xfrm>
              <a:off x="1332000" y="1785960"/>
              <a:ext cx="22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661" name="Group 24"/>
            <p:cNvGrpSpPr/>
            <p:nvPr/>
          </p:nvGrpSpPr>
          <p:grpSpPr>
            <a:xfrm>
              <a:off x="755640" y="1411200"/>
              <a:ext cx="5328720" cy="576000"/>
              <a:chOff x="755640" y="1411200"/>
              <a:chExt cx="5328720" cy="576000"/>
            </a:xfrm>
          </p:grpSpPr>
          <p:pic>
            <p:nvPicPr>
              <p:cNvPr id="662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411200"/>
                <a:ext cx="5328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Text Box 2144"/>
              <p:cNvSpPr/>
              <p:nvPr/>
            </p:nvSpPr>
            <p:spPr>
              <a:xfrm>
                <a:off x="1353240" y="1437120"/>
                <a:ext cx="40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기술개발의 일반적 지원범위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664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Group 33"/>
            <p:cNvGrpSpPr/>
            <p:nvPr/>
          </p:nvGrpSpPr>
          <p:grpSpPr>
            <a:xfrm>
              <a:off x="452520" y="1522440"/>
              <a:ext cx="333360" cy="468000"/>
              <a:chOff x="452520" y="1522440"/>
              <a:chExt cx="333360" cy="468000"/>
            </a:xfrm>
          </p:grpSpPr>
          <p:grpSp>
            <p:nvGrpSpPr>
              <p:cNvPr id="666" name="Group 34"/>
              <p:cNvGrpSpPr/>
              <p:nvPr/>
            </p:nvGrpSpPr>
            <p:grpSpPr>
              <a:xfrm>
                <a:off x="452520" y="1522440"/>
                <a:ext cx="333360" cy="304920"/>
                <a:chOff x="452520" y="1522440"/>
                <a:chExt cx="333360" cy="304920"/>
              </a:xfrm>
            </p:grpSpPr>
            <p:sp>
              <p:nvSpPr>
                <p:cNvPr id="667" name="Oval 35"/>
                <p:cNvSpPr/>
                <p:nvPr/>
              </p:nvSpPr>
              <p:spPr>
                <a:xfrm>
                  <a:off x="452520" y="152244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668" name="Oval 36"/>
                <p:cNvSpPr/>
                <p:nvPr/>
              </p:nvSpPr>
              <p:spPr>
                <a:xfrm>
                  <a:off x="469440" y="15379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669" name="Oval 37"/>
                <p:cNvSpPr/>
                <p:nvPr/>
              </p:nvSpPr>
              <p:spPr>
                <a:xfrm>
                  <a:off x="507240" y="153792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670" name="Rectangle 38"/>
              <p:cNvSpPr/>
              <p:nvPr/>
            </p:nvSpPr>
            <p:spPr>
              <a:xfrm>
                <a:off x="473760" y="153360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sp>
        <p:nvSpPr>
          <p:cNvPr id="671" name="AutoShape 5"/>
          <p:cNvSpPr/>
          <p:nvPr/>
        </p:nvSpPr>
        <p:spPr>
          <a:xfrm>
            <a:off x="2987640" y="5078880"/>
            <a:ext cx="666720" cy="55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00000"/>
                </a:solidFill>
                <a:latin typeface="HY헤드라인M"/>
              </a:rPr>
              <a:t>논문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672" name="AutoShape 5"/>
          <p:cNvSpPr/>
          <p:nvPr/>
        </p:nvSpPr>
        <p:spPr>
          <a:xfrm>
            <a:off x="5580000" y="5078880"/>
            <a:ext cx="924120" cy="55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101"/>
                </a:solidFill>
                <a:latin typeface="HY헤드라인M"/>
              </a:rPr>
              <a:t>사업화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673" name="AutoShape 5"/>
          <p:cNvSpPr/>
          <p:nvPr/>
        </p:nvSpPr>
        <p:spPr>
          <a:xfrm>
            <a:off x="3924360" y="5078880"/>
            <a:ext cx="1403280" cy="55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2700000"/>
          </a:gradFill>
          <a:ln w="0">
            <a:noFill/>
          </a:ln>
          <a:effectLst>
            <a:outerShdw dist="101451" dir="23977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101"/>
                </a:solidFill>
                <a:latin typeface="HY헤드라인M"/>
              </a:rPr>
              <a:t>지적재산권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Group 6"/>
          <p:cNvGrpSpPr/>
          <p:nvPr/>
        </p:nvGrpSpPr>
        <p:grpSpPr>
          <a:xfrm>
            <a:off x="324000" y="1411200"/>
            <a:ext cx="5760360" cy="814320"/>
            <a:chOff x="324000" y="1411200"/>
            <a:chExt cx="5760360" cy="814320"/>
          </a:xfrm>
        </p:grpSpPr>
        <p:sp>
          <p:nvSpPr>
            <p:cNvPr id="675" name="Text Box 6"/>
            <p:cNvSpPr/>
            <p:nvPr/>
          </p:nvSpPr>
          <p:spPr>
            <a:xfrm>
              <a:off x="1332000" y="1859040"/>
              <a:ext cx="172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676" name="Text Box 7"/>
            <p:cNvSpPr/>
            <p:nvPr/>
          </p:nvSpPr>
          <p:spPr>
            <a:xfrm>
              <a:off x="1332000" y="1785960"/>
              <a:ext cx="22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677" name="Group 9"/>
            <p:cNvGrpSpPr/>
            <p:nvPr/>
          </p:nvGrpSpPr>
          <p:grpSpPr>
            <a:xfrm>
              <a:off x="755640" y="1411200"/>
              <a:ext cx="5328720" cy="576000"/>
              <a:chOff x="755640" y="1411200"/>
              <a:chExt cx="5328720" cy="576000"/>
            </a:xfrm>
          </p:grpSpPr>
          <p:pic>
            <p:nvPicPr>
              <p:cNvPr id="678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411200"/>
                <a:ext cx="5328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9" name="Text Box 2144"/>
              <p:cNvSpPr/>
              <p:nvPr/>
            </p:nvSpPr>
            <p:spPr>
              <a:xfrm>
                <a:off x="1353240" y="1437120"/>
                <a:ext cx="40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전산등록 </a:t>
                </a:r>
                <a:r>
                  <a:rPr b="1" lang="ko-KR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지역산업종합관리시스템</a:t>
                </a:r>
                <a:endParaRPr b="0" lang="en-US" sz="16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680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Group 33"/>
            <p:cNvGrpSpPr/>
            <p:nvPr/>
          </p:nvGrpSpPr>
          <p:grpSpPr>
            <a:xfrm>
              <a:off x="452520" y="1522440"/>
              <a:ext cx="333360" cy="468000"/>
              <a:chOff x="452520" y="1522440"/>
              <a:chExt cx="333360" cy="468000"/>
            </a:xfrm>
          </p:grpSpPr>
          <p:grpSp>
            <p:nvGrpSpPr>
              <p:cNvPr id="682" name="Group 34"/>
              <p:cNvGrpSpPr/>
              <p:nvPr/>
            </p:nvGrpSpPr>
            <p:grpSpPr>
              <a:xfrm>
                <a:off x="452520" y="1522440"/>
                <a:ext cx="333360" cy="304920"/>
                <a:chOff x="452520" y="1522440"/>
                <a:chExt cx="333360" cy="304920"/>
              </a:xfrm>
            </p:grpSpPr>
            <p:sp>
              <p:nvSpPr>
                <p:cNvPr id="683" name="Oval 35"/>
                <p:cNvSpPr/>
                <p:nvPr/>
              </p:nvSpPr>
              <p:spPr>
                <a:xfrm>
                  <a:off x="452520" y="152244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684" name="Oval 36"/>
                <p:cNvSpPr/>
                <p:nvPr/>
              </p:nvSpPr>
              <p:spPr>
                <a:xfrm>
                  <a:off x="469440" y="15379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685" name="Oval 37"/>
                <p:cNvSpPr/>
                <p:nvPr/>
              </p:nvSpPr>
              <p:spPr>
                <a:xfrm>
                  <a:off x="507240" y="153792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686" name="Rectangle 38"/>
              <p:cNvSpPr/>
              <p:nvPr/>
            </p:nvSpPr>
            <p:spPr>
              <a:xfrm>
                <a:off x="473760" y="153360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sp>
        <p:nvSpPr>
          <p:cNvPr id="687" name="Rectangle 20"/>
          <p:cNvSpPr/>
          <p:nvPr/>
        </p:nvSpPr>
        <p:spPr>
          <a:xfrm>
            <a:off x="6084720" y="1503720"/>
            <a:ext cx="2808360" cy="39888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HY헤드라인M"/>
              </a:rPr>
              <a:t>http://rnd.risnet.or.kr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688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689" name="Picture 19" descr="risnet0"/>
          <p:cNvPicPr/>
          <p:nvPr/>
        </p:nvPicPr>
        <p:blipFill>
          <a:blip r:embed="rId3"/>
          <a:stretch/>
        </p:blipFill>
        <p:spPr>
          <a:xfrm>
            <a:off x="971640" y="2060640"/>
            <a:ext cx="784836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Ⅴ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691" name="Group 6"/>
          <p:cNvGrpSpPr/>
          <p:nvPr/>
        </p:nvGrpSpPr>
        <p:grpSpPr>
          <a:xfrm>
            <a:off x="324000" y="1411200"/>
            <a:ext cx="5760360" cy="814320"/>
            <a:chOff x="324000" y="1411200"/>
            <a:chExt cx="5760360" cy="814320"/>
          </a:xfrm>
        </p:grpSpPr>
        <p:sp>
          <p:nvSpPr>
            <p:cNvPr id="692" name="Text Box 6"/>
            <p:cNvSpPr/>
            <p:nvPr/>
          </p:nvSpPr>
          <p:spPr>
            <a:xfrm>
              <a:off x="1332000" y="1859040"/>
              <a:ext cx="172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693" name="Text Box 7"/>
            <p:cNvSpPr/>
            <p:nvPr/>
          </p:nvSpPr>
          <p:spPr>
            <a:xfrm>
              <a:off x="1332000" y="1785960"/>
              <a:ext cx="22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694" name="Group 9"/>
            <p:cNvGrpSpPr/>
            <p:nvPr/>
          </p:nvGrpSpPr>
          <p:grpSpPr>
            <a:xfrm>
              <a:off x="755640" y="1411200"/>
              <a:ext cx="5328720" cy="576000"/>
              <a:chOff x="755640" y="1411200"/>
              <a:chExt cx="5328720" cy="576000"/>
            </a:xfrm>
          </p:grpSpPr>
          <p:pic>
            <p:nvPicPr>
              <p:cNvPr id="695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411200"/>
                <a:ext cx="5328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6" name="Text Box 2144"/>
              <p:cNvSpPr/>
              <p:nvPr/>
            </p:nvSpPr>
            <p:spPr>
              <a:xfrm>
                <a:off x="1353240" y="1437120"/>
                <a:ext cx="40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전산등록 </a:t>
                </a:r>
                <a:r>
                  <a:rPr b="1" lang="ko-KR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지역산업종합관리시스템</a:t>
                </a:r>
                <a:endParaRPr b="0" lang="en-US" sz="16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697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8" name="Group 33"/>
            <p:cNvGrpSpPr/>
            <p:nvPr/>
          </p:nvGrpSpPr>
          <p:grpSpPr>
            <a:xfrm>
              <a:off x="452520" y="1522440"/>
              <a:ext cx="333360" cy="468000"/>
              <a:chOff x="452520" y="1522440"/>
              <a:chExt cx="333360" cy="468000"/>
            </a:xfrm>
          </p:grpSpPr>
          <p:grpSp>
            <p:nvGrpSpPr>
              <p:cNvPr id="699" name="Group 34"/>
              <p:cNvGrpSpPr/>
              <p:nvPr/>
            </p:nvGrpSpPr>
            <p:grpSpPr>
              <a:xfrm>
                <a:off x="452520" y="1522440"/>
                <a:ext cx="333360" cy="304920"/>
                <a:chOff x="452520" y="1522440"/>
                <a:chExt cx="333360" cy="304920"/>
              </a:xfrm>
            </p:grpSpPr>
            <p:sp>
              <p:nvSpPr>
                <p:cNvPr id="700" name="Oval 35"/>
                <p:cNvSpPr/>
                <p:nvPr/>
              </p:nvSpPr>
              <p:spPr>
                <a:xfrm>
                  <a:off x="452520" y="152244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701" name="Oval 36"/>
                <p:cNvSpPr/>
                <p:nvPr/>
              </p:nvSpPr>
              <p:spPr>
                <a:xfrm>
                  <a:off x="469440" y="15379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702" name="Oval 37"/>
                <p:cNvSpPr/>
                <p:nvPr/>
              </p:nvSpPr>
              <p:spPr>
                <a:xfrm>
                  <a:off x="507240" y="153792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703" name="Rectangle 38"/>
              <p:cNvSpPr/>
              <p:nvPr/>
            </p:nvSpPr>
            <p:spPr>
              <a:xfrm>
                <a:off x="473760" y="153360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704" name="Picture 20" descr="risnet2"/>
          <p:cNvPicPr/>
          <p:nvPr/>
        </p:nvPicPr>
        <p:blipFill>
          <a:blip r:embed="rId3"/>
          <a:stretch/>
        </p:blipFill>
        <p:spPr>
          <a:xfrm>
            <a:off x="1187280" y="2060640"/>
            <a:ext cx="7272360" cy="388764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6"/>
          <p:cNvSpPr/>
          <p:nvPr/>
        </p:nvSpPr>
        <p:spPr>
          <a:xfrm>
            <a:off x="2428920" y="5653080"/>
            <a:ext cx="6500880" cy="4190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○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http://rnd.risnet.or.kr/ (Tel : 02-6009-4376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Ⅴ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707" name="Group 6"/>
          <p:cNvGrpSpPr/>
          <p:nvPr/>
        </p:nvGrpSpPr>
        <p:grpSpPr>
          <a:xfrm>
            <a:off x="324000" y="1411200"/>
            <a:ext cx="5760360" cy="814320"/>
            <a:chOff x="324000" y="1411200"/>
            <a:chExt cx="5760360" cy="814320"/>
          </a:xfrm>
        </p:grpSpPr>
        <p:sp>
          <p:nvSpPr>
            <p:cNvPr id="708" name="Text Box 6"/>
            <p:cNvSpPr/>
            <p:nvPr/>
          </p:nvSpPr>
          <p:spPr>
            <a:xfrm>
              <a:off x="1332000" y="1859040"/>
              <a:ext cx="1727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709" name="Text Box 7"/>
            <p:cNvSpPr/>
            <p:nvPr/>
          </p:nvSpPr>
          <p:spPr>
            <a:xfrm>
              <a:off x="1332000" y="1785960"/>
              <a:ext cx="2232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710" name="Group 9"/>
            <p:cNvGrpSpPr/>
            <p:nvPr/>
          </p:nvGrpSpPr>
          <p:grpSpPr>
            <a:xfrm>
              <a:off x="755640" y="1411200"/>
              <a:ext cx="5328720" cy="576000"/>
              <a:chOff x="755640" y="1411200"/>
              <a:chExt cx="5328720" cy="576000"/>
            </a:xfrm>
          </p:grpSpPr>
          <p:pic>
            <p:nvPicPr>
              <p:cNvPr id="711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55640" y="1411200"/>
                <a:ext cx="532872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2" name="Text Box 2144"/>
              <p:cNvSpPr/>
              <p:nvPr/>
            </p:nvSpPr>
            <p:spPr>
              <a:xfrm>
                <a:off x="1353240" y="1437120"/>
                <a:ext cx="405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전산등록 </a:t>
                </a:r>
                <a:r>
                  <a:rPr b="1" lang="ko-KR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지역산업종합관리시스템</a:t>
                </a:r>
                <a:endParaRPr b="0" lang="en-US" sz="16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713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4" name="Group 33"/>
            <p:cNvGrpSpPr/>
            <p:nvPr/>
          </p:nvGrpSpPr>
          <p:grpSpPr>
            <a:xfrm>
              <a:off x="452520" y="1522440"/>
              <a:ext cx="333360" cy="468000"/>
              <a:chOff x="452520" y="1522440"/>
              <a:chExt cx="333360" cy="468000"/>
            </a:xfrm>
          </p:grpSpPr>
          <p:grpSp>
            <p:nvGrpSpPr>
              <p:cNvPr id="715" name="Group 34"/>
              <p:cNvGrpSpPr/>
              <p:nvPr/>
            </p:nvGrpSpPr>
            <p:grpSpPr>
              <a:xfrm>
                <a:off x="452520" y="1522440"/>
                <a:ext cx="333360" cy="304920"/>
                <a:chOff x="452520" y="1522440"/>
                <a:chExt cx="333360" cy="304920"/>
              </a:xfrm>
            </p:grpSpPr>
            <p:sp>
              <p:nvSpPr>
                <p:cNvPr id="716" name="Oval 35"/>
                <p:cNvSpPr/>
                <p:nvPr/>
              </p:nvSpPr>
              <p:spPr>
                <a:xfrm>
                  <a:off x="452520" y="152244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717" name="Oval 36"/>
                <p:cNvSpPr/>
                <p:nvPr/>
              </p:nvSpPr>
              <p:spPr>
                <a:xfrm>
                  <a:off x="469440" y="153792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718" name="Oval 37"/>
                <p:cNvSpPr/>
                <p:nvPr/>
              </p:nvSpPr>
              <p:spPr>
                <a:xfrm>
                  <a:off x="507240" y="153792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719" name="Rectangle 38"/>
              <p:cNvSpPr/>
              <p:nvPr/>
            </p:nvSpPr>
            <p:spPr>
              <a:xfrm>
                <a:off x="473760" y="153360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720" name="Picture 18" descr="risnet3"/>
          <p:cNvPicPr/>
          <p:nvPr/>
        </p:nvPicPr>
        <p:blipFill>
          <a:blip r:embed="rId3"/>
          <a:stretch/>
        </p:blipFill>
        <p:spPr>
          <a:xfrm>
            <a:off x="1042920" y="2205000"/>
            <a:ext cx="6964560" cy="38260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28920" y="5229360"/>
            <a:ext cx="6500880" cy="41904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○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http://rnd.risnet.or.kr/ (Tel : 02-6009-4376)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156000" y="1483920"/>
            <a:ext cx="298764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굴림"/>
                <a:ea typeface="굴림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굴림"/>
                <a:ea typeface="굴림"/>
              </a:rPr>
              <a:t>http://rndgate.ntis.go.k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724" name="Group 6"/>
          <p:cNvGrpSpPr/>
          <p:nvPr/>
        </p:nvGrpSpPr>
        <p:grpSpPr>
          <a:xfrm>
            <a:off x="324000" y="1411200"/>
            <a:ext cx="5902920" cy="814320"/>
            <a:chOff x="324000" y="1411200"/>
            <a:chExt cx="5902920" cy="814320"/>
          </a:xfrm>
        </p:grpSpPr>
        <p:sp>
          <p:nvSpPr>
            <p:cNvPr id="725" name="Text Box 6"/>
            <p:cNvSpPr/>
            <p:nvPr/>
          </p:nvSpPr>
          <p:spPr>
            <a:xfrm>
              <a:off x="1356840" y="1859040"/>
              <a:ext cx="1770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726" name="Text Box 7"/>
            <p:cNvSpPr/>
            <p:nvPr/>
          </p:nvSpPr>
          <p:spPr>
            <a:xfrm>
              <a:off x="1356840" y="1785960"/>
              <a:ext cx="2287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727" name="Group 9"/>
            <p:cNvGrpSpPr/>
            <p:nvPr/>
          </p:nvGrpSpPr>
          <p:grpSpPr>
            <a:xfrm>
              <a:off x="766080" y="1411200"/>
              <a:ext cx="5460840" cy="577440"/>
              <a:chOff x="766080" y="1411200"/>
              <a:chExt cx="5460840" cy="577440"/>
            </a:xfrm>
          </p:grpSpPr>
          <p:pic>
            <p:nvPicPr>
              <p:cNvPr id="728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66080" y="1411200"/>
                <a:ext cx="5460840" cy="57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9" name="Text Box 2144"/>
              <p:cNvSpPr/>
              <p:nvPr/>
            </p:nvSpPr>
            <p:spPr>
              <a:xfrm>
                <a:off x="1378800" y="1437120"/>
                <a:ext cx="415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중복성 검토 </a:t>
                </a:r>
                <a:r>
                  <a:rPr b="1" lang="ko-KR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국가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R&amp;D </a:t>
                </a:r>
                <a:r>
                  <a:rPr b="1" lang="ko-KR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사업관리시스템 </a:t>
                </a:r>
                <a:endParaRPr b="0" lang="en-US" sz="16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730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266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1" name="Group 33"/>
            <p:cNvGrpSpPr/>
            <p:nvPr/>
          </p:nvGrpSpPr>
          <p:grpSpPr>
            <a:xfrm>
              <a:off x="455400" y="1522440"/>
              <a:ext cx="341280" cy="468000"/>
              <a:chOff x="455400" y="1522440"/>
              <a:chExt cx="341280" cy="468000"/>
            </a:xfrm>
          </p:grpSpPr>
          <p:grpSp>
            <p:nvGrpSpPr>
              <p:cNvPr id="732" name="Group 34"/>
              <p:cNvGrpSpPr/>
              <p:nvPr/>
            </p:nvGrpSpPr>
            <p:grpSpPr>
              <a:xfrm>
                <a:off x="455400" y="1522440"/>
                <a:ext cx="341280" cy="304920"/>
                <a:chOff x="455400" y="1522440"/>
                <a:chExt cx="341280" cy="304920"/>
              </a:xfrm>
            </p:grpSpPr>
            <p:sp>
              <p:nvSpPr>
                <p:cNvPr id="733" name="Oval 35"/>
                <p:cNvSpPr/>
                <p:nvPr/>
              </p:nvSpPr>
              <p:spPr>
                <a:xfrm>
                  <a:off x="455400" y="1522440"/>
                  <a:ext cx="34128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734" name="Oval 36"/>
                <p:cNvSpPr/>
                <p:nvPr/>
              </p:nvSpPr>
              <p:spPr>
                <a:xfrm>
                  <a:off x="472680" y="1537920"/>
                  <a:ext cx="30744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735" name="Oval 37"/>
                <p:cNvSpPr/>
                <p:nvPr/>
              </p:nvSpPr>
              <p:spPr>
                <a:xfrm>
                  <a:off x="511560" y="1537920"/>
                  <a:ext cx="2347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736" name="Rectangle 38"/>
              <p:cNvSpPr/>
              <p:nvPr/>
            </p:nvSpPr>
            <p:spPr>
              <a:xfrm>
                <a:off x="477000" y="1533600"/>
                <a:ext cx="1688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737" name="Picture 21" descr="NTIS1"/>
          <p:cNvPicPr/>
          <p:nvPr/>
        </p:nvPicPr>
        <p:blipFill>
          <a:blip r:embed="rId3"/>
          <a:stretch/>
        </p:blipFill>
        <p:spPr>
          <a:xfrm>
            <a:off x="1116000" y="2205000"/>
            <a:ext cx="72010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739" name="Group 21"/>
          <p:cNvGrpSpPr/>
          <p:nvPr/>
        </p:nvGrpSpPr>
        <p:grpSpPr>
          <a:xfrm>
            <a:off x="324000" y="1411200"/>
            <a:ext cx="5902920" cy="814320"/>
            <a:chOff x="324000" y="1411200"/>
            <a:chExt cx="5902920" cy="814320"/>
          </a:xfrm>
        </p:grpSpPr>
        <p:sp>
          <p:nvSpPr>
            <p:cNvPr id="740" name="Text Box 6"/>
            <p:cNvSpPr/>
            <p:nvPr/>
          </p:nvSpPr>
          <p:spPr>
            <a:xfrm>
              <a:off x="1356840" y="1859040"/>
              <a:ext cx="17701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741" name="Text Box 7"/>
            <p:cNvSpPr/>
            <p:nvPr/>
          </p:nvSpPr>
          <p:spPr>
            <a:xfrm>
              <a:off x="1356840" y="1785960"/>
              <a:ext cx="2287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742" name="Group 24"/>
            <p:cNvGrpSpPr/>
            <p:nvPr/>
          </p:nvGrpSpPr>
          <p:grpSpPr>
            <a:xfrm>
              <a:off x="766080" y="1411200"/>
              <a:ext cx="5460840" cy="576000"/>
              <a:chOff x="766080" y="1411200"/>
              <a:chExt cx="5460840" cy="576000"/>
            </a:xfrm>
          </p:grpSpPr>
          <p:pic>
            <p:nvPicPr>
              <p:cNvPr id="743" name="Picture 10" descr="13 박스"/>
              <p:cNvPicPr/>
              <p:nvPr/>
            </p:nvPicPr>
            <p:blipFill>
              <a:blip r:embed="rId1"/>
              <a:srcRect l="72555" t="45512" r="2866" b="32919"/>
              <a:stretch/>
            </p:blipFill>
            <p:spPr>
              <a:xfrm>
                <a:off x="766080" y="1411200"/>
                <a:ext cx="546084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Text Box 2144"/>
              <p:cNvSpPr/>
              <p:nvPr/>
            </p:nvSpPr>
            <p:spPr>
              <a:xfrm>
                <a:off x="1378800" y="1437120"/>
                <a:ext cx="415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중복성 검토 </a:t>
                </a:r>
                <a:r>
                  <a:rPr b="1" lang="ko-KR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국가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R&amp;D </a:t>
                </a:r>
                <a:r>
                  <a:rPr b="1" lang="ko-KR" sz="16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사업관리시스템</a:t>
                </a:r>
                <a:endParaRPr b="0" lang="en-US" sz="16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745" name="Picture 4" descr="2"/>
            <p:cNvPicPr/>
            <p:nvPr/>
          </p:nvPicPr>
          <p:blipFill>
            <a:blip r:embed="rId2"/>
            <a:srcRect l="56514" t="27691" r="39475" b="61574"/>
            <a:stretch/>
          </p:blipFill>
          <p:spPr>
            <a:xfrm>
              <a:off x="324000" y="1452600"/>
              <a:ext cx="5266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6" name="Group 33"/>
            <p:cNvGrpSpPr/>
            <p:nvPr/>
          </p:nvGrpSpPr>
          <p:grpSpPr>
            <a:xfrm>
              <a:off x="455400" y="1522440"/>
              <a:ext cx="341280" cy="468000"/>
              <a:chOff x="455400" y="1522440"/>
              <a:chExt cx="341280" cy="468000"/>
            </a:xfrm>
          </p:grpSpPr>
          <p:grpSp>
            <p:nvGrpSpPr>
              <p:cNvPr id="747" name="Group 34"/>
              <p:cNvGrpSpPr/>
              <p:nvPr/>
            </p:nvGrpSpPr>
            <p:grpSpPr>
              <a:xfrm>
                <a:off x="455400" y="1522440"/>
                <a:ext cx="341280" cy="304920"/>
                <a:chOff x="455400" y="1522440"/>
                <a:chExt cx="341280" cy="304920"/>
              </a:xfrm>
            </p:grpSpPr>
            <p:sp>
              <p:nvSpPr>
                <p:cNvPr id="748" name="Oval 35"/>
                <p:cNvSpPr/>
                <p:nvPr/>
              </p:nvSpPr>
              <p:spPr>
                <a:xfrm>
                  <a:off x="455400" y="1522440"/>
                  <a:ext cx="34128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749" name="Oval 36"/>
                <p:cNvSpPr/>
                <p:nvPr/>
              </p:nvSpPr>
              <p:spPr>
                <a:xfrm>
                  <a:off x="472680" y="1537920"/>
                  <a:ext cx="30744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750" name="Oval 37"/>
                <p:cNvSpPr/>
                <p:nvPr/>
              </p:nvSpPr>
              <p:spPr>
                <a:xfrm>
                  <a:off x="511560" y="1537920"/>
                  <a:ext cx="2347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751" name="Rectangle 38"/>
              <p:cNvSpPr/>
              <p:nvPr/>
            </p:nvSpPr>
            <p:spPr>
              <a:xfrm>
                <a:off x="477000" y="1533600"/>
                <a:ext cx="16884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pic>
        <p:nvPicPr>
          <p:cNvPr id="752" name="Picture 18" descr="NTIS2"/>
          <p:cNvPicPr/>
          <p:nvPr/>
        </p:nvPicPr>
        <p:blipFill>
          <a:blip r:embed="rId3"/>
          <a:stretch/>
        </p:blipFill>
        <p:spPr>
          <a:xfrm>
            <a:off x="755640" y="2133720"/>
            <a:ext cx="7632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141" descr="사업계획표지001"/>
          <p:cNvPicPr/>
          <p:nvPr/>
        </p:nvPicPr>
        <p:blipFill>
          <a:blip r:embed="rId1"/>
          <a:stretch/>
        </p:blipFill>
        <p:spPr>
          <a:xfrm>
            <a:off x="826920" y="907920"/>
            <a:ext cx="7345440" cy="5634000"/>
          </a:xfrm>
          <a:prstGeom prst="rect">
            <a:avLst/>
          </a:prstGeom>
          <a:ln w="0">
            <a:noFill/>
          </a:ln>
        </p:spPr>
      </p:pic>
      <p:sp>
        <p:nvSpPr>
          <p:cNvPr id="754" name="Line 742"/>
          <p:cNvSpPr/>
          <p:nvPr/>
        </p:nvSpPr>
        <p:spPr>
          <a:xfrm>
            <a:off x="4065480" y="125568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55" name="Line 743"/>
          <p:cNvSpPr/>
          <p:nvPr/>
        </p:nvSpPr>
        <p:spPr>
          <a:xfrm>
            <a:off x="4065480" y="142560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56" name="Line 744"/>
          <p:cNvSpPr/>
          <p:nvPr/>
        </p:nvSpPr>
        <p:spPr>
          <a:xfrm>
            <a:off x="4097160" y="142560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57" name="Line 956"/>
          <p:cNvSpPr/>
          <p:nvPr/>
        </p:nvSpPr>
        <p:spPr>
          <a:xfrm>
            <a:off x="2457360" y="172872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58" name="Line 957"/>
          <p:cNvSpPr/>
          <p:nvPr/>
        </p:nvSpPr>
        <p:spPr>
          <a:xfrm>
            <a:off x="2457360" y="187164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59" name="Line 1069"/>
          <p:cNvSpPr/>
          <p:nvPr/>
        </p:nvSpPr>
        <p:spPr>
          <a:xfrm>
            <a:off x="2457360" y="2157480"/>
            <a:ext cx="0" cy="0"/>
          </a:xfrm>
          <a:prstGeom prst="line">
            <a:avLst/>
          </a:prstGeom>
          <a:ln cap="rnd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60" name="AutoShape 131"/>
          <p:cNvSpPr/>
          <p:nvPr/>
        </p:nvSpPr>
        <p:spPr>
          <a:xfrm>
            <a:off x="1692360" y="3068640"/>
            <a:ext cx="1439640" cy="720720"/>
          </a:xfrm>
          <a:prstGeom prst="wedgeRoundRectCallout">
            <a:avLst>
              <a:gd name="adj1" fmla="val 7439"/>
              <a:gd name="adj2" fmla="val -109472"/>
              <a:gd name="adj3" fmla="val 16667"/>
            </a:avLst>
          </a:prstGeom>
          <a:solidFill>
            <a:srgbClr val="cc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전산등록시 부여 받은 과제번호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61" name="AutoShape 133"/>
          <p:cNvSpPr/>
          <p:nvPr/>
        </p:nvSpPr>
        <p:spPr>
          <a:xfrm>
            <a:off x="3635280" y="1628640"/>
            <a:ext cx="1440000" cy="576360"/>
          </a:xfrm>
          <a:prstGeom prst="wedgeRoundRectCallout">
            <a:avLst>
              <a:gd name="adj1" fmla="val 48564"/>
              <a:gd name="adj2" fmla="val 127962"/>
              <a:gd name="adj3" fmla="val 16667"/>
            </a:avLst>
          </a:prstGeom>
          <a:solidFill>
            <a:srgbClr val="cc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다음 페이지 분류표 참조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62" name="AutoShape 134"/>
          <p:cNvSpPr/>
          <p:nvPr/>
        </p:nvSpPr>
        <p:spPr>
          <a:xfrm>
            <a:off x="6300720" y="2924280"/>
            <a:ext cx="1440000" cy="504720"/>
          </a:xfrm>
          <a:prstGeom prst="wedgeRoundRectCallout">
            <a:avLst>
              <a:gd name="adj1" fmla="val -18356"/>
              <a:gd name="adj2" fmla="val -120125"/>
              <a:gd name="adj3" fmla="val 16667"/>
            </a:avLst>
          </a:prstGeom>
          <a:solidFill>
            <a:srgbClr val="cc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400" spc="-1" strike="noStrike">
                <a:solidFill>
                  <a:srgbClr val="0066ff"/>
                </a:solidFill>
                <a:latin typeface="HY헤드라인M"/>
              </a:rPr>
              <a:t>산업기술분류표 참조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63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4"/>
          <p:cNvSpPr/>
          <p:nvPr/>
        </p:nvSpPr>
        <p:spPr>
          <a:xfrm>
            <a:off x="0" y="1766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33e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765" name=""/>
          <p:cNvGraphicFramePr/>
          <p:nvPr/>
        </p:nvGraphicFramePr>
        <p:xfrm>
          <a:off x="468360" y="1341360"/>
          <a:ext cx="7848720" cy="2087640"/>
        </p:xfrm>
        <a:graphic>
          <a:graphicData uri="http://schemas.openxmlformats.org/drawingml/2006/table">
            <a:tbl>
              <a:tblPr/>
              <a:tblGrid>
                <a:gridCol w="1312920"/>
                <a:gridCol w="1233360"/>
                <a:gridCol w="2624040"/>
                <a:gridCol w="1195560"/>
                <a:gridCol w="1482840"/>
              </a:tblGrid>
              <a:tr h="231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12)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실무담당자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성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  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 명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 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 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전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  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 화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 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 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부서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/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직위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 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 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휴대전화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 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 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ff0000"/>
                          </a:solidFill>
                          <a:latin typeface="HY헤드라인M"/>
                          <a:ea typeface="신명 신문명조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신명 신문명조,한컴돋움"/>
                          <a:ea typeface="신명 신문명조"/>
                        </a:rPr>
                        <a:t>13)</a:t>
                      </a:r>
                      <a:r>
                        <a:rPr b="1" lang="ko-KR" sz="1000" spc="-1" strike="noStrike">
                          <a:solidFill>
                            <a:srgbClr val="ff0000"/>
                          </a:solidFill>
                          <a:latin typeface="신명 신문명조,한컴돋움"/>
                          <a:ea typeface="신명 신문명조"/>
                        </a:rPr>
                        <a:t>보안등급</a:t>
                      </a:r>
                      <a:r>
                        <a:rPr b="1" lang="ko-KR" sz="1000" spc="-1" strike="noStrike">
                          <a:solidFill>
                            <a:srgbClr val="ff0000"/>
                          </a:solidFill>
                          <a:latin typeface="HY헤드라인M"/>
                          <a:ea typeface="신명 신문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ff0000"/>
                          </a:solidFill>
                          <a:latin typeface="신명 신문명조,한컴돋움"/>
                          <a:ea typeface="신명 신문명조"/>
                        </a:rPr>
                        <a:t>보안과제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신명 신문명조,한컴돋움"/>
                          <a:ea typeface="신명 신문명조"/>
                        </a:rPr>
                        <a:t>(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HY헤드라인M"/>
                          <a:ea typeface="신명 신문명조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신명 신문명조,한컴돋움"/>
                          <a:ea typeface="신명 신문명조"/>
                        </a:rPr>
                        <a:t> ), </a:t>
                      </a:r>
                      <a:r>
                        <a:rPr b="1" lang="ko-KR" sz="900" spc="-1" strike="noStrike">
                          <a:solidFill>
                            <a:srgbClr val="ff0000"/>
                          </a:solidFill>
                          <a:latin typeface="신명 신문명조,한컴돋움"/>
                          <a:ea typeface="신명 신문명조"/>
                        </a:rPr>
                        <a:t>일반과제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신명 신문명조,한컴돋움"/>
                          <a:ea typeface="신명 신문명조"/>
                        </a:rPr>
                        <a:t>(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HY헤드라인M"/>
                          <a:ea typeface="신명 신문명조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신명 신문명조,한컴돋움"/>
                          <a:ea typeface="신명 신문명조"/>
                        </a:rPr>
                        <a:t> )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HY헤드라인M"/>
                          <a:ea typeface="신명 신문명조"/>
                        </a:rPr>
                        <a:t> 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0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지역산업진흥사업공통운영요령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 및 지침의 규정에 따라 기술개발사업을 성실히 수행하고자 지역산업기술개발사업계획서를 제출합니다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. </a:t>
                      </a:r>
                      <a:r>
                        <a:rPr b="1" lang="ko-KR" sz="1200" spc="-1" strike="noStrike" u="sng">
                          <a:solidFill>
                            <a:srgbClr val="ff0101"/>
                          </a:solidFill>
                          <a:uFillTx/>
                          <a:latin typeface="신명 신문명조,한컴돋움"/>
                          <a:ea typeface="신명 신문명조"/>
                        </a:rPr>
                        <a:t>아울러 심의과정에서의 채무불이행등 신용조회를 동의합니다</a:t>
                      </a:r>
                      <a:r>
                        <a:rPr b="1" lang="en-US" sz="1200" spc="-1" strike="noStrike" u="sng">
                          <a:solidFill>
                            <a:srgbClr val="ff0101"/>
                          </a:solidFill>
                          <a:uFillTx/>
                          <a:latin typeface="신명 신문명조,한컴돋움"/>
                          <a:ea typeface="신명 신문명조"/>
                        </a:rPr>
                        <a:t>.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                 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                       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                   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200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년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  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 월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  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 일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                        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                                                                             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            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총괄책임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            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 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인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)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                          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                                                               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        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주관기관장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: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            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 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직인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)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지식경제부장관</a:t>
                      </a: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</a:t>
                      </a: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 귀하</a:t>
                      </a: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 </a:t>
                      </a:r>
                      <a:endParaRPr b="0" lang="en-US" sz="13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6" name="Rectangle 102"/>
          <p:cNvSpPr/>
          <p:nvPr/>
        </p:nvSpPr>
        <p:spPr>
          <a:xfrm>
            <a:off x="0" y="50896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33e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395280" y="4076640"/>
          <a:ext cx="7993080" cy="1373400"/>
        </p:xfrm>
        <a:graphic>
          <a:graphicData uri="http://schemas.openxmlformats.org/drawingml/2006/table">
            <a:tbl>
              <a:tblPr/>
              <a:tblGrid>
                <a:gridCol w="730080"/>
                <a:gridCol w="4665960"/>
                <a:gridCol w="25970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굴림"/>
                          <a:ea typeface="휴먼명조,한컴돋움"/>
                        </a:rPr>
                        <a:t>지역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굴림"/>
                          <a:ea typeface="휴먼명조,한컴돋움"/>
                        </a:rPr>
                        <a:t>전략산업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굴림"/>
                          <a:ea typeface="휴먼명조,한컴돋움"/>
                        </a:rPr>
                        <a:t>분류번호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106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휴먼명조,한컴돋움"/>
                        </a:rPr>
                        <a:t>경남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,한컴돋움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휴먼명조,한컴돋움"/>
                        </a:rPr>
                        <a:t>바이오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휴먼명조,한컴돋움"/>
                        </a:rPr>
                        <a:t>(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휴먼명조,한컴돋움"/>
                        </a:rPr>
                        <a:t>생물화학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휴먼명조,한컴돋움"/>
                        </a:rPr>
                        <a:t>)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굴림"/>
                          <a:ea typeface="휴먼명조,한컴돋움"/>
                        </a:rPr>
                        <a:t>[S-13-4]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휴먼명조,한컴돋움"/>
                        </a:rPr>
                        <a:t> 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8" name="Text Box 55"/>
          <p:cNvSpPr/>
          <p:nvPr/>
        </p:nvSpPr>
        <p:spPr>
          <a:xfrm>
            <a:off x="772560" y="3573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400" spc="-1" strike="noStrike">
                <a:solidFill>
                  <a:srgbClr val="0066ff"/>
                </a:solidFill>
                <a:latin typeface="HY헤드라인M"/>
              </a:rPr>
              <a:t>분류번호</a:t>
            </a:r>
            <a:endParaRPr b="0" lang="en-US" sz="2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69" name="Text Box 65"/>
          <p:cNvSpPr/>
          <p:nvPr/>
        </p:nvSpPr>
        <p:spPr>
          <a:xfrm>
            <a:off x="874440" y="5734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400" spc="-1" strike="noStrike">
                <a:solidFill>
                  <a:srgbClr val="0066ff"/>
                </a:solidFill>
                <a:latin typeface="HY헤드라인M"/>
              </a:rPr>
              <a:t>산업기술분류표</a:t>
            </a:r>
            <a:endParaRPr b="0" lang="en-US" sz="2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70" name="Text Box 66"/>
          <p:cNvSpPr/>
          <p:nvPr/>
        </p:nvSpPr>
        <p:spPr>
          <a:xfrm>
            <a:off x="3334320" y="5805360"/>
            <a:ext cx="39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800" spc="-1" strike="noStrike">
                <a:solidFill>
                  <a:srgbClr val="0066ff"/>
                </a:solidFill>
                <a:latin typeface="HY헤드라인M"/>
              </a:rPr>
              <a:t>홈페이지 자료 참조</a:t>
            </a:r>
            <a:r>
              <a:rPr b="0" lang="en-US" sz="1800" spc="-1" strike="noStrike">
                <a:solidFill>
                  <a:srgbClr val="0066ff"/>
                </a:solidFill>
                <a:latin typeface="HY헤드라인M"/>
              </a:rPr>
              <a:t>(http://www.gntp.or.kr)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71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773" name=""/>
          <p:cNvGraphicFramePr/>
          <p:nvPr/>
        </p:nvGraphicFramePr>
        <p:xfrm>
          <a:off x="250920" y="1197000"/>
          <a:ext cx="8713800" cy="5162400"/>
        </p:xfrm>
        <a:graphic>
          <a:graphicData uri="http://schemas.openxmlformats.org/drawingml/2006/table">
            <a:tbl>
              <a:tblPr/>
              <a:tblGrid>
                <a:gridCol w="1749240"/>
                <a:gridCol w="2500560"/>
                <a:gridCol w="4464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신명 신문명조,한컴돋움"/>
                          <a:ea typeface="신명 신문명조"/>
                        </a:rPr>
                        <a:t>표지작성요령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 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 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25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5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과제명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: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인터넷 홈페이지에 전산등록한 과제명과 동일하게 작성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 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6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주관기관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: </a:t>
                      </a:r>
                      <a:r>
                        <a:rPr b="1" lang="ko-KR" sz="1200" spc="-1" strike="noStrike" u="sng">
                          <a:solidFill>
                            <a:srgbClr val="000000"/>
                          </a:solidFill>
                          <a:uFillTx/>
                          <a:latin typeface="휴먼명조,한컴돋움"/>
                          <a:ea typeface="신명 신문명조"/>
                        </a:rPr>
                        <a:t>기존 과제 수행기관의 경우 전산상의 기관 정보를 갱신할 것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주관기관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사업자등록번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주소를 기재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휴먼명조,한컴돋움"/>
                          <a:ea typeface="신명 신문명조"/>
                        </a:rPr>
                        <a:t>◦ 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휴먼명조,한컴돋움"/>
                          <a:ea typeface="신명 신문명조"/>
                        </a:rPr>
                        <a:t>유형란에는 중소기업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휴먼명조,한컴돋움"/>
                          <a:ea typeface="신명 신문명조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휴먼명조,한컴돋움"/>
                          <a:ea typeface="신명 신문명조"/>
                        </a:rPr>
                        <a:t>중견기업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휴먼명조,한컴돋움"/>
                          <a:ea typeface="신명 신문명조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휴먼명조,한컴돋움"/>
                          <a:ea typeface="신명 신문명조"/>
                        </a:rPr>
                        <a:t>대기업으로 구분 기재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휴먼명조,한컴돋움"/>
                          <a:ea typeface="신명 신문명조"/>
                        </a:rPr>
                        <a:t>◦ 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휴먼명조,한컴돋움"/>
                          <a:ea typeface="신명 신문명조"/>
                        </a:rPr>
                        <a:t>중견기업인 경우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휴먼명조,한컴돋움"/>
                          <a:ea typeface="신명 신문명조"/>
                        </a:rPr>
                        <a:t>,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HY헤드라인M"/>
                          <a:ea typeface="신명 신문명조"/>
                        </a:rPr>
                        <a:t>“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휴먼명조,한컴돋움"/>
                          <a:ea typeface="신명 신문명조"/>
                        </a:rPr>
                        <a:t>중견기업 확인서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HY헤드라인M"/>
                          <a:ea typeface="신명 신문명조"/>
                        </a:rPr>
                        <a:t>”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휴먼명조,한컴돋움"/>
                          <a:ea typeface="신명 신문명조"/>
                        </a:rPr>
                        <a:t>를 제출할 것 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7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총괄책임자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ᆞ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휴먼명조,한컴돋움"/>
                          <a:ea typeface="신명 신문명조"/>
                        </a:rPr>
                        <a:t> </a:t>
                      </a:r>
                      <a:r>
                        <a:rPr b="1" lang="ko-KR" sz="1200" spc="-1" strike="noStrike" u="sng">
                          <a:solidFill>
                            <a:srgbClr val="000000"/>
                          </a:solidFill>
                          <a:uFillTx/>
                          <a:latin typeface="휴먼명조,한컴돋움"/>
                          <a:ea typeface="신명 신문명조"/>
                        </a:rPr>
                        <a:t>기존 과제 수행자의 경우 전산상의 개인 정보를 갱신할 것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ᆞ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과제책임자의 인적사항 및 연락처를 기재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직통전화번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휴대전화 필히 기재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)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8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총개발기간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ᆞ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개발사업 예상 착수일 부터 종료일 까지 기재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ᆞ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시작일은 총개발기간 시작월의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1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일로 기재하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총개발기간은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2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년 이내 임 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9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연차별 사업비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연차별 개발기간에 소요되는 사업비를 정부출연금과 민간부담금으로 구분하여 기재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휴먼명조,한컴돋움"/>
                          <a:ea typeface="신명 신문명조"/>
                        </a:rPr>
                        <a:t>※ 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휴먼명조,한컴돋움"/>
                          <a:ea typeface="신명 신문명조"/>
                        </a:rPr>
                        <a:t>공고시 정한 정부출연금 지원한도를 감안하여 작성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10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참여기업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: </a:t>
                      </a:r>
                      <a:r>
                        <a:rPr b="1" lang="ko-KR" sz="1200" spc="-1" strike="noStrike" u="sng">
                          <a:solidFill>
                            <a:srgbClr val="000000"/>
                          </a:solidFill>
                          <a:uFillTx/>
                          <a:latin typeface="휴먼명조,한컴돋움"/>
                          <a:ea typeface="신명 신문명조"/>
                        </a:rPr>
                        <a:t>기존 과제 수행기업의 경우 전산상의 기업 정보를 갱신할 것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참여기업의 업체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책임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전화번호 등을 기재 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11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위탁기관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ᆞ</a:t>
                      </a: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휴먼명조,한컴돋움"/>
                          <a:ea typeface="신명 신문명조"/>
                        </a:rPr>
                        <a:t> </a:t>
                      </a:r>
                      <a:r>
                        <a:rPr b="1" lang="ko-KR" sz="1200" spc="-1" strike="noStrike" u="sng">
                          <a:solidFill>
                            <a:srgbClr val="000000"/>
                          </a:solidFill>
                          <a:uFillTx/>
                          <a:latin typeface="휴먼명조,한컴돋움"/>
                          <a:ea typeface="신명 신문명조"/>
                        </a:rPr>
                        <a:t>기존 과제 수행기관의 경우 전산상의 기관 정보를 갱신할 것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기관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책임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전화번호 등을 기재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유형은 「대학」또는「연구소」등으로 기재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)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12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실무담당자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실무담당자의 인적사항 및 연락처를 기록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신명 신문명조"/>
                        </a:rPr>
                        <a:t>13) </a:t>
                      </a:r>
                      <a:r>
                        <a:rPr b="1" lang="ko-KR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신명 신문명조"/>
                        </a:rPr>
                        <a:t>별첨의 지식경제부 기술개발사업 보안관리지침을 참조한 후 선택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14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제출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총괄책임자 및 주관기관장 날인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요약서 표지에만 날인함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제출일은 인터넷 전산등록일을 기재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총괄책임자 성명을 기재한 후 날인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주관기관장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한국○○연구원장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, 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)○○○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대표이사 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)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을 기재한 후 주관기관장의 직인 날인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 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※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사업계획서 제출시 본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‘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작성요령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HY헤드라인M"/>
                          <a:ea typeface="신명 신문명조"/>
                        </a:rPr>
                        <a:t>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신명 신문명조"/>
                        </a:rPr>
                        <a:t>은 삭제할 것 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4" name=""/>
          <p:cNvGraphicFramePr/>
          <p:nvPr/>
        </p:nvGraphicFramePr>
        <p:xfrm>
          <a:off x="468360" y="1212840"/>
          <a:ext cx="8229600" cy="5168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19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.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기술개발의 필요성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-1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개발 대상  기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제품의 개요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-2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개발 대상  기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제품의 중요성과 파급효과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.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관련 현황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-1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국내외 기술 현황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-2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국내외 시장 현황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-3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국내외 경쟁업체 현황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-4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국내외 지식재산권 현황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-5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매출 등 사업화 계획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3.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기술개발의 목표 및 내용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3-1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최종목표 및 평가방법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3-2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연차별 개발목표 및 개발내용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.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기술개발 추진방법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략 및 체계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-1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기술개발 추진방법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-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략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-2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기술개발 추진체계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-3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기술개발팀 편성도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-4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위탁과제 계획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5.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연구 기자재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시설 및 장비 보유 현황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6.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연구원 현황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6-1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총괄책임자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6-2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참여연구원 현황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7.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총사업비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7-1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연차별 총괄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7-2.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비목별 총괄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. 1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차년도 사업비 비목별 세부내역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-1. 1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차년도 비목별 총괄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-2. 1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차년도 비목별 소요명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주관기관용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-3. 1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차년도 비목별 소요명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참여기관용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-4. 1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차년도 비목별 소요명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위탁기관용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9. 2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차년도 사업비 비목별 세부내역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0.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정부출연금 배분 및 민간부담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현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현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분담 내역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1.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참여기업 현황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5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144"/>
          <p:cNvSpPr/>
          <p:nvPr/>
        </p:nvSpPr>
        <p:spPr>
          <a:xfrm>
            <a:off x="755640" y="2500200"/>
            <a:ext cx="80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휴먼신그래픽"/>
                <a:ea typeface="휴먼신그래픽"/>
              </a:rPr>
              <a:t>I</a:t>
            </a:r>
            <a:r>
              <a:rPr b="1" lang="en-US" sz="3600" spc="-1" strike="noStrike">
                <a:solidFill>
                  <a:srgbClr val="0066ff"/>
                </a:solidFill>
                <a:latin typeface="HY헤드라인M"/>
              </a:rPr>
              <a:t>. </a:t>
            </a:r>
            <a:r>
              <a:rPr b="1" lang="ko-KR" sz="3600" spc="-1" strike="noStrike">
                <a:solidFill>
                  <a:srgbClr val="0066ff"/>
                </a:solidFill>
                <a:latin typeface="HY헤드라인M"/>
              </a:rPr>
              <a:t>지역산업기술개발사업 변경사항</a:t>
            </a:r>
            <a:endParaRPr b="0" lang="en-US" sz="36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122" name="AutoShape 23"/>
          <p:cNvSpPr/>
          <p:nvPr/>
        </p:nvSpPr>
        <p:spPr>
          <a:xfrm>
            <a:off x="708120" y="3284640"/>
            <a:ext cx="843588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123" name="AutoShape 23"/>
          <p:cNvSpPr/>
          <p:nvPr/>
        </p:nvSpPr>
        <p:spPr>
          <a:xfrm flipV="1">
            <a:off x="1332000" y="2341080"/>
            <a:ext cx="7812000" cy="69840"/>
          </a:xfrm>
          <a:prstGeom prst="roundRect">
            <a:avLst>
              <a:gd name="adj" fmla="val 12963"/>
            </a:avLst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25"/>
          <p:cNvSpPr/>
          <p:nvPr/>
        </p:nvSpPr>
        <p:spPr>
          <a:xfrm>
            <a:off x="0" y="121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684360" y="1268280"/>
          <a:ext cx="3133440" cy="594000"/>
        </p:xfrm>
        <a:graphic>
          <a:graphicData uri="http://schemas.openxmlformats.org/drawingml/2006/table">
            <a:tbl>
              <a:tblPr/>
              <a:tblGrid>
                <a:gridCol w="3133440"/>
              </a:tblGrid>
              <a:tr h="59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※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본 장부터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Page No.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를 기입 할 것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※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서술란의 크기는 사업 내용에 따라 조정 가능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</a:tbl>
          </a:graphicData>
        </a:graphic>
      </p:graphicFrame>
      <p:sp>
        <p:nvSpPr>
          <p:cNvPr id="778" name="Rectangle 36"/>
          <p:cNvSpPr/>
          <p:nvPr/>
        </p:nvSpPr>
        <p:spPr>
          <a:xfrm>
            <a:off x="1378080" y="1973880"/>
            <a:ext cx="243144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기술개발의 필요성</a:t>
            </a:r>
            <a:r>
              <a:rPr b="1" lang="ko-KR" sz="1100" spc="-1" strike="noStrike">
                <a:solidFill>
                  <a:srgbClr val="0066ff"/>
                </a:solidFill>
                <a:latin typeface="HY견고딕"/>
              </a:rPr>
              <a:t> </a:t>
            </a:r>
            <a:endParaRPr b="0" lang="en-US" sz="11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  </a:t>
            </a: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1-1. </a:t>
            </a: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개발 대상 기술</a:t>
            </a: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․</a:t>
            </a: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제품의 개요</a:t>
            </a: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1-2. </a:t>
            </a: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개발 대상 기술</a:t>
            </a: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․</a:t>
            </a: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제품의 중요성과 파급효과</a:t>
            </a: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79" name="Rectangle 37"/>
          <p:cNvSpPr/>
          <p:nvPr/>
        </p:nvSpPr>
        <p:spPr>
          <a:xfrm>
            <a:off x="0" y="203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755640" y="3860640"/>
          <a:ext cx="7345440" cy="2322720"/>
        </p:xfrm>
        <a:graphic>
          <a:graphicData uri="http://schemas.openxmlformats.org/drawingml/2006/table">
            <a:tbl>
              <a:tblPr/>
              <a:tblGrid>
                <a:gridCol w="1673280"/>
                <a:gridCol w="567216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작성 요령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개발 대상 기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제품의 개요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개발 대상 기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제품의 ‘기본 개념도’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‘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그림’ 또는 ‘사진’ 등으로 서술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개발 대상 기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제품의 ‘용도’ 및 ‘적용 분야’를 구체적으로 서술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개발 대상 기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제품의 중요성과 파급효과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기술개발과제의 기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경제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산업적 중요성과 이에 따른 연구개발의 필요성을 구체적으로 서술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기술적 측면은 당해 기술의 향상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다른 기술에의 파급효과 및 에너지 절약과 환경개선 효과 등을 서술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경제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산업적 측면에는 시장 창출 및 일자리 창출 효과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수입 대체 효과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수출 증대 효과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비용 절감 등의 경제적 효과와 산업발전에의 영향 등 산업적 효과 서술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81" name="Rectangle 65"/>
          <p:cNvSpPr/>
          <p:nvPr/>
        </p:nvSpPr>
        <p:spPr>
          <a:xfrm>
            <a:off x="0" y="482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82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4"/>
          <p:cNvSpPr/>
          <p:nvPr/>
        </p:nvSpPr>
        <p:spPr>
          <a:xfrm>
            <a:off x="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84" name="Rectangle 13"/>
          <p:cNvSpPr/>
          <p:nvPr/>
        </p:nvSpPr>
        <p:spPr>
          <a:xfrm>
            <a:off x="539640" y="1128600"/>
            <a:ext cx="860436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3. 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기술개발의 목표 및 내용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  </a:t>
            </a: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3-1. </a:t>
            </a: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최종목표 및 평가방법</a:t>
            </a:r>
            <a:r>
              <a:rPr b="1" lang="ko-KR" sz="1100" spc="-1" strike="noStrike">
                <a:solidFill>
                  <a:srgbClr val="0066ff"/>
                </a:solidFill>
                <a:latin typeface="HY견고딕"/>
              </a:rPr>
              <a:t> </a:t>
            </a:r>
            <a:endParaRPr b="0" lang="en-US" sz="1100" spc="-1" strike="noStrike">
              <a:solidFill>
                <a:srgbClr val="0066ff"/>
              </a:solidFill>
              <a:latin typeface="HY헤드라인M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(1) 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최종목표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개발기술의 평가방법 및 평가항목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&lt;</a:t>
            </a: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정량적 목표 항목</a:t>
            </a: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539640" y="2781360"/>
          <a:ext cx="7993080" cy="1279440"/>
        </p:xfrm>
        <a:graphic>
          <a:graphicData uri="http://schemas.openxmlformats.org/drawingml/2006/table">
            <a:tbl>
              <a:tblPr/>
              <a:tblGrid>
                <a:gridCol w="1062000"/>
                <a:gridCol w="571680"/>
                <a:gridCol w="1103400"/>
                <a:gridCol w="1523880"/>
                <a:gridCol w="1058760"/>
                <a:gridCol w="868320"/>
                <a:gridCol w="806760"/>
                <a:gridCol w="998280"/>
              </a:tblGrid>
              <a:tr h="428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평가항목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주요성능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Spec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단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전체항목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에서 차지하는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비중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2)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(%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세계최고 수준 보유국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보유기업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(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/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연구개발 전 국내수준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개발 목표치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평가방법</a:t>
                      </a:r>
                      <a:r>
                        <a:rPr b="0" lang="en-US" sz="1100" spc="-1" strike="noStrike" baseline="30000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3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76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성능수준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성능수준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차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년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2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차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년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6" name="Rectangle 577"/>
          <p:cNvSpPr/>
          <p:nvPr/>
        </p:nvSpPr>
        <p:spPr>
          <a:xfrm>
            <a:off x="802800" y="4075920"/>
            <a:ext cx="165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(3) 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핵심 키워드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(5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개 이상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612720" y="4437000"/>
          <a:ext cx="5367240" cy="517680"/>
        </p:xfrm>
        <a:graphic>
          <a:graphicData uri="http://schemas.openxmlformats.org/drawingml/2006/table">
            <a:tbl>
              <a:tblPr/>
              <a:tblGrid>
                <a:gridCol w="509760"/>
                <a:gridCol w="485748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한글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영문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8" name="Rectangle 605"/>
          <p:cNvSpPr/>
          <p:nvPr/>
        </p:nvSpPr>
        <p:spPr>
          <a:xfrm>
            <a:off x="1448280" y="5031720"/>
            <a:ext cx="3516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  </a:t>
            </a: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3-2. </a:t>
            </a: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연차별 개발목표 및 개발내용</a:t>
            </a:r>
            <a:r>
              <a:rPr b="1" i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(</a:t>
            </a:r>
            <a:r>
              <a:rPr b="1" i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상세히 기재할 것</a:t>
            </a:r>
            <a:r>
              <a:rPr b="1" i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)</a:t>
            </a:r>
            <a:r>
              <a:rPr b="1" lang="en-US" sz="1100" spc="-1" strike="noStrike">
                <a:solidFill>
                  <a:srgbClr val="0066ff"/>
                </a:solidFill>
                <a:latin typeface="HY견고딕"/>
              </a:rPr>
              <a:t> </a:t>
            </a:r>
            <a:endParaRPr b="0" lang="en-US" sz="1100" spc="-1" strike="noStrike">
              <a:solidFill>
                <a:srgbClr val="0066ff"/>
              </a:solidFill>
              <a:latin typeface="HY헤드라인M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  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(1) 1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차년도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     ① 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개발목표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     ② 개발내용 및 범위</a:t>
            </a:r>
            <a:r>
              <a:rPr b="0" i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(</a:t>
            </a:r>
            <a:r>
              <a:rPr b="0" i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시스템 구성도</a:t>
            </a:r>
            <a:r>
              <a:rPr b="0" i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, </a:t>
            </a:r>
            <a:r>
              <a:rPr b="0" i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구조 등을 그림으로 구체적 표현</a:t>
            </a:r>
            <a:r>
              <a:rPr b="0" i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  (2) 2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차년도</a:t>
            </a:r>
            <a:r>
              <a:rPr b="0" i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(☞ 2</a:t>
            </a:r>
            <a:r>
              <a:rPr b="0" i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차년도 사업과제가 아닌 경우에는 동 항목을 전체 삭제</a:t>
            </a:r>
            <a:r>
              <a:rPr b="0" i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     ① 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개발목표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br>
              <a:rPr sz="1200"/>
            </a:b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     ② 개발내용 및 범위</a:t>
            </a:r>
            <a:r>
              <a:rPr b="0" i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(</a:t>
            </a:r>
            <a:r>
              <a:rPr b="0" i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시스템 구성도</a:t>
            </a:r>
            <a:r>
              <a:rPr b="0" i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, </a:t>
            </a:r>
            <a:r>
              <a:rPr b="0" i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구조 등을 그림으로 구체적 표현</a:t>
            </a:r>
            <a:r>
              <a:rPr b="0" i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89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4"/>
          <p:cNvSpPr/>
          <p:nvPr/>
        </p:nvSpPr>
        <p:spPr>
          <a:xfrm>
            <a:off x="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791" name=""/>
          <p:cNvGraphicFramePr/>
          <p:nvPr/>
        </p:nvGraphicFramePr>
        <p:xfrm>
          <a:off x="250920" y="1197000"/>
          <a:ext cx="8642160" cy="5111640"/>
        </p:xfrm>
        <a:graphic>
          <a:graphicData uri="http://schemas.openxmlformats.org/drawingml/2006/table">
            <a:tbl>
              <a:tblPr/>
              <a:tblGrid>
                <a:gridCol w="887400"/>
                <a:gridCol w="7754760"/>
              </a:tblGrid>
              <a:tr h="26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작성요령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6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최종목표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/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차별 개발목표 및 내용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기술개발의 최종목표와 연차별 개발목표 및 내용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범위를 기술적 측면에서 명확성과 상호연계성이 유지되도록 </a:t>
                      </a:r>
                      <a:r>
                        <a:rPr b="0" lang="ko-KR" sz="1100" spc="-1" strike="noStrike" u="sng">
                          <a:solidFill>
                            <a:srgbClr val="000000"/>
                          </a:solidFill>
                          <a:uFillTx/>
                          <a:latin typeface="HY견고딕"/>
                          <a:ea typeface="휴먼명조,한컴돋움"/>
                        </a:rPr>
                        <a:t>개조식으로 구체적으로 서술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개발목표는 개발하고자 하는 기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또는 공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)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의 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성능 품질을 가능한 한 </a:t>
                      </a:r>
                      <a:r>
                        <a:rPr b="0" lang="ko-KR" sz="1100" spc="-1" strike="noStrike" u="sng">
                          <a:solidFill>
                            <a:srgbClr val="000000"/>
                          </a:solidFill>
                          <a:uFillTx/>
                          <a:latin typeface="HY견고딕"/>
                          <a:ea typeface="휴먼명조,한컴돋움"/>
                        </a:rPr>
                        <a:t>정량적으로 기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개발내용 및 범위는 타 연구개발사업과제와 기존 연구수행 내용에 대하여 충분히 사전 조사하여 기지원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기개발과제와 중복되지 않도록 차별성 있는 내용으로 서술하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목표달성을 위해 수행할 세부내용 및 이에 대한 구체적 설명을 서술하되 </a:t>
                      </a:r>
                      <a:r>
                        <a:rPr b="0" lang="ko-KR" sz="1100" spc="-1" strike="noStrike" u="sng">
                          <a:solidFill>
                            <a:srgbClr val="000000"/>
                          </a:solidFill>
                          <a:uFillTx/>
                          <a:latin typeface="HY견고딕"/>
                          <a:ea typeface="휴먼명조,한컴돋움"/>
                        </a:rPr>
                        <a:t>시스템 구성 및 구조도는 가능한 한 그림으로 표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차별 개발내용 및 범위는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1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차년도 작성항목과 동일하게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2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차년도를 반복하여 작성하되 </a:t>
                      </a:r>
                      <a:r>
                        <a:rPr b="0" lang="ko-KR" sz="1100" spc="-1" strike="noStrike" u="sng">
                          <a:solidFill>
                            <a:srgbClr val="000000"/>
                          </a:solidFill>
                          <a:uFillTx/>
                          <a:latin typeface="HY견고딕"/>
                          <a:ea typeface="휴먼명조,한컴돋움"/>
                        </a:rPr>
                        <a:t>연차별 차별화를 제시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차별 주요개발내용 작성시 시제품이 제작되는 경우 제작할 시제품의 </a:t>
                      </a:r>
                      <a:r>
                        <a:rPr b="0" lang="ko-KR" sz="1100" spc="-1" strike="noStrike" u="sng">
                          <a:solidFill>
                            <a:srgbClr val="000000"/>
                          </a:solidFill>
                          <a:uFillTx/>
                          <a:latin typeface="HY견고딕"/>
                          <a:ea typeface="휴먼명조,한컴돋움"/>
                        </a:rPr>
                        <a:t>목표</a:t>
                      </a: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 u="sng">
                          <a:solidFill>
                            <a:srgbClr val="000000"/>
                          </a:solidFill>
                          <a:uFillTx/>
                          <a:latin typeface="HY견고딕"/>
                          <a:ea typeface="휴먼명조,한컴돋움"/>
                        </a:rPr>
                        <a:t>사양</a:t>
                      </a: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 u="sng">
                          <a:solidFill>
                            <a:srgbClr val="000000"/>
                          </a:solidFill>
                          <a:uFillTx/>
                          <a:latin typeface="HY견고딕"/>
                          <a:ea typeface="휴먼명조,한컴돋움"/>
                        </a:rPr>
                        <a:t>성능</a:t>
                      </a: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 u="sng">
                          <a:solidFill>
                            <a:srgbClr val="000000"/>
                          </a:solidFill>
                          <a:uFillTx/>
                          <a:latin typeface="HY견고딕"/>
                          <a:ea typeface="휴먼명조,한컴돋움"/>
                        </a:rPr>
                        <a:t>용도</a:t>
                      </a: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 u="sng">
                          <a:solidFill>
                            <a:srgbClr val="000000"/>
                          </a:solidFill>
                          <a:uFillTx/>
                          <a:latin typeface="HY견고딕"/>
                          <a:ea typeface="휴먼명조,한컴돋움"/>
                        </a:rPr>
                        <a:t>기능 등을 명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총 개발기간에 해당되는 연차별 사항 기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)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수행 과정 중 예측되는 장애 요소 및 그것을 해결하기 위한 </a:t>
                      </a:r>
                      <a:r>
                        <a:rPr b="0" lang="ko-KR" sz="1100" spc="-1" strike="noStrike" u="sng">
                          <a:solidFill>
                            <a:srgbClr val="000000"/>
                          </a:solidFill>
                          <a:uFillTx/>
                          <a:latin typeface="HY견고딕"/>
                          <a:ea typeface="휴먼명조,한컴돋움"/>
                        </a:rPr>
                        <a:t>기술적 해결 방안 등을 구체적으로 서술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평가방법 및 평가항목은 다음에 따라 작성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기술개발 및 목표와 상호 연계성이 유지되도록 작성하고 연차별로 예상되는 결과물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특허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기술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성능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품질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시제품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도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기술문서 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)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을 기재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주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1)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주요성능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Spec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은 정밀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회수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열효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인장강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내충격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작동전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응답시간 등 기술적 성능판단 기준이 되는 것을 의미하며 분야별 개발내용에 적정하게 항목에 따라 구체적으로 수치화하여 반드시 제시 하여함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주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2)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비중은 각 구성성능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Spec.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의 최종목표에 대한 상대적 중요도를 말함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주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3)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평가방법은 공인규격상의 시험검사방법을 기재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예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:KS···, JIS···)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 ☞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분야별 성능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Spec.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을 참조하여 작성할 것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핵심 키워드는 다음에 따라 작성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동 개발과제의 핵심적 용어로써 과제 관련 특수용어를 의미함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관련 산업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협회나 학회 등에서 일반화된 정식 명칭을 기재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5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개 이상의 단어를 한글 및 영문으로 반드시 기입하여야 함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2" name="Rectangle 126"/>
          <p:cNvSpPr/>
          <p:nvPr/>
        </p:nvSpPr>
        <p:spPr>
          <a:xfrm>
            <a:off x="0" y="703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93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4"/>
          <p:cNvSpPr/>
          <p:nvPr/>
        </p:nvSpPr>
        <p:spPr>
          <a:xfrm>
            <a:off x="539640" y="116352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예시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과제명：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Nd-Fe-B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계 자석개발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539640" y="1628640"/>
          <a:ext cx="8064720" cy="3662640"/>
        </p:xfrm>
        <a:graphic>
          <a:graphicData uri="http://schemas.openxmlformats.org/drawingml/2006/table">
            <a:tbl>
              <a:tblPr/>
              <a:tblGrid>
                <a:gridCol w="416160"/>
                <a:gridCol w="1089000"/>
                <a:gridCol w="738000"/>
                <a:gridCol w="700200"/>
                <a:gridCol w="1357200"/>
                <a:gridCol w="995400"/>
                <a:gridCol w="831960"/>
                <a:gridCol w="834840"/>
                <a:gridCol w="1101960"/>
              </a:tblGrid>
              <a:tr h="39852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평 가 항 목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주요성능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Spec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단위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비중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2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세계최고수준 보유국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/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보유기업</a:t>
                      </a:r>
                      <a:endParaRPr b="0" lang="en-US" sz="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(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/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연구개발전</a:t>
                      </a:r>
                      <a:endParaRPr b="0" lang="en-US" sz="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국내 수준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개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발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목표치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평가방법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3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98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성능수준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성능수준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당해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최종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자</a:t>
                      </a:r>
                      <a:endParaRPr b="0" lang="en-US" sz="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기</a:t>
                      </a:r>
                      <a:endParaRPr b="0" lang="en-US" sz="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적</a:t>
                      </a:r>
                      <a:endParaRPr b="0" lang="en-US" sz="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특</a:t>
                      </a:r>
                      <a:endParaRPr b="0" lang="en-US" sz="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성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잔류자속밀도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Br(T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.2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.2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.2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.2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KSC2501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JISC250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보자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(bHc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kA/m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88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80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85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87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보자력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(Hic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kA/m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96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90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94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96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최대에너지적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kJ/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㎥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9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29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23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24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28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Br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의 온도계수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%/K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-0.12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-0.12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-0.12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-0.12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iHc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온도계수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%/K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-0.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-0.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-0.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-0.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물</a:t>
                      </a:r>
                      <a:endParaRPr b="0" lang="en-US" sz="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리</a:t>
                      </a:r>
                      <a:endParaRPr b="0" lang="en-US" sz="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적</a:t>
                      </a:r>
                      <a:endParaRPr b="0" lang="en-US" sz="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특</a:t>
                      </a:r>
                      <a:endParaRPr b="0" lang="en-US" sz="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성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밀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 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도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Mg/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㎥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7.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7.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7.3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7.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전기저항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‧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m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.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.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.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.39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비커스 경도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-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600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580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600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600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곡 강 도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MPa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25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23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24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24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인장강도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MPa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8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7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79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79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0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6" name="Rectangle 755"/>
          <p:cNvSpPr/>
          <p:nvPr/>
        </p:nvSpPr>
        <p:spPr>
          <a:xfrm>
            <a:off x="468360" y="5482080"/>
            <a:ext cx="8453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HY헤드라인M"/>
                <a:ea typeface="휴먼명조,한컴돋움"/>
              </a:rPr>
              <a:t>주</a:t>
            </a:r>
            <a:r>
              <a:rPr b="0" lang="en-US" sz="1200" spc="-1" strike="noStrike">
                <a:solidFill>
                  <a:srgbClr val="000000"/>
                </a:solidFill>
                <a:latin typeface="HY헤드라인M"/>
                <a:ea typeface="휴먼명조,한컴돋움"/>
              </a:rPr>
              <a:t>) 1) </a:t>
            </a:r>
            <a:r>
              <a:rPr b="0" lang="ko-KR" sz="1200" spc="-1" strike="noStrike">
                <a:solidFill>
                  <a:srgbClr val="000000"/>
                </a:solidFill>
                <a:latin typeface="HY헤드라인M"/>
                <a:ea typeface="휴먼명조,한컴돋움"/>
              </a:rPr>
              <a:t>주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요성능의 수치적 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Spec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은 정밀도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회수율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열효율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인장강도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내충격성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작동전압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응답 시간등 기술적 성능판단기준이 되는 것을 말함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    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2) 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비중은 각 구성성능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Spec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의 최종목표에 대한 상대적 중요도를 말함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    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3) 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평가방법은 공인규격상의 시험검사 방법을 기재하여야 하며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예：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KS…, JIS…)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공적 인증기관에서 성적서 첨부를 원칙으로 하되 불가능한 경우 평가 받을 수 있는 방법을 기재함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97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5"/>
          <p:cNvSpPr/>
          <p:nvPr/>
        </p:nvSpPr>
        <p:spPr>
          <a:xfrm>
            <a:off x="0" y="22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799" name="Rectangle 50"/>
          <p:cNvSpPr/>
          <p:nvPr/>
        </p:nvSpPr>
        <p:spPr>
          <a:xfrm>
            <a:off x="324000" y="1340280"/>
            <a:ext cx="864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휴먼명조,한컴돋움"/>
                <a:ea typeface="휴먼명조,한컴돋움"/>
              </a:rPr>
              <a:t>4. </a:t>
            </a:r>
            <a:r>
              <a:rPr b="1" lang="ko-KR" sz="1400" spc="-1" strike="noStrike">
                <a:solidFill>
                  <a:srgbClr val="000000"/>
                </a:solidFill>
                <a:latin typeface="휴먼명조,한컴돋움"/>
                <a:ea typeface="휴먼명조,한컴돋움"/>
              </a:rPr>
              <a:t>기술개발 추진방법</a:t>
            </a:r>
            <a:r>
              <a:rPr b="1" lang="en-US" sz="1400" spc="-1" strike="noStrike">
                <a:solidFill>
                  <a:srgbClr val="000000"/>
                </a:solidFill>
                <a:latin typeface="휴먼명조,한컴돋움"/>
                <a:ea typeface="휴먼명조,한컴돋움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휴먼명조,한컴돋움"/>
                <a:ea typeface="휴먼명조,한컴돋움"/>
              </a:rPr>
              <a:t>전략 및 체계 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휴먼명조,한컴돋움"/>
              </a:rPr>
              <a:t>  </a:t>
            </a:r>
            <a:r>
              <a:rPr b="1" lang="en-US" sz="1400" spc="-1" strike="noStrike">
                <a:solidFill>
                  <a:srgbClr val="000000"/>
                </a:solidFill>
                <a:latin typeface="휴먼명조,한컴돋움"/>
                <a:ea typeface="휴먼명조,한컴돋움"/>
              </a:rPr>
              <a:t>4-1. </a:t>
            </a:r>
            <a:r>
              <a:rPr b="1" lang="ko-KR" sz="1400" spc="-1" strike="noStrike">
                <a:solidFill>
                  <a:srgbClr val="000000"/>
                </a:solidFill>
                <a:latin typeface="휴먼명조,한컴돋움"/>
                <a:ea typeface="휴먼명조,한컴돋움"/>
              </a:rPr>
              <a:t>기술개발 추진방법</a:t>
            </a:r>
            <a:r>
              <a:rPr b="1" lang="en-US" sz="1400" spc="-1" strike="noStrike">
                <a:solidFill>
                  <a:srgbClr val="000000"/>
                </a:solidFill>
                <a:latin typeface="휴먼명조,한컴돋움"/>
                <a:ea typeface="휴먼명조,한컴돋움"/>
              </a:rPr>
              <a:t>․</a:t>
            </a:r>
            <a:r>
              <a:rPr b="1" lang="ko-KR" sz="1400" spc="-1" strike="noStrike">
                <a:solidFill>
                  <a:srgbClr val="000000"/>
                </a:solidFill>
                <a:latin typeface="휴먼명조,한컴돋움"/>
                <a:ea typeface="휴먼명조,한컴돋움"/>
              </a:rPr>
              <a:t>전략</a:t>
            </a:r>
            <a:r>
              <a:rPr b="1" lang="ko-KR" sz="1400" spc="-1" strike="noStrike">
                <a:solidFill>
                  <a:srgbClr val="000000"/>
                </a:solidFill>
                <a:latin typeface="휴먼명조,한컴돋움"/>
                <a:ea typeface="휴먼명조,한컴돋움"/>
              </a:rPr>
              <a:t> 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800" name="Rectangle 51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801" name=""/>
          <p:cNvGraphicFramePr/>
          <p:nvPr/>
        </p:nvGraphicFramePr>
        <p:xfrm>
          <a:off x="539640" y="3789360"/>
          <a:ext cx="7848720" cy="1652760"/>
        </p:xfrm>
        <a:graphic>
          <a:graphicData uri="http://schemas.openxmlformats.org/drawingml/2006/table">
            <a:tbl>
              <a:tblPr/>
              <a:tblGrid>
                <a:gridCol w="1243080"/>
                <a:gridCol w="660564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작성 요령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1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기술개발 추진방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전략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개발목표달성을 위하여 무엇을 활용하고 어떻게 수행할 것인지 등 수행방법을 구체적으로 서술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세부개발내용별 수행방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수행과정 중 예측되는 장애요소 및 그 해결방안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계획된 실험과정 등을 기술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기술개발 추진체계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개발내용의 연차별 목표와 상호간의 연관관계 및 선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후 관계를 구체적이고 명확하게 나타날 수 있도록 상세하게 작성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2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4"/>
          <p:cNvSpPr/>
          <p:nvPr/>
        </p:nvSpPr>
        <p:spPr>
          <a:xfrm>
            <a:off x="468360" y="1125000"/>
            <a:ext cx="831672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신명 신문명조,한컴돋움"/>
                <a:ea typeface="HY견고딕"/>
              </a:rPr>
              <a:t>4-4. </a:t>
            </a:r>
            <a:r>
              <a:rPr b="1" lang="ko-KR" sz="1200" spc="-1" strike="noStrike">
                <a:solidFill>
                  <a:srgbClr val="000000"/>
                </a:solidFill>
                <a:latin typeface="신명 신문명조,한컴돋움"/>
                <a:ea typeface="HY견고딕"/>
              </a:rPr>
              <a:t>위탁과제 계획</a:t>
            </a:r>
            <a:r>
              <a:rPr b="1" lang="ko-KR" sz="1100" spc="-1" strike="noStrike">
                <a:solidFill>
                  <a:srgbClr val="0066ff"/>
                </a:solidFill>
                <a:latin typeface="HY헤드라인M"/>
                <a:ea typeface="HY견고딕"/>
              </a:rPr>
              <a:t> </a:t>
            </a:r>
            <a:endParaRPr b="0" lang="en-US" sz="11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468360" y="1341360"/>
          <a:ext cx="8351640" cy="3616560"/>
        </p:xfrm>
        <a:graphic>
          <a:graphicData uri="http://schemas.openxmlformats.org/drawingml/2006/table">
            <a:tbl>
              <a:tblPr/>
              <a:tblGrid>
                <a:gridCol w="2916360"/>
                <a:gridCol w="1866600"/>
                <a:gridCol w="1140120"/>
                <a:gridCol w="242856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과제명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연구책임자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사업자등록번호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        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소속기관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: oo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대학교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 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 부서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: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전자공학과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직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) :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교수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 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 성명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: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홍길동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  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 주민등록번호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        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연구기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연구개발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         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천원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필요성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목표 및 내용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수행방법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                      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기술개발 수행방법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활 용 계 획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한양신명조,한컴돋움"/>
                          <a:ea typeface="휴먼명조"/>
                        </a:rPr>
                        <a:t>수행기관 및 수행책임자 선정근거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한양신명조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5" name="Rectangle 525"/>
          <p:cNvSpPr/>
          <p:nvPr/>
        </p:nvSpPr>
        <p:spPr>
          <a:xfrm>
            <a:off x="0" y="239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468360" y="5103720"/>
          <a:ext cx="8351640" cy="1203480"/>
        </p:xfrm>
        <a:graphic>
          <a:graphicData uri="http://schemas.openxmlformats.org/drawingml/2006/table">
            <a:tbl>
              <a:tblPr/>
              <a:tblGrid>
                <a:gridCol w="1420920"/>
                <a:gridCol w="1523880"/>
                <a:gridCol w="1482840"/>
                <a:gridCol w="39240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작성 요령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1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◦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위탁과제 내용에는 목차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&lt;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휴먼명조,한컴돋움"/>
                        </a:rPr>
                        <a:t>2.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휴먼명조,한컴돋움"/>
                        </a:rPr>
                        <a:t>기술개발의 목표 및 내용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&gt;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과 연계하여 수행할 과제내용을 해야하는 타당성을 설득력 있게 작성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◦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위탁과제 수에는 제한이 없으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총 위탁과제의 위탁연구개발비는 수행기관의 인건비 및 직접비 합의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40%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를 초과할 수 없음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.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◦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연구기간의 날짜 형식은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2009.01∼2009.12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와 같이 기재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◦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불필요한 위탁과제는 없는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전체 과제수행과 연계하여 반드시 필요한 것인 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명조,한컴돋움"/>
                          <a:ea typeface="한컴바탕"/>
                        </a:rPr>
                        <a:t>또한 주관기관에서 직접 수행할 수는 없는지 고력하여 작성할 것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7" name="Rectangle 560"/>
          <p:cNvSpPr/>
          <p:nvPr/>
        </p:nvSpPr>
        <p:spPr>
          <a:xfrm>
            <a:off x="0" y="445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808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4"/>
          <p:cNvSpPr/>
          <p:nvPr/>
        </p:nvSpPr>
        <p:spPr>
          <a:xfrm>
            <a:off x="250920" y="1279440"/>
            <a:ext cx="91440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7. 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총사업비</a:t>
            </a:r>
            <a:r>
              <a:rPr b="1" lang="ko-KR" sz="1100" spc="-1" strike="noStrike">
                <a:solidFill>
                  <a:srgbClr val="0066ff"/>
                </a:solidFill>
                <a:latin typeface="HY견고딕"/>
              </a:rPr>
              <a:t> </a:t>
            </a:r>
            <a:endParaRPr b="0" lang="en-US" sz="1100" spc="-1" strike="noStrike">
              <a:solidFill>
                <a:srgbClr val="0066ff"/>
              </a:solidFill>
              <a:latin typeface="HY헤드라인M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  </a:t>
            </a: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7-1. </a:t>
            </a: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연차별 총괄</a:t>
            </a: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(</a:t>
            </a: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천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원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810" name=""/>
          <p:cNvGraphicFramePr/>
          <p:nvPr/>
        </p:nvGraphicFramePr>
        <p:xfrm>
          <a:off x="755640" y="1773360"/>
          <a:ext cx="7596360" cy="1812960"/>
        </p:xfrm>
        <a:graphic>
          <a:graphicData uri="http://schemas.openxmlformats.org/drawingml/2006/table">
            <a:tbl>
              <a:tblPr/>
              <a:tblGrid>
                <a:gridCol w="835200"/>
                <a:gridCol w="974520"/>
                <a:gridCol w="1165320"/>
                <a:gridCol w="873000"/>
                <a:gridCol w="1166760"/>
                <a:gridCol w="873360"/>
                <a:gridCol w="1708200"/>
              </a:tblGrid>
              <a:tr h="26136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구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  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차년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(20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2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차년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(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합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261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금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액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%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금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액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%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정 부 출 연 금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민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간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부담금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현 금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현 물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합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   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1" name="Rectangle 283"/>
          <p:cNvSpPr/>
          <p:nvPr/>
        </p:nvSpPr>
        <p:spPr>
          <a:xfrm>
            <a:off x="324000" y="3411720"/>
            <a:ext cx="262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  </a:t>
            </a: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7-2. </a:t>
            </a: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비목별 총괄</a:t>
            </a:r>
            <a:r>
              <a:rPr b="1" lang="ko-KR" sz="1100" spc="-1" strike="noStrike">
                <a:solidFill>
                  <a:srgbClr val="0066ff"/>
                </a:solidFill>
                <a:latin typeface="HY견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천원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812" name=""/>
          <p:cNvGraphicFramePr/>
          <p:nvPr/>
        </p:nvGraphicFramePr>
        <p:xfrm>
          <a:off x="755640" y="4076640"/>
          <a:ext cx="7561440" cy="2022480"/>
        </p:xfrm>
        <a:graphic>
          <a:graphicData uri="http://schemas.openxmlformats.org/drawingml/2006/table">
            <a:tbl>
              <a:tblPr/>
              <a:tblGrid>
                <a:gridCol w="1181160"/>
                <a:gridCol w="928800"/>
                <a:gridCol w="928440"/>
                <a:gridCol w="927360"/>
                <a:gridCol w="928440"/>
                <a:gridCol w="901800"/>
                <a:gridCol w="851040"/>
                <a:gridCol w="914400"/>
              </a:tblGrid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목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1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차년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(20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2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차년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(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총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현금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현물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현물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현물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현금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현물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27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인 건 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직 접 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간 접 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위탁연구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개발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-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-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-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합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,한컴돋움"/>
                        </a:rPr>
                        <a:t> 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3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4"/>
          <p:cNvSpPr/>
          <p:nvPr/>
        </p:nvSpPr>
        <p:spPr>
          <a:xfrm>
            <a:off x="0" y="6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815" name=""/>
          <p:cNvGraphicFramePr/>
          <p:nvPr/>
        </p:nvGraphicFramePr>
        <p:xfrm>
          <a:off x="324000" y="1700280"/>
          <a:ext cx="8459640" cy="4149720"/>
        </p:xfrm>
        <a:graphic>
          <a:graphicData uri="http://schemas.openxmlformats.org/drawingml/2006/table">
            <a:tbl>
              <a:tblPr/>
              <a:tblGrid>
                <a:gridCol w="1153800"/>
                <a:gridCol w="730584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작성 요령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&lt;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차별 총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&gt;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◦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차별 총괄은 총개발기간동안 매년 소요되는 개발비용을 정부출연금과 민간부담 현금 및 현물로 계상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◦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정부출연금은 공고 시의 ‘기술개발 수행체계’에 따른 지원 비율을 반드시 참조하여 작성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 ◦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정부출연금 계상 방법은 먼저 ‘비목별 소요 명세’를 계상하여 ‘비목별 총괄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현금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현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)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을 구한 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차별 사업비 총합계에서 민간 부담 현금을 공제한 현금 잔액임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 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[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예시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] 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총사업비가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억이고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정부출연금 비율이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75%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일 때 정부출연금은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억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민간부담금은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억원이 되며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민간부담금 현금은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억원 중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10%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인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천만원이고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나머지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9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천만원은 민간부담금 현물이 됨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 ◦ 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기업이 참여하는 과제의 연차별 민간부담금 중 현금부담비율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    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중소기업이 주관기관인 경우 또는 참여기업 중 중소기업 수의 비율이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2/3    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이상인 경우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: 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민간부담금의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10% 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이상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    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그 밖의 경우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: 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민간부담금의 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20% 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이상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◦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민간부담금 현물은 주관기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참여기업의 모든 현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인건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직접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)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을 의미함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◦ </a:t>
                      </a:r>
                      <a:r>
                        <a:rPr b="0" lang="ko-KR" sz="1200" spc="-1" strike="noStrike" u="sng">
                          <a:solidFill>
                            <a:srgbClr val="000000"/>
                          </a:solidFill>
                          <a:uFillTx/>
                          <a:latin typeface="HY견고딕"/>
                          <a:ea typeface="휴먼명조,한컴돋움"/>
                        </a:rPr>
                        <a:t>위탁기관의 경우 민간부담금 부담을 인정하지 않음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◦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기술개발사업비를 계상함에 있어서 천원 미만의 금액은 절사하여야 함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&lt;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비목별 총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&gt;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◦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차별 비목별 총괄표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(8-1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항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, 9-1</a:t>
                      </a:r>
                      <a:r>
                        <a:rPr b="0" lang="ko-KR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항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HY견고딕"/>
                          <a:ea typeface="휴먼명조,한컴돋움"/>
                        </a:rPr>
                        <a:t>)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에 의거하여 작성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&lt;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사업비 계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&gt;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◦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뒤편의 사업비 계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비목별 소요 명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)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작성시에는 별첨의 “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사업비 비목별 사용 용도 및 계상 기준”과 “사업비 산정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관리 및 사용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정산에 관한 요령”을 필히 참조하여 작성할 것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 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16" name="Rectangle 47"/>
          <p:cNvSpPr/>
          <p:nvPr/>
        </p:nvSpPr>
        <p:spPr>
          <a:xfrm>
            <a:off x="0" y="678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817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4"/>
          <p:cNvSpPr/>
          <p:nvPr/>
        </p:nvSpPr>
        <p:spPr>
          <a:xfrm>
            <a:off x="539640" y="1267200"/>
            <a:ext cx="7236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8. 1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차년도 사업비 비목별 세부내역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  </a:t>
            </a: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8-1. 1</a:t>
            </a: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차년도 비목별 총괄</a:t>
            </a:r>
            <a:r>
              <a:rPr b="1" lang="ko-KR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 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단위 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천원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,한컴돋움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휴먼명조"/>
              </a:rPr>
              <a:t> </a:t>
            </a:r>
            <a:endParaRPr b="0" lang="en-US" sz="12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538200" y="1773360"/>
          <a:ext cx="8210520" cy="2911320"/>
        </p:xfrm>
        <a:graphic>
          <a:graphicData uri="http://schemas.openxmlformats.org/drawingml/2006/table">
            <a:tbl>
              <a:tblPr/>
              <a:tblGrid>
                <a:gridCol w="3524040"/>
                <a:gridCol w="1204920"/>
                <a:gridCol w="1203480"/>
                <a:gridCol w="1249200"/>
                <a:gridCol w="1028880"/>
              </a:tblGrid>
              <a:tr h="29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비      목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현    금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현    물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계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구성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%)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1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인건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1.1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내부인건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1.2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외부인건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2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직접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2.1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시설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장비 및 재료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2.2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활동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2.3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수당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3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간접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4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위탁연구개발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합      계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바탕"/>
                        </a:rPr>
                        <a:t> 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100%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0" name="Rectangle 364"/>
          <p:cNvSpPr/>
          <p:nvPr/>
        </p:nvSpPr>
        <p:spPr>
          <a:xfrm>
            <a:off x="0" y="624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821" name="Rectangle 369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539640" y="4724280"/>
          <a:ext cx="8209080" cy="1606680"/>
        </p:xfrm>
        <a:graphic>
          <a:graphicData uri="http://schemas.openxmlformats.org/drawingml/2006/table">
            <a:tbl>
              <a:tblPr/>
              <a:tblGrid>
                <a:gridCol w="1324080"/>
                <a:gridCol w="6885000"/>
              </a:tblGrid>
              <a:tr h="29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작성 요령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◦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상기 비목별 총괄은 수행기관 전체의 비목별 소요 예산 합계임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◦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사업비 표기 시 천원 이하는 절사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◦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8-2, 8-3, 8-4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를 먼저 계상한 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상기의 ‘비목별 총괄표’를 작성할 것</a:t>
                      </a:r>
                      <a:endParaRPr b="0" lang="en-US" sz="11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※ </a:t>
                      </a:r>
                      <a:r>
                        <a:rPr b="1" i="1" lang="en-US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1</a:t>
                      </a:r>
                      <a:r>
                        <a:rPr b="1" i="1" lang="ko-KR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개 구입 단가 또는 </a:t>
                      </a:r>
                      <a:r>
                        <a:rPr b="1" i="1" lang="en-US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1</a:t>
                      </a:r>
                      <a:r>
                        <a:rPr b="1" i="1" lang="ko-KR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건 구입하는 소요 금액이 </a:t>
                      </a:r>
                      <a:r>
                        <a:rPr b="1" i="1" lang="en-US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5,000</a:t>
                      </a:r>
                      <a:r>
                        <a:rPr b="1" i="1" lang="ko-KR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만원 이상인 경우 그 사유를 하단에 서술하여야 함</a:t>
                      </a:r>
                      <a:r>
                        <a:rPr b="0" lang="ko-KR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 </a:t>
                      </a:r>
                      <a:endParaRPr b="0" lang="en-US" sz="12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※ </a:t>
                      </a:r>
                      <a:r>
                        <a:rPr b="1" i="1" lang="ko-KR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단가 </a:t>
                      </a:r>
                      <a:r>
                        <a:rPr b="1" i="1" lang="en-US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1</a:t>
                      </a:r>
                      <a:r>
                        <a:rPr b="1" i="1" lang="ko-KR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억원 이상의 연구기자재 및 시설물</a:t>
                      </a:r>
                      <a:r>
                        <a:rPr b="1" i="1" lang="en-US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(</a:t>
                      </a:r>
                      <a:r>
                        <a:rPr b="1" i="1" lang="ko-KR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실험</a:t>
                      </a:r>
                      <a:r>
                        <a:rPr b="1" i="1" lang="en-US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․</a:t>
                      </a:r>
                      <a:r>
                        <a:rPr b="1" i="1" lang="ko-KR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측정 장비 등</a:t>
                      </a:r>
                      <a:r>
                        <a:rPr b="1" i="1" lang="en-US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)</a:t>
                      </a:r>
                      <a:r>
                        <a:rPr b="1" i="1" lang="ko-KR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은 </a:t>
                      </a:r>
                      <a:r>
                        <a:rPr b="1" i="1" lang="en-US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www.infranet.or.kr</a:t>
                      </a:r>
                      <a:r>
                        <a:rPr b="1" i="1" lang="ko-KR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을 검색하여 임차 방안을 우선적으로 검토하여야 함</a:t>
                      </a:r>
                      <a:r>
                        <a:rPr b="1" lang="ko-KR" sz="1200" spc="-1" strike="noStrike">
                          <a:solidFill>
                            <a:srgbClr val="ff0101"/>
                          </a:solidFill>
                          <a:latin typeface="휴먼명조,한컴돋움"/>
                          <a:ea typeface="휴먼명조,한컴돋움"/>
                        </a:rPr>
                        <a:t> </a:t>
                      </a:r>
                      <a:r>
                        <a:rPr b="0" lang="ko-KR" sz="1100" spc="-1" strike="noStrike">
                          <a:solidFill>
                            <a:srgbClr val="ff0101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3" name="Rectangle 411"/>
          <p:cNvSpPr/>
          <p:nvPr/>
        </p:nvSpPr>
        <p:spPr>
          <a:xfrm>
            <a:off x="0" y="40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824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144360" y="1192320"/>
          <a:ext cx="8820360" cy="5211720"/>
        </p:xfrm>
        <a:graphic>
          <a:graphicData uri="http://schemas.openxmlformats.org/drawingml/2006/table">
            <a:tbl>
              <a:tblPr/>
              <a:tblGrid>
                <a:gridCol w="540000"/>
                <a:gridCol w="718920"/>
                <a:gridCol w="3889440"/>
                <a:gridCol w="3672000"/>
              </a:tblGrid>
              <a:tr h="215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구 분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사용 용도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계상 기준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비목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세목</a:t>
                      </a:r>
                      <a:r>
                        <a:rPr b="1" lang="ko-KR" sz="8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8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8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인건비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내부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인건비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수행기관 소속 연구원이 해당 기술혁신사업에 직접 참여하는 경우 지급되는 인건비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수행기관의 급여기준에 따른 사업기간 동안의 실지급액을 과제참여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100%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를 초과하지 못한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)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에 따라 계상한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.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대학교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기업 소속 연구원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국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공립연구소 등 원 소속기관으로부터 지급받는 인건비에 해당하는 부분은 현물로 계상하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현금으로 지급하지 아니함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제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21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조제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3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항 각 호에 해당하는 경우 기업 소속 연구원의 인건비에 한해 현금으로 지급할 수 있음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외부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인건비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수행기관에 소속되어 있지 아니하나 해당 기술혁신사업에 참여하는 연구원에게 지급되는 인건비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비관리 우수기관으로 인증된 대학 및 교육과학기술부장관이 별도로 정하는 대학에 대해서는 학생연구원 인건비를 과제에 직･간접적으로 기여하는 학생연구원에게 지급할 수 있음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소속기관의 급여기준에 따른 사업기간 동안의 실지급액을 해당과제 참여율에 따라 계상한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.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대학의 학생연구원에게 지급되는 인건비는 별도로 정한 기준에 따라 해당 과제별 투입되는 인원 총량으로 계상한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.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대학의 학생연구원에게 지급되는 인건비는 연구책임자가 공동 관리를 해서는 아니 된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직접비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시설･장비 및 재료비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해당과제에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1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개월 이상 사용할 수 있는 기기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장비와 부수 기자재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해당과제 수행과 관련 없는 개인용 컴퓨터는 제외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)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시설의 설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구입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임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사용에 관한 경비와 운영비 등 부대 경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기술기반의 조성을 목적으로 하는 사업의 경우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건축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부지 매입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조성비 등 포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)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시약 및 재료의 구입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사용 경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시험 분석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전산처리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관리비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시제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시작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시험설비 제작 경비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실소요 경비를 계상하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현물의 계상기준은 장관이 별도로 정하는 바에 따른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.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활동비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과제에 직접 참여하는 연구자의 국내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외 출장여비 및 시내교통비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과제와 직접 관련 있는 인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복사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인화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슬라이드 제작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공공요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제세공과금 및 수수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사무용품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환경 유지를 위한 기기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비품의 구입･유지 비용 등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과제와 직접 관련 있는 전문가 활용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국내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외 훈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기술정보수집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도서 등 문헌 구입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회의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세미나 개최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학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세미나 참가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원고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통역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속기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기술도입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특허정보조사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정보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DB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및 네트워크 사용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사업화전략 및 엔지니어링 컨설팅 비용 등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세부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단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)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과제가 있는 경우 해당 과제의 조정 및 관리에 필요한 경비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해당 과제 수행과 관련된 식대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수행기관이 정한 기준이 있는 경우 이에 따라 계상하며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별도로 정한 기준이 없는 경우 실소요 경비를 계상한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.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출장비의 경우 국･공립 대학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국･공립 연구기관 소속 연구원에 대해서는 공무원여비규정을 적용한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수당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해당과제 수행과 관련된 과제책임자 및 참여연구원의 보상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장려금 지급을 위한 수당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인건비의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20%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범위에서 계상한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그룹 15"/>
          <p:cNvGrpSpPr/>
          <p:nvPr/>
        </p:nvGrpSpPr>
        <p:grpSpPr>
          <a:xfrm>
            <a:off x="2143080" y="1357200"/>
            <a:ext cx="6643800" cy="746280"/>
            <a:chOff x="2143080" y="1357200"/>
            <a:chExt cx="6643800" cy="746280"/>
          </a:xfrm>
        </p:grpSpPr>
        <p:sp>
          <p:nvSpPr>
            <p:cNvPr id="125" name="Text Box 2144"/>
            <p:cNvSpPr/>
            <p:nvPr/>
          </p:nvSpPr>
          <p:spPr>
            <a:xfrm>
              <a:off x="2786040" y="1402920"/>
              <a:ext cx="589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600" spc="-1" strike="noStrike">
                  <a:solidFill>
                    <a:srgbClr val="0066ff"/>
                  </a:solidFill>
                  <a:latin typeface="HY헤드라인M"/>
                </a:rPr>
                <a:t> </a:t>
              </a:r>
              <a:r>
                <a:rPr b="1" lang="ko-KR" sz="3600" spc="-1" strike="noStrike">
                  <a:solidFill>
                    <a:srgbClr val="0066ff"/>
                  </a:solidFill>
                  <a:latin typeface="HY헤드라인M"/>
                </a:rPr>
                <a:t>지역</a:t>
              </a:r>
              <a:r>
                <a:rPr b="1" lang="en-US" sz="3600" spc="-1" strike="noStrike">
                  <a:solidFill>
                    <a:srgbClr val="0066ff"/>
                  </a:solidFill>
                  <a:latin typeface="HY헤드라인M"/>
                </a:rPr>
                <a:t>R&amp;D </a:t>
              </a:r>
              <a:r>
                <a:rPr b="1" lang="ko-KR" sz="3600" spc="-1" strike="noStrike">
                  <a:solidFill>
                    <a:srgbClr val="0066ff"/>
                  </a:solidFill>
                  <a:latin typeface="HY헤드라인M"/>
                </a:rPr>
                <a:t>프로그램단순화</a:t>
              </a:r>
              <a:endParaRPr b="0" lang="en-US" sz="36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26" name="AutoShape 23"/>
            <p:cNvSpPr/>
            <p:nvPr/>
          </p:nvSpPr>
          <p:spPr>
            <a:xfrm>
              <a:off x="2143080" y="2046960"/>
              <a:ext cx="6643800" cy="56520"/>
            </a:xfrm>
            <a:prstGeom prst="roundRect">
              <a:avLst>
                <a:gd name="adj" fmla="val 12963"/>
              </a:avLst>
            </a:prstGeom>
            <a:gradFill rotWithShape="0">
              <a:gsLst>
                <a:gs pos="0">
                  <a:srgbClr val="000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27" name="AutoShape 23"/>
            <p:cNvSpPr/>
            <p:nvPr/>
          </p:nvSpPr>
          <p:spPr>
            <a:xfrm>
              <a:off x="2746440" y="1357200"/>
              <a:ext cx="5897520" cy="45720"/>
            </a:xfrm>
            <a:prstGeom prst="roundRect">
              <a:avLst>
                <a:gd name="adj" fmla="val 12963"/>
              </a:avLst>
            </a:prstGeom>
            <a:gradFill rotWithShape="0">
              <a:gsLst>
                <a:gs pos="0">
                  <a:srgbClr val="000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128" name="그룹 14"/>
          <p:cNvGrpSpPr/>
          <p:nvPr/>
        </p:nvGrpSpPr>
        <p:grpSpPr>
          <a:xfrm>
            <a:off x="1285920" y="4285800"/>
            <a:ext cx="7143840" cy="841680"/>
            <a:chOff x="1285920" y="4285800"/>
            <a:chExt cx="7143840" cy="841680"/>
          </a:xfrm>
        </p:grpSpPr>
        <p:sp>
          <p:nvSpPr>
            <p:cNvPr id="129" name="Text Box 2144"/>
            <p:cNvSpPr/>
            <p:nvPr/>
          </p:nvSpPr>
          <p:spPr>
            <a:xfrm>
              <a:off x="1895400" y="4398840"/>
              <a:ext cx="617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3600" spc="-1" strike="noStrike">
                  <a:solidFill>
                    <a:srgbClr val="000000"/>
                  </a:solidFill>
                  <a:latin typeface="HY헤드라인M"/>
                </a:rPr>
                <a:t>상대평가제도 </a:t>
              </a:r>
              <a:r>
                <a:rPr b="1" lang="en-US" sz="2800" spc="-1" strike="noStrike">
                  <a:solidFill>
                    <a:srgbClr val="ff0000"/>
                  </a:solidFill>
                  <a:latin typeface="HY헤드라인M"/>
                </a:rPr>
                <a:t>(</a:t>
              </a:r>
              <a:r>
                <a:rPr b="1" lang="ko-KR" sz="2800" spc="-1" strike="noStrike">
                  <a:solidFill>
                    <a:srgbClr val="ff0000"/>
                  </a:solidFill>
                  <a:latin typeface="HY헤드라인M"/>
                </a:rPr>
                <a:t>중간평가시</a:t>
              </a:r>
              <a:r>
                <a:rPr b="1" lang="en-US" sz="2800" spc="-1" strike="noStrike">
                  <a:solidFill>
                    <a:srgbClr val="ff0000"/>
                  </a:solidFill>
                  <a:latin typeface="HY헤드라인M"/>
                </a:rPr>
                <a:t>)</a:t>
              </a:r>
              <a:endParaRPr b="0" lang="en-US" sz="28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30" name="AutoShape 23"/>
            <p:cNvSpPr/>
            <p:nvPr/>
          </p:nvSpPr>
          <p:spPr>
            <a:xfrm>
              <a:off x="1285920" y="5071680"/>
              <a:ext cx="6312240" cy="55800"/>
            </a:xfrm>
            <a:prstGeom prst="roundRect">
              <a:avLst>
                <a:gd name="adj" fmla="val 12963"/>
              </a:avLst>
            </a:prstGeom>
            <a:gradFill rotWithShape="0">
              <a:gsLst>
                <a:gs pos="0">
                  <a:srgbClr val="000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31" name="AutoShape 23"/>
            <p:cNvSpPr/>
            <p:nvPr/>
          </p:nvSpPr>
          <p:spPr>
            <a:xfrm flipV="1">
              <a:off x="1760400" y="4285080"/>
              <a:ext cx="6669360" cy="67320"/>
            </a:xfrm>
            <a:prstGeom prst="roundRect">
              <a:avLst>
                <a:gd name="adj" fmla="val 12963"/>
              </a:avLst>
            </a:prstGeom>
            <a:gradFill rotWithShape="0">
              <a:gsLst>
                <a:gs pos="0">
                  <a:srgbClr val="000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132" name="그룹 20"/>
          <p:cNvGrpSpPr/>
          <p:nvPr/>
        </p:nvGrpSpPr>
        <p:grpSpPr>
          <a:xfrm>
            <a:off x="1500120" y="3286080"/>
            <a:ext cx="7429680" cy="785880"/>
            <a:chOff x="1500120" y="3286080"/>
            <a:chExt cx="7429680" cy="785880"/>
          </a:xfrm>
        </p:grpSpPr>
        <p:sp>
          <p:nvSpPr>
            <p:cNvPr id="133" name="Text Box 2144"/>
            <p:cNvSpPr/>
            <p:nvPr/>
          </p:nvSpPr>
          <p:spPr>
            <a:xfrm>
              <a:off x="2135160" y="3336840"/>
              <a:ext cx="669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3600" spc="-1" strike="noStrike">
                  <a:solidFill>
                    <a:srgbClr val="000000"/>
                  </a:solidFill>
                  <a:latin typeface="HY헤드라인M"/>
                </a:rPr>
                <a:t>복수과제 경쟁지원 </a:t>
              </a:r>
              <a:r>
                <a:rPr b="1" lang="en-US" sz="2800" spc="-1" strike="noStrike">
                  <a:solidFill>
                    <a:srgbClr val="ff0000"/>
                  </a:solidFill>
                  <a:latin typeface="HY헤드라인M"/>
                </a:rPr>
                <a:t>(</a:t>
              </a:r>
              <a:r>
                <a:rPr b="1" lang="ko-KR" sz="2800" spc="-1" strike="noStrike">
                  <a:solidFill>
                    <a:srgbClr val="ff0000"/>
                  </a:solidFill>
                  <a:latin typeface="HY헤드라인M"/>
                </a:rPr>
                <a:t>과제지정형</a:t>
              </a:r>
              <a:r>
                <a:rPr b="1" lang="en-US" sz="2800" spc="-1" strike="noStrike">
                  <a:solidFill>
                    <a:srgbClr val="ff0000"/>
                  </a:solidFill>
                  <a:latin typeface="HY헤드라인M"/>
                </a:rPr>
                <a:t>)</a:t>
              </a:r>
              <a:endParaRPr b="0" lang="en-US" sz="28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34" name="AutoShape 23"/>
            <p:cNvSpPr/>
            <p:nvPr/>
          </p:nvSpPr>
          <p:spPr>
            <a:xfrm>
              <a:off x="1500120" y="4010760"/>
              <a:ext cx="6564600" cy="61200"/>
            </a:xfrm>
            <a:prstGeom prst="roundRect">
              <a:avLst>
                <a:gd name="adj" fmla="val 12963"/>
              </a:avLst>
            </a:prstGeom>
            <a:gradFill rotWithShape="0">
              <a:gsLst>
                <a:gs pos="0">
                  <a:srgbClr val="000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35" name="AutoShape 23"/>
            <p:cNvSpPr/>
            <p:nvPr/>
          </p:nvSpPr>
          <p:spPr>
            <a:xfrm flipV="1">
              <a:off x="1993680" y="3285720"/>
              <a:ext cx="6936120" cy="73440"/>
            </a:xfrm>
            <a:prstGeom prst="roundRect">
              <a:avLst>
                <a:gd name="adj" fmla="val 12963"/>
              </a:avLst>
            </a:prstGeom>
            <a:gradFill rotWithShape="0">
              <a:gsLst>
                <a:gs pos="0">
                  <a:srgbClr val="000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sp>
        <p:nvSpPr>
          <p:cNvPr id="136" name="Text Box 66"/>
          <p:cNvSpPr/>
          <p:nvPr/>
        </p:nvSpPr>
        <p:spPr>
          <a:xfrm>
            <a:off x="338040" y="152280"/>
            <a:ext cx="704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지역산업기술개발사업 변경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137" name="그룹 16"/>
          <p:cNvGrpSpPr/>
          <p:nvPr/>
        </p:nvGrpSpPr>
        <p:grpSpPr>
          <a:xfrm>
            <a:off x="1785960" y="2332080"/>
            <a:ext cx="6643800" cy="744480"/>
            <a:chOff x="1785960" y="2332080"/>
            <a:chExt cx="6643800" cy="744480"/>
          </a:xfrm>
        </p:grpSpPr>
        <p:sp>
          <p:nvSpPr>
            <p:cNvPr id="138" name="Text Box 2144"/>
            <p:cNvSpPr/>
            <p:nvPr/>
          </p:nvSpPr>
          <p:spPr>
            <a:xfrm>
              <a:off x="2428920" y="2377800"/>
              <a:ext cx="589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3600" spc="-1" strike="noStrike">
                  <a:solidFill>
                    <a:srgbClr val="0066ff"/>
                  </a:solidFill>
                  <a:latin typeface="HY헤드라인M"/>
                </a:rPr>
                <a:t> </a:t>
              </a:r>
              <a:r>
                <a:rPr b="1" lang="ko-KR" sz="3600" spc="-1" strike="noStrike">
                  <a:solidFill>
                    <a:srgbClr val="000000"/>
                  </a:solidFill>
                  <a:latin typeface="HY헤드라인M"/>
                </a:rPr>
                <a:t>연구비 부정신고센터 운영</a:t>
              </a:r>
              <a:endParaRPr b="0" lang="en-US" sz="36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39" name="AutoShape 23"/>
            <p:cNvSpPr/>
            <p:nvPr/>
          </p:nvSpPr>
          <p:spPr>
            <a:xfrm>
              <a:off x="1785960" y="3020400"/>
              <a:ext cx="6643800" cy="56160"/>
            </a:xfrm>
            <a:prstGeom prst="roundRect">
              <a:avLst>
                <a:gd name="adj" fmla="val 12963"/>
              </a:avLst>
            </a:prstGeom>
            <a:gradFill rotWithShape="0">
              <a:gsLst>
                <a:gs pos="0">
                  <a:srgbClr val="000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40" name="AutoShape 23"/>
            <p:cNvSpPr/>
            <p:nvPr/>
          </p:nvSpPr>
          <p:spPr>
            <a:xfrm>
              <a:off x="2389320" y="2332080"/>
              <a:ext cx="5897520" cy="45360"/>
            </a:xfrm>
            <a:prstGeom prst="roundRect">
              <a:avLst>
                <a:gd name="adj" fmla="val 12963"/>
              </a:avLst>
            </a:prstGeom>
            <a:gradFill rotWithShape="0">
              <a:gsLst>
                <a:gs pos="0">
                  <a:srgbClr val="000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141" name="그룹 14"/>
          <p:cNvGrpSpPr/>
          <p:nvPr/>
        </p:nvGrpSpPr>
        <p:grpSpPr>
          <a:xfrm>
            <a:off x="428760" y="5444640"/>
            <a:ext cx="7858080" cy="842040"/>
            <a:chOff x="428760" y="5444640"/>
            <a:chExt cx="7858080" cy="842040"/>
          </a:xfrm>
        </p:grpSpPr>
        <p:sp>
          <p:nvSpPr>
            <p:cNvPr id="142" name="Text Box 2144"/>
            <p:cNvSpPr/>
            <p:nvPr/>
          </p:nvSpPr>
          <p:spPr>
            <a:xfrm>
              <a:off x="1098360" y="5557680"/>
              <a:ext cx="718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3600" spc="-1" strike="noStrike">
                  <a:solidFill>
                    <a:srgbClr val="000000"/>
                  </a:solidFill>
                  <a:latin typeface="HY헤드라인M"/>
                </a:rPr>
                <a:t>사업신청자격 </a:t>
              </a:r>
              <a:r>
                <a:rPr b="1" lang="en-US" sz="3600" spc="-1" strike="noStrike">
                  <a:solidFill>
                    <a:srgbClr val="000000"/>
                  </a:solidFill>
                  <a:latin typeface="HY헤드라인M"/>
                </a:rPr>
                <a:t>: </a:t>
              </a:r>
              <a:r>
                <a:rPr b="1" lang="ko-KR" sz="2400" spc="-1" strike="noStrike">
                  <a:solidFill>
                    <a:srgbClr val="ff0000"/>
                  </a:solidFill>
                  <a:latin typeface="HY헤드라인M"/>
                </a:rPr>
                <a:t>법인사업자</a:t>
              </a:r>
              <a:r>
                <a:rPr b="1" lang="en-US" sz="2400" spc="-1" strike="noStrike">
                  <a:solidFill>
                    <a:srgbClr val="ff0000"/>
                  </a:solidFill>
                  <a:latin typeface="HY헤드라인M"/>
                </a:rPr>
                <a:t>(</a:t>
              </a:r>
              <a:r>
                <a:rPr b="1" lang="ko-KR" sz="2400" spc="-1" strike="noStrike">
                  <a:solidFill>
                    <a:srgbClr val="ff0000"/>
                  </a:solidFill>
                  <a:latin typeface="HY헤드라인M"/>
                </a:rPr>
                <a:t>창업</a:t>
              </a:r>
              <a:r>
                <a:rPr b="1" lang="en-US" sz="2400" spc="-1" strike="noStrike">
                  <a:solidFill>
                    <a:srgbClr val="ff0000"/>
                  </a:solidFill>
                  <a:latin typeface="HY헤드라인M"/>
                </a:rPr>
                <a:t>1</a:t>
              </a:r>
              <a:r>
                <a:rPr b="1" lang="ko-KR" sz="2400" spc="-1" strike="noStrike">
                  <a:solidFill>
                    <a:srgbClr val="ff0000"/>
                  </a:solidFill>
                  <a:latin typeface="HY헤드라인M"/>
                </a:rPr>
                <a:t>년이상</a:t>
              </a:r>
              <a:r>
                <a:rPr b="1" lang="en-US" sz="2400" spc="-1" strike="noStrike">
                  <a:solidFill>
                    <a:srgbClr val="ff0000"/>
                  </a:solidFill>
                  <a:latin typeface="HY헤드라인M"/>
                </a:rPr>
                <a:t>)</a:t>
              </a:r>
              <a:endParaRPr b="0" lang="en-US" sz="24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43" name="AutoShape 23"/>
            <p:cNvSpPr/>
            <p:nvPr/>
          </p:nvSpPr>
          <p:spPr>
            <a:xfrm>
              <a:off x="428760" y="6230880"/>
              <a:ext cx="6943320" cy="55800"/>
            </a:xfrm>
            <a:prstGeom prst="roundRect">
              <a:avLst>
                <a:gd name="adj" fmla="val 12963"/>
              </a:avLst>
            </a:prstGeom>
            <a:gradFill rotWithShape="0">
              <a:gsLst>
                <a:gs pos="0">
                  <a:srgbClr val="000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44" name="AutoShape 23"/>
            <p:cNvSpPr/>
            <p:nvPr/>
          </p:nvSpPr>
          <p:spPr>
            <a:xfrm flipV="1">
              <a:off x="950760" y="5443920"/>
              <a:ext cx="7336080" cy="67320"/>
            </a:xfrm>
            <a:prstGeom prst="roundRect">
              <a:avLst>
                <a:gd name="adj" fmla="val 12963"/>
              </a:avLst>
            </a:prstGeom>
            <a:gradFill rotWithShape="0">
              <a:gsLst>
                <a:gs pos="0">
                  <a:srgbClr val="000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7" name=""/>
          <p:cNvGraphicFramePr/>
          <p:nvPr/>
        </p:nvGraphicFramePr>
        <p:xfrm>
          <a:off x="142920" y="1193760"/>
          <a:ext cx="8893080" cy="5187960"/>
        </p:xfrm>
        <a:graphic>
          <a:graphicData uri="http://schemas.openxmlformats.org/drawingml/2006/table">
            <a:tbl>
              <a:tblPr/>
              <a:tblGrid>
                <a:gridCol w="793800"/>
                <a:gridCol w="849240"/>
                <a:gridCol w="4275000"/>
                <a:gridCol w="2975040"/>
              </a:tblGrid>
              <a:tr h="463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간접비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간접비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인력지원에 관한 경비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과제 수행에 소요되는 지원인력 인건비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행정지원 전담요원의 인건비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한개 또는 다수의 연구실을 묶어 총 사업비가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10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억원 이상이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정산 등 행정업무 부담이 클 경우에 한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)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수행기관의 장이 연구성과 우수자 및 우수 지원인력에게 지급하는 능률성과급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지원에 관한 경비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해당 연구개발에 소요되는 기관 공통지원경비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사업단 또는 연구단 형태로 운영되는 경우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운영 경비 및 비품 구입 경비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수행과제와 관련하여 연구실험실 안전을 위한 안전교육비 등 예방활동과 보험가입 등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｢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실 안전환경 조성에 관한 법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｣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에서 정한 경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인건비의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2%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범위에서 집행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)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수행과제와 관련하여 보안 장비 구입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보안교육 등 과제 보안을 위한 필요 경비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정부출연기관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특정연구기관 및 교육과학기술부장관이 별도로 고시하는 비영리 민간 연구기관에 소속된 연구원의 일시적 연구중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제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38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조제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1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항에 따라 참여제한을 받은 경우 또는 내부징계로 인한 일시적 연구중단의 경우는 제외한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)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연가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박사 후 연수 또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3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개월 이상의 교육훈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수 또는 교육훈련기관에서 비용을 부담하지 않는 경우에 한정한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)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등으로 인하여 수행과제에 참여하지 아니하는 기간 동안의 급여 및 파견관련 경비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관련 기반시설 및 장비 운영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학술정보용 도서 및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Web-DB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구입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실험실 운영지원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학술대회 지원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논문 게재료 등 대학의 연구활동을 지원하는 경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직접비에 계상되지 않은 경우에 한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)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성과활용지원에 관한 경비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수행과제 홍보를 위한 홍보물 및 행사 프로그램의 제작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강연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체험활동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실 개방 및 홍보전문가 양성 등 과학기술문화 확산에 관련된 경비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수행과제와 직접 관련된 지식재산권의 출원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․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등록에 필요한 모든 비용 또는 기술가치평가 등 기술이전에 필요한 비용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 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특허유지비는 해당 지식재산권의 기술이전 가능성이 높을 경우에 한하여 최초 특허 등록기간 종료 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2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년간 집행할 수 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.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인건비와 직접비에 교육과학기술부장관이 고시한 간접비율을 곱하여 계상하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간접비율이 고시되지 아니한 비영리기관은 인건비와 직접비의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17%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범위 안에서 계상한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.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-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간접비율이 고시된 비영리기관이라 하더라도 사업별 특성에 따라 고시된 간접비율 이하로 계상할 수 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.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 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영리기관은 성과활용 지원에 관한 경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지원에 관한 경비 중 연구보안관련경비 및 연구실안전에 관한 경비에 한해 실소요 경비를 계상할 수 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위탁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개발비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위탁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연구</a:t>
                      </a:r>
                      <a:endParaRPr b="0" lang="en-US" sz="9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개발비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,한컴돋움"/>
                        </a:rPr>
                        <a:t>사업비의 일부를 외부기관에게 용역을 주어 위탁 수행하는 데 소요되는 경비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ff0101"/>
                          </a:solidFill>
                          <a:latin typeface="HY견고딕"/>
                          <a:ea typeface="휴먼명조,한컴돋움"/>
                        </a:rPr>
                        <a:t>◦</a:t>
                      </a:r>
                      <a:r>
                        <a:rPr b="1" lang="ko-KR" sz="900" spc="-1" strike="noStrike">
                          <a:solidFill>
                            <a:srgbClr val="ff0101"/>
                          </a:solidFill>
                          <a:latin typeface="HY견고딕"/>
                          <a:ea typeface="휴먼명조,한컴돋움"/>
                        </a:rPr>
                        <a:t>인건비</a:t>
                      </a:r>
                      <a:r>
                        <a:rPr b="1" lang="en-US" sz="900" spc="-1" strike="noStrike">
                          <a:solidFill>
                            <a:srgbClr val="ff0101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1" lang="ko-KR" sz="900" spc="-1" strike="noStrike">
                          <a:solidFill>
                            <a:srgbClr val="ff0101"/>
                          </a:solidFill>
                          <a:latin typeface="HY견고딕"/>
                          <a:ea typeface="휴먼명조,한컴돋움"/>
                        </a:rPr>
                        <a:t>직접비</a:t>
                      </a:r>
                      <a:r>
                        <a:rPr b="1" lang="en-US" sz="900" spc="-1" strike="noStrike">
                          <a:solidFill>
                            <a:srgbClr val="ff0101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1" lang="ko-KR" sz="900" spc="-1" strike="noStrike">
                          <a:solidFill>
                            <a:srgbClr val="ff0101"/>
                          </a:solidFill>
                          <a:latin typeface="HY견고딕"/>
                          <a:ea typeface="휴먼명조,한컴돋움"/>
                        </a:rPr>
                        <a:t>간접비로 계상하되</a:t>
                      </a:r>
                      <a:r>
                        <a:rPr b="1" lang="en-US" sz="900" spc="-1" strike="noStrike">
                          <a:solidFill>
                            <a:srgbClr val="ff0101"/>
                          </a:solidFill>
                          <a:latin typeface="HY견고딕"/>
                          <a:ea typeface="휴먼명조,한컴돋움"/>
                        </a:rPr>
                        <a:t>, </a:t>
                      </a:r>
                      <a:r>
                        <a:rPr b="1" lang="ko-KR" sz="900" spc="-1" strike="noStrike">
                          <a:solidFill>
                            <a:srgbClr val="ff0101"/>
                          </a:solidFill>
                          <a:latin typeface="HY견고딕"/>
                          <a:ea typeface="휴먼명조,한컴돋움"/>
                        </a:rPr>
                        <a:t>원칙적으로 인건비와 직접비를 합한 금액의  </a:t>
                      </a:r>
                      <a:r>
                        <a:rPr b="1" lang="en-US" sz="900" spc="-1" strike="noStrike">
                          <a:solidFill>
                            <a:srgbClr val="ff0101"/>
                          </a:solidFill>
                          <a:latin typeface="HY견고딕"/>
                          <a:ea typeface="휴먼명조,한컴돋움"/>
                        </a:rPr>
                        <a:t>10%</a:t>
                      </a:r>
                      <a:r>
                        <a:rPr b="1" lang="ko-KR" sz="900" spc="-1" strike="noStrike">
                          <a:solidFill>
                            <a:srgbClr val="ff0101"/>
                          </a:solidFill>
                          <a:latin typeface="HY견고딕"/>
                          <a:ea typeface="휴먼명조,한컴돋움"/>
                        </a:rPr>
                        <a:t>를 초과할 수 없다</a:t>
                      </a:r>
                      <a:r>
                        <a:rPr b="1" lang="en-US" sz="900" spc="-1" strike="noStrike">
                          <a:solidFill>
                            <a:srgbClr val="ff0101"/>
                          </a:solidFill>
                          <a:latin typeface="HY견고딕"/>
                          <a:ea typeface="휴먼명조,한컴돋움"/>
                        </a:rPr>
                        <a:t>.</a:t>
                      </a:r>
                      <a:r>
                        <a:rPr b="1" lang="en-US" sz="1000" spc="-1" strike="noStrike">
                          <a:solidFill>
                            <a:srgbClr val="ff0101"/>
                          </a:solidFill>
                          <a:latin typeface="HY견고딕"/>
                          <a:ea typeface="휴먼명조"/>
                        </a:rPr>
                        <a:t> </a:t>
                      </a:r>
                      <a:endParaRPr b="0" lang="en-US" sz="1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8" name="Text Box 66"/>
          <p:cNvSpPr/>
          <p:nvPr/>
        </p:nvSpPr>
        <p:spPr>
          <a:xfrm>
            <a:off x="338040" y="152280"/>
            <a:ext cx="6556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Ⅵ</a:t>
            </a: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사업계획서 작성시 유의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2"/>
          <p:cNvSpPr/>
          <p:nvPr/>
        </p:nvSpPr>
        <p:spPr>
          <a:xfrm>
            <a:off x="0" y="10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830" name=""/>
          <p:cNvGraphicFramePr/>
          <p:nvPr/>
        </p:nvGraphicFramePr>
        <p:xfrm>
          <a:off x="250920" y="1612800"/>
          <a:ext cx="8470800" cy="4627800"/>
        </p:xfrm>
        <a:graphic>
          <a:graphicData uri="http://schemas.openxmlformats.org/drawingml/2006/table">
            <a:tbl>
              <a:tblPr/>
              <a:tblGrid>
                <a:gridCol w="4408920"/>
                <a:gridCol w="216000"/>
                <a:gridCol w="38458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신규지원 공고 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지식경제부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사업계획서 접수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산접수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/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서류접수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담기관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/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지역산업평가단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0000"/>
                          </a:solidFill>
                          <a:latin typeface="굴림"/>
                          <a:ea typeface="굴림"/>
                        </a:rPr>
                        <a:t>현장실태조사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및 사업계획서 검토 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지역산업평가단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지역전략 기술별로 집중검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ff"/>
                          </a:solidFill>
                          <a:latin typeface="굴림"/>
                          <a:ea typeface="굴림"/>
                        </a:rPr>
                        <a:t>신규과제 평가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이의신청 포함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및 결과통보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지역산업평가단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/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담기관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지역별 심의결과 취합 및 결과분석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담기관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조정위원회 운영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지경부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/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담기관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협약안내 및 체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협약서류검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지역산업평가단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/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담기관 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1" name="Rectangle 99"/>
          <p:cNvSpPr/>
          <p:nvPr/>
        </p:nvSpPr>
        <p:spPr>
          <a:xfrm>
            <a:off x="0" y="584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832" name="Text Box 106"/>
          <p:cNvSpPr/>
          <p:nvPr/>
        </p:nvSpPr>
        <p:spPr>
          <a:xfrm>
            <a:off x="804960" y="112536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2400" spc="-1" strike="noStrike">
                <a:solidFill>
                  <a:srgbClr val="0066ff"/>
                </a:solidFill>
                <a:latin typeface="HY헤드라인M"/>
              </a:rPr>
              <a:t>향후 일정</a:t>
            </a:r>
            <a:endParaRPr b="0" lang="en-US" sz="24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3" name=""/>
          <p:cNvGraphicFramePr/>
          <p:nvPr/>
        </p:nvGraphicFramePr>
        <p:xfrm>
          <a:off x="647640" y="2530440"/>
          <a:ext cx="7524720" cy="1558800"/>
        </p:xfrm>
        <a:graphic>
          <a:graphicData uri="http://schemas.openxmlformats.org/drawingml/2006/table">
            <a:tbl>
              <a:tblPr/>
              <a:tblGrid>
                <a:gridCol w="2710080"/>
                <a:gridCol w="2214360"/>
                <a:gridCol w="2600280"/>
              </a:tblGrid>
              <a:tr h="568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담당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연락처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화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Email 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김현철 연구원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55-259-3403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hkim@gntp.or.kr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홍정규 연구원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55-259-33404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rhjk@gntp.or.kr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4" name="Rectangle 37"/>
          <p:cNvSpPr/>
          <p:nvPr/>
        </p:nvSpPr>
        <p:spPr>
          <a:xfrm>
            <a:off x="469800" y="1442880"/>
            <a:ext cx="7112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○ </a:t>
            </a:r>
            <a:r>
              <a:rPr b="0" lang="ko-KR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산업평가단 연락처</a:t>
            </a:r>
            <a:endParaRPr b="0" lang="en-US" sz="32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8" descr="감사_01"/>
          <p:cNvPicPr/>
          <p:nvPr/>
        </p:nvPicPr>
        <p:blipFill>
          <a:blip r:embed="rId1"/>
          <a:stretch/>
        </p:blipFill>
        <p:spPr>
          <a:xfrm>
            <a:off x="2340000" y="3213000"/>
            <a:ext cx="46292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146" name="Text Box 66"/>
          <p:cNvSpPr/>
          <p:nvPr/>
        </p:nvSpPr>
        <p:spPr>
          <a:xfrm>
            <a:off x="338040" y="152280"/>
            <a:ext cx="704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지역산업기술개발사업 변경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147" name="Group 45"/>
          <p:cNvGrpSpPr/>
          <p:nvPr/>
        </p:nvGrpSpPr>
        <p:grpSpPr>
          <a:xfrm>
            <a:off x="755640" y="1143000"/>
            <a:ext cx="3024360" cy="576000"/>
            <a:chOff x="755640" y="1143000"/>
            <a:chExt cx="3024360" cy="576000"/>
          </a:xfrm>
        </p:grpSpPr>
        <p:pic>
          <p:nvPicPr>
            <p:cNvPr id="148" name="Picture 10" descr="13 박스"/>
            <p:cNvPicPr/>
            <p:nvPr/>
          </p:nvPicPr>
          <p:blipFill>
            <a:blip r:embed="rId1"/>
            <a:srcRect l="72555" t="45512" r="2866" b="32919"/>
            <a:stretch/>
          </p:blipFill>
          <p:spPr>
            <a:xfrm>
              <a:off x="755640" y="1143000"/>
              <a:ext cx="302436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2144"/>
            <p:cNvSpPr/>
            <p:nvPr/>
          </p:nvSpPr>
          <p:spPr>
            <a:xfrm>
              <a:off x="1094760" y="1168920"/>
              <a:ext cx="23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HY헤드라인M"/>
                </a:rPr>
                <a:t>프로그램 개편</a:t>
              </a:r>
              <a:endParaRPr b="0" lang="en-US" sz="24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pic>
        <p:nvPicPr>
          <p:cNvPr id="150" name="Picture 4" descr="2"/>
          <p:cNvPicPr/>
          <p:nvPr/>
        </p:nvPicPr>
        <p:blipFill>
          <a:blip r:embed="rId2"/>
          <a:srcRect l="56514" t="27691" r="39475" b="61574"/>
          <a:stretch/>
        </p:blipFill>
        <p:spPr>
          <a:xfrm>
            <a:off x="287280" y="1189080"/>
            <a:ext cx="514440" cy="61128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33"/>
          <p:cNvGrpSpPr/>
          <p:nvPr/>
        </p:nvGrpSpPr>
        <p:grpSpPr>
          <a:xfrm>
            <a:off x="428760" y="1143000"/>
            <a:ext cx="287280" cy="539280"/>
            <a:chOff x="428760" y="1143000"/>
            <a:chExt cx="287280" cy="539280"/>
          </a:xfrm>
        </p:grpSpPr>
        <p:grpSp>
          <p:nvGrpSpPr>
            <p:cNvPr id="152" name="Group 34"/>
            <p:cNvGrpSpPr/>
            <p:nvPr/>
          </p:nvGrpSpPr>
          <p:grpSpPr>
            <a:xfrm>
              <a:off x="428760" y="1143000"/>
              <a:ext cx="287280" cy="376920"/>
              <a:chOff x="428760" y="1143000"/>
              <a:chExt cx="287280" cy="376920"/>
            </a:xfrm>
          </p:grpSpPr>
          <p:sp>
            <p:nvSpPr>
              <p:cNvPr id="153" name="Oval 35"/>
              <p:cNvSpPr/>
              <p:nvPr/>
            </p:nvSpPr>
            <p:spPr>
              <a:xfrm>
                <a:off x="428760" y="1214280"/>
                <a:ext cx="287280" cy="305640"/>
              </a:xfrm>
              <a:prstGeom prst="ellipse">
                <a:avLst/>
              </a:prstGeom>
              <a:solidFill>
                <a:srgbClr val="003366">
                  <a:alpha val="23000"/>
                </a:srgbClr>
              </a:solidFill>
              <a:ln w="0">
                <a:noFill/>
              </a:ln>
              <a:effectLst>
                <a:outerShdw dist="1730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  <p:sp>
            <p:nvSpPr>
              <p:cNvPr id="154" name="Oval 36"/>
              <p:cNvSpPr/>
              <p:nvPr/>
            </p:nvSpPr>
            <p:spPr>
              <a:xfrm>
                <a:off x="443160" y="1229760"/>
                <a:ext cx="258840" cy="273600"/>
              </a:xfrm>
              <a:prstGeom prst="ellipse">
                <a:avLst/>
              </a:prstGeom>
              <a:gradFill rotWithShape="0">
                <a:gsLst>
                  <a:gs pos="0">
                    <a:srgbClr val="01789d"/>
                  </a:gs>
                  <a:gs pos="50000">
                    <a:srgbClr val="adeaff"/>
                  </a:gs>
                  <a:gs pos="100000">
                    <a:srgbClr val="01789d"/>
                  </a:gs>
                </a:gsLst>
                <a:lin ang="0"/>
              </a:gradFill>
              <a:ln w="12240">
                <a:solidFill>
                  <a:srgbClr val="00485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  <p:sp>
            <p:nvSpPr>
              <p:cNvPr id="155" name="Oval 37"/>
              <p:cNvSpPr/>
              <p:nvPr/>
            </p:nvSpPr>
            <p:spPr>
              <a:xfrm>
                <a:off x="500400" y="1143000"/>
                <a:ext cx="197640" cy="16524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48235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sp>
          <p:nvSpPr>
            <p:cNvPr id="156" name="Rectangle 38"/>
            <p:cNvSpPr/>
            <p:nvPr/>
          </p:nvSpPr>
          <p:spPr>
            <a:xfrm>
              <a:off x="447120" y="1225440"/>
              <a:ext cx="1422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6440" bIns="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157" name="그룹 48"/>
          <p:cNvGrpSpPr/>
          <p:nvPr/>
        </p:nvGrpSpPr>
        <p:grpSpPr>
          <a:xfrm>
            <a:off x="2479680" y="4214880"/>
            <a:ext cx="4235040" cy="1901880"/>
            <a:chOff x="2479680" y="4214880"/>
            <a:chExt cx="4235040" cy="1901880"/>
          </a:xfrm>
        </p:grpSpPr>
        <p:sp>
          <p:nvSpPr>
            <p:cNvPr id="158" name="AutoShape 51"/>
            <p:cNvSpPr/>
            <p:nvPr/>
          </p:nvSpPr>
          <p:spPr>
            <a:xfrm flipH="1">
              <a:off x="2513880" y="4336920"/>
              <a:ext cx="4165560" cy="1779840"/>
            </a:xfrm>
            <a:prstGeom prst="roundRect">
              <a:avLst>
                <a:gd name="adj" fmla="val 1847"/>
              </a:avLst>
            </a:prstGeom>
            <a:gradFill rotWithShape="0">
              <a:gsLst>
                <a:gs pos="0">
                  <a:srgbClr val="81a2bd"/>
                </a:gs>
                <a:gs pos="100000">
                  <a:srgbClr val="4162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59" name="AutoShape 52"/>
            <p:cNvSpPr/>
            <p:nvPr/>
          </p:nvSpPr>
          <p:spPr>
            <a:xfrm flipH="1">
              <a:off x="2564640" y="4371840"/>
              <a:ext cx="4071960" cy="1705320"/>
            </a:xfrm>
            <a:prstGeom prst="roundRect">
              <a:avLst>
                <a:gd name="adj" fmla="val 1847"/>
              </a:avLst>
            </a:prstGeom>
            <a:solidFill>
              <a:srgbClr val="f2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160" name="Group 53"/>
            <p:cNvGrpSpPr/>
            <p:nvPr/>
          </p:nvGrpSpPr>
          <p:grpSpPr>
            <a:xfrm>
              <a:off x="2479680" y="4214880"/>
              <a:ext cx="4235040" cy="569520"/>
              <a:chOff x="2479680" y="4214880"/>
              <a:chExt cx="4235040" cy="569520"/>
            </a:xfrm>
          </p:grpSpPr>
          <p:pic>
            <p:nvPicPr>
              <p:cNvPr id="161" name="Picture 54" descr="바1-4"/>
              <p:cNvPicPr/>
              <p:nvPr/>
            </p:nvPicPr>
            <p:blipFill>
              <a:blip r:embed="rId3"/>
              <a:srcRect l="0" t="42105" r="26966" b="39651"/>
              <a:stretch/>
            </p:blipFill>
            <p:spPr>
              <a:xfrm flipH="1">
                <a:off x="3196080" y="4214880"/>
                <a:ext cx="3518640" cy="56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Picture 55" descr="바1-4"/>
              <p:cNvPicPr/>
              <p:nvPr/>
            </p:nvPicPr>
            <p:blipFill>
              <a:blip r:embed="rId4"/>
              <a:srcRect l="77823" t="42105" r="0" b="39651"/>
              <a:stretch/>
            </p:blipFill>
            <p:spPr>
              <a:xfrm flipH="1">
                <a:off x="2479680" y="4214880"/>
                <a:ext cx="850320" cy="569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Rectangle 60"/>
            <p:cNvSpPr/>
            <p:nvPr/>
          </p:nvSpPr>
          <p:spPr>
            <a:xfrm>
              <a:off x="2976480" y="4288320"/>
              <a:ext cx="290340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33e6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지역기반육성기술개발사업 </a:t>
              </a:r>
              <a:endParaRPr b="0" lang="en-US" sz="17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64" name="Rectangle 64"/>
            <p:cNvSpPr/>
            <p:nvPr/>
          </p:nvSpPr>
          <p:spPr>
            <a:xfrm>
              <a:off x="2606400" y="4696200"/>
              <a:ext cx="4070520" cy="135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33e6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181080" indent="-181080">
                <a:lnSpc>
                  <a:spcPct val="130000"/>
                </a:lnSpc>
                <a:buClr>
                  <a:srgbClr val="000000"/>
                </a:buClr>
                <a:buFont typeface="HY견고딕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전략산업 관련 신기술개발 수요자 지원</a:t>
              </a: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  <a:p>
              <a:pPr marL="181080" indent="-181080">
                <a:lnSpc>
                  <a:spcPct val="130000"/>
                </a:lnSpc>
                <a:buClr>
                  <a:srgbClr val="000000"/>
                </a:buClr>
                <a:buFont typeface="HY견고딕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지역기업의 </a:t>
              </a: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R&amp;D </a:t>
              </a: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역량 제고</a:t>
              </a: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  <a:p>
              <a:pPr marL="181080" indent="-181080">
                <a:lnSpc>
                  <a:spcPct val="130000"/>
                </a:lnSpc>
                <a:buClr>
                  <a:srgbClr val="000000"/>
                </a:buClr>
                <a:buFont typeface="HY견고딕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년이내</a:t>
              </a: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1</a:t>
              </a: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억</a:t>
              </a: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년 이내</a:t>
              </a: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도비</a:t>
              </a: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  <a:p>
              <a:pPr marL="181080" indent="-181080">
                <a:lnSpc>
                  <a:spcPct val="130000"/>
                </a:lnSpc>
                <a:buClr>
                  <a:srgbClr val="cc3300"/>
                </a:buClr>
                <a:buFont typeface="HY견고딕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cc3300"/>
                  </a:solidFill>
                  <a:latin typeface="HY견고딕"/>
                  <a:ea typeface="HY견고딕"/>
                </a:rPr>
                <a:t>순수 도비로 운영</a:t>
              </a: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165" name="Group 23"/>
            <p:cNvGrpSpPr/>
            <p:nvPr/>
          </p:nvGrpSpPr>
          <p:grpSpPr>
            <a:xfrm>
              <a:off x="2601720" y="4336920"/>
              <a:ext cx="360360" cy="366480"/>
              <a:chOff x="2601720" y="4336920"/>
              <a:chExt cx="360360" cy="366480"/>
            </a:xfrm>
          </p:grpSpPr>
          <p:pic>
            <p:nvPicPr>
              <p:cNvPr id="166" name="Picture 24" descr="그림3"/>
              <p:cNvPicPr/>
              <p:nvPr/>
            </p:nvPicPr>
            <p:blipFill>
              <a:blip r:embed="rId5"/>
              <a:stretch/>
            </p:blipFill>
            <p:spPr>
              <a:xfrm>
                <a:off x="2601720" y="4336920"/>
                <a:ext cx="360360" cy="366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7" name="Group 25"/>
              <p:cNvGrpSpPr/>
              <p:nvPr/>
            </p:nvGrpSpPr>
            <p:grpSpPr>
              <a:xfrm>
                <a:off x="2650320" y="4376520"/>
                <a:ext cx="242280" cy="263160"/>
                <a:chOff x="2650320" y="4376520"/>
                <a:chExt cx="242280" cy="263160"/>
              </a:xfrm>
            </p:grpSpPr>
            <p:sp>
              <p:nvSpPr>
                <p:cNvPr id="168" name="Freeform 26"/>
                <p:cNvSpPr/>
                <p:nvPr/>
              </p:nvSpPr>
              <p:spPr>
                <a:xfrm>
                  <a:off x="2652480" y="4376520"/>
                  <a:ext cx="240120" cy="64800"/>
                </a:xfrm>
                <a:prstGeom prst="pie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169" name="Freeform 27"/>
                <p:cNvSpPr/>
                <p:nvPr/>
              </p:nvSpPr>
              <p:spPr>
                <a:xfrm>
                  <a:off x="2650320" y="4410720"/>
                  <a:ext cx="168480" cy="228600"/>
                </a:xfrm>
                <a:prstGeom prst="pie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170" name="Freeform 28"/>
                <p:cNvSpPr/>
                <p:nvPr/>
              </p:nvSpPr>
              <p:spPr>
                <a:xfrm>
                  <a:off x="2802240" y="4392360"/>
                  <a:ext cx="90000" cy="247320"/>
                </a:xfrm>
                <a:prstGeom prst="pie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</p:grpSp>
      </p:grpSp>
      <p:grpSp>
        <p:nvGrpSpPr>
          <p:cNvPr id="171" name="그룹 64"/>
          <p:cNvGrpSpPr/>
          <p:nvPr/>
        </p:nvGrpSpPr>
        <p:grpSpPr>
          <a:xfrm>
            <a:off x="380880" y="2071800"/>
            <a:ext cx="4334040" cy="1779480"/>
            <a:chOff x="380880" y="2071800"/>
            <a:chExt cx="4334040" cy="1779480"/>
          </a:xfrm>
        </p:grpSpPr>
        <p:sp>
          <p:nvSpPr>
            <p:cNvPr id="172" name="AutoShape 36"/>
            <p:cNvSpPr/>
            <p:nvPr/>
          </p:nvSpPr>
          <p:spPr>
            <a:xfrm>
              <a:off x="415800" y="2290680"/>
              <a:ext cx="4165920" cy="1560600"/>
            </a:xfrm>
            <a:prstGeom prst="roundRect">
              <a:avLst>
                <a:gd name="adj" fmla="val 1847"/>
              </a:avLst>
            </a:prstGeom>
            <a:gradFill rotWithShape="0">
              <a:gsLst>
                <a:gs pos="0">
                  <a:srgbClr val="81a2bd"/>
                </a:gs>
                <a:gs pos="100000">
                  <a:srgbClr val="4162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73" name="AutoShape 37"/>
            <p:cNvSpPr/>
            <p:nvPr/>
          </p:nvSpPr>
          <p:spPr>
            <a:xfrm>
              <a:off x="458640" y="2344680"/>
              <a:ext cx="4072320" cy="1454040"/>
            </a:xfrm>
            <a:prstGeom prst="roundRect">
              <a:avLst>
                <a:gd name="adj" fmla="val 1847"/>
              </a:avLst>
            </a:prstGeom>
            <a:solidFill>
              <a:srgbClr val="f2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174" name="Group 38"/>
            <p:cNvGrpSpPr/>
            <p:nvPr/>
          </p:nvGrpSpPr>
          <p:grpSpPr>
            <a:xfrm>
              <a:off x="380880" y="2071800"/>
              <a:ext cx="4235400" cy="617040"/>
              <a:chOff x="380880" y="2071800"/>
              <a:chExt cx="4235400" cy="617040"/>
            </a:xfrm>
          </p:grpSpPr>
          <p:pic>
            <p:nvPicPr>
              <p:cNvPr id="175" name="Picture 39" descr="바1-4"/>
              <p:cNvPicPr/>
              <p:nvPr/>
            </p:nvPicPr>
            <p:blipFill>
              <a:blip r:embed="rId6"/>
              <a:srcRect l="0" t="42105" r="26966" b="39651"/>
              <a:stretch/>
            </p:blipFill>
            <p:spPr>
              <a:xfrm>
                <a:off x="380880" y="2071800"/>
                <a:ext cx="3519000" cy="61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Picture 40" descr="바1-4"/>
              <p:cNvPicPr/>
              <p:nvPr/>
            </p:nvPicPr>
            <p:blipFill>
              <a:blip r:embed="rId7"/>
              <a:srcRect l="77823" t="42105" r="0" b="39651"/>
              <a:stretch/>
            </p:blipFill>
            <p:spPr>
              <a:xfrm>
                <a:off x="3765960" y="2071800"/>
                <a:ext cx="850320" cy="61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7" name="Rectangle 57"/>
            <p:cNvSpPr/>
            <p:nvPr/>
          </p:nvSpPr>
          <p:spPr>
            <a:xfrm>
              <a:off x="874440" y="2208600"/>
              <a:ext cx="278784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33e6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자유공모형</a:t>
              </a:r>
              <a:endParaRPr b="0" lang="en-US" sz="17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178" name="Group 23"/>
            <p:cNvGrpSpPr/>
            <p:nvPr/>
          </p:nvGrpSpPr>
          <p:grpSpPr>
            <a:xfrm>
              <a:off x="528480" y="2195640"/>
              <a:ext cx="360360" cy="366480"/>
              <a:chOff x="528480" y="2195640"/>
              <a:chExt cx="360360" cy="366480"/>
            </a:xfrm>
          </p:grpSpPr>
          <p:pic>
            <p:nvPicPr>
              <p:cNvPr id="179" name="Picture 24" descr="그림3"/>
              <p:cNvPicPr/>
              <p:nvPr/>
            </p:nvPicPr>
            <p:blipFill>
              <a:blip r:embed="rId8"/>
              <a:stretch/>
            </p:blipFill>
            <p:spPr>
              <a:xfrm>
                <a:off x="528480" y="2195640"/>
                <a:ext cx="360360" cy="366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Group 25"/>
              <p:cNvGrpSpPr/>
              <p:nvPr/>
            </p:nvGrpSpPr>
            <p:grpSpPr>
              <a:xfrm>
                <a:off x="577080" y="2235240"/>
                <a:ext cx="242280" cy="263160"/>
                <a:chOff x="577080" y="2235240"/>
                <a:chExt cx="242280" cy="263160"/>
              </a:xfrm>
            </p:grpSpPr>
            <p:sp>
              <p:nvSpPr>
                <p:cNvPr id="181" name="Freeform 26"/>
                <p:cNvSpPr/>
                <p:nvPr/>
              </p:nvSpPr>
              <p:spPr>
                <a:xfrm>
                  <a:off x="579240" y="2235240"/>
                  <a:ext cx="240120" cy="64800"/>
                </a:xfrm>
                <a:prstGeom prst="pie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182" name="Freeform 27"/>
                <p:cNvSpPr/>
                <p:nvPr/>
              </p:nvSpPr>
              <p:spPr>
                <a:xfrm>
                  <a:off x="577080" y="2269440"/>
                  <a:ext cx="168480" cy="228600"/>
                </a:xfrm>
                <a:prstGeom prst="pie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183" name="Freeform 28"/>
                <p:cNvSpPr/>
                <p:nvPr/>
              </p:nvSpPr>
              <p:spPr>
                <a:xfrm>
                  <a:off x="729000" y="2251080"/>
                  <a:ext cx="90000" cy="247320"/>
                </a:xfrm>
                <a:prstGeom prst="pie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</p:grpSp>
        <p:sp>
          <p:nvSpPr>
            <p:cNvPr id="184" name="Rectangle 61"/>
            <p:cNvSpPr/>
            <p:nvPr/>
          </p:nvSpPr>
          <p:spPr>
            <a:xfrm>
              <a:off x="456840" y="2706840"/>
              <a:ext cx="4258080" cy="1042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33e6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09520" indent="-209520">
                <a:lnSpc>
                  <a:spcPct val="130000"/>
                </a:lnSpc>
                <a:buClr>
                  <a:srgbClr val="000000"/>
                </a:buClr>
                <a:buFont typeface="HY견고딕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지역기업주동형 핵심 기술개발</a:t>
              </a: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  <a:p>
              <a:pPr marL="209520" indent="-209520">
                <a:lnSpc>
                  <a:spcPct val="130000"/>
                </a:lnSpc>
                <a:buClr>
                  <a:srgbClr val="000000"/>
                </a:buClr>
                <a:buFont typeface="HY견고딕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년 이내</a:t>
              </a: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2</a:t>
              </a: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억</a:t>
              </a: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년 이내</a:t>
              </a: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국비</a:t>
              </a: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  <a:p>
              <a:pPr marL="209520" indent="-209520">
                <a:lnSpc>
                  <a:spcPct val="130000"/>
                </a:lnSpc>
                <a:buClr>
                  <a:srgbClr val="000000"/>
                </a:buClr>
                <a:buFont typeface="HY견고딕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상향식</a:t>
              </a: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Bottom-up)</a:t>
              </a: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grpSp>
        <p:nvGrpSpPr>
          <p:cNvPr id="185" name="그룹 78"/>
          <p:cNvGrpSpPr/>
          <p:nvPr/>
        </p:nvGrpSpPr>
        <p:grpSpPr>
          <a:xfrm>
            <a:off x="4626000" y="2071800"/>
            <a:ext cx="4254480" cy="1774800"/>
            <a:chOff x="4626000" y="2071800"/>
            <a:chExt cx="4254480" cy="1774800"/>
          </a:xfrm>
        </p:grpSpPr>
        <p:sp>
          <p:nvSpPr>
            <p:cNvPr id="186" name="AutoShape 29"/>
            <p:cNvSpPr/>
            <p:nvPr/>
          </p:nvSpPr>
          <p:spPr>
            <a:xfrm>
              <a:off x="4665600" y="2249280"/>
              <a:ext cx="4165920" cy="1597320"/>
            </a:xfrm>
            <a:prstGeom prst="roundRect">
              <a:avLst>
                <a:gd name="adj" fmla="val 1847"/>
              </a:avLst>
            </a:prstGeom>
            <a:gradFill rotWithShape="0">
              <a:gsLst>
                <a:gs pos="0">
                  <a:srgbClr val="81a2bd"/>
                </a:gs>
                <a:gs pos="100000">
                  <a:srgbClr val="41627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87" name="AutoShape 30"/>
            <p:cNvSpPr/>
            <p:nvPr/>
          </p:nvSpPr>
          <p:spPr>
            <a:xfrm>
              <a:off x="4708440" y="2303280"/>
              <a:ext cx="4071960" cy="1489320"/>
            </a:xfrm>
            <a:prstGeom prst="roundRect">
              <a:avLst>
                <a:gd name="adj" fmla="val 1847"/>
              </a:avLst>
            </a:prstGeom>
            <a:solidFill>
              <a:srgbClr val="f2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160" rIns="10116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188" name="Group 31"/>
            <p:cNvGrpSpPr/>
            <p:nvPr/>
          </p:nvGrpSpPr>
          <p:grpSpPr>
            <a:xfrm>
              <a:off x="4626000" y="2071800"/>
              <a:ext cx="4232160" cy="609120"/>
              <a:chOff x="4626000" y="2071800"/>
              <a:chExt cx="4232160" cy="609120"/>
            </a:xfrm>
          </p:grpSpPr>
          <p:pic>
            <p:nvPicPr>
              <p:cNvPr id="189" name="Picture 32" descr="바1-4"/>
              <p:cNvPicPr/>
              <p:nvPr/>
            </p:nvPicPr>
            <p:blipFill>
              <a:blip r:embed="rId9"/>
              <a:srcRect l="0" t="61755" r="26966" b="20704"/>
              <a:stretch/>
            </p:blipFill>
            <p:spPr>
              <a:xfrm>
                <a:off x="4626000" y="2071800"/>
                <a:ext cx="2793960" cy="60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Picture 33" descr="바1-4"/>
              <p:cNvPicPr/>
              <p:nvPr/>
            </p:nvPicPr>
            <p:blipFill>
              <a:blip r:embed="rId10"/>
              <a:srcRect l="77823" t="61755" r="0" b="20704"/>
              <a:stretch/>
            </p:blipFill>
            <p:spPr>
              <a:xfrm>
                <a:off x="8009640" y="2071800"/>
                <a:ext cx="848520" cy="60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Picture 34" descr="바1-4"/>
              <p:cNvPicPr/>
              <p:nvPr/>
            </p:nvPicPr>
            <p:blipFill>
              <a:blip r:embed="rId11"/>
              <a:srcRect l="21862" t="61755" r="26966" b="20704"/>
              <a:stretch/>
            </p:blipFill>
            <p:spPr>
              <a:xfrm>
                <a:off x="6370560" y="2071800"/>
                <a:ext cx="1712520" cy="609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2" name="Rectangle 58"/>
            <p:cNvSpPr/>
            <p:nvPr/>
          </p:nvSpPr>
          <p:spPr>
            <a:xfrm>
              <a:off x="5148000" y="2180160"/>
              <a:ext cx="2952720" cy="35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33e6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ffffff"/>
                  </a:solidFill>
                  <a:latin typeface="HY헤드라인M"/>
                </a:rPr>
                <a:t>과제지정형</a:t>
              </a:r>
              <a:endParaRPr b="0" lang="en-US" sz="17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193" name="Rectangle 62"/>
            <p:cNvSpPr/>
            <p:nvPr/>
          </p:nvSpPr>
          <p:spPr>
            <a:xfrm>
              <a:off x="4716360" y="2690280"/>
              <a:ext cx="4164120" cy="1006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33e6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181080" indent="-181080">
                <a:lnSpc>
                  <a:spcPct val="120000"/>
                </a:lnSpc>
                <a:buClr>
                  <a:srgbClr val="000000"/>
                </a:buClr>
                <a:buFont typeface="HY견고딕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지의 고부가가치 복합기술 개발</a:t>
              </a: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  <a:p>
              <a:pPr marL="181080" indent="-181080">
                <a:lnSpc>
                  <a:spcPct val="120000"/>
                </a:lnSpc>
                <a:buClr>
                  <a:srgbClr val="000000"/>
                </a:buClr>
                <a:buFont typeface="HY견고딕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년 이내</a:t>
              </a: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5</a:t>
              </a: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억</a:t>
              </a: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년 이내</a:t>
              </a: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국비</a:t>
              </a: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endParaRPr b="0" lang="en-US" sz="1600" spc="-1" strike="noStrike">
                <a:solidFill>
                  <a:srgbClr val="0066ff"/>
                </a:solidFill>
                <a:latin typeface="HY헤드라인M"/>
              </a:endParaRPr>
            </a:p>
            <a:p>
              <a:pPr marL="181080" indent="-181080">
                <a:lnSpc>
                  <a:spcPct val="120000"/>
                </a:lnSpc>
                <a:buClr>
                  <a:srgbClr val="000000"/>
                </a:buClr>
                <a:buFont typeface="HY견고딕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 Phase</a:t>
              </a: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형 </a:t>
              </a:r>
              <a:r>
                <a:rPr b="0" lang="en-US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R&amp;D (</a:t>
              </a: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기획 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&amp;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추진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)</a:t>
              </a:r>
              <a:endParaRPr b="0" lang="en-US" sz="18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194" name="Group 23"/>
            <p:cNvGrpSpPr/>
            <p:nvPr/>
          </p:nvGrpSpPr>
          <p:grpSpPr>
            <a:xfrm>
              <a:off x="4763880" y="2185920"/>
              <a:ext cx="360360" cy="366480"/>
              <a:chOff x="4763880" y="2185920"/>
              <a:chExt cx="360360" cy="366480"/>
            </a:xfrm>
          </p:grpSpPr>
          <p:pic>
            <p:nvPicPr>
              <p:cNvPr id="195" name="Picture 24" descr="그림3"/>
              <p:cNvPicPr/>
              <p:nvPr/>
            </p:nvPicPr>
            <p:blipFill>
              <a:blip r:embed="rId12"/>
              <a:stretch/>
            </p:blipFill>
            <p:spPr>
              <a:xfrm>
                <a:off x="4763880" y="2185920"/>
                <a:ext cx="360360" cy="366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6" name="Group 25"/>
              <p:cNvGrpSpPr/>
              <p:nvPr/>
            </p:nvGrpSpPr>
            <p:grpSpPr>
              <a:xfrm>
                <a:off x="4812480" y="2225520"/>
                <a:ext cx="242280" cy="263160"/>
                <a:chOff x="4812480" y="2225520"/>
                <a:chExt cx="242280" cy="263160"/>
              </a:xfrm>
            </p:grpSpPr>
            <p:sp>
              <p:nvSpPr>
                <p:cNvPr id="197" name="Freeform 26"/>
                <p:cNvSpPr/>
                <p:nvPr/>
              </p:nvSpPr>
              <p:spPr>
                <a:xfrm>
                  <a:off x="4814640" y="2225520"/>
                  <a:ext cx="240120" cy="64800"/>
                </a:xfrm>
                <a:prstGeom prst="pie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198" name="Freeform 27"/>
                <p:cNvSpPr/>
                <p:nvPr/>
              </p:nvSpPr>
              <p:spPr>
                <a:xfrm>
                  <a:off x="4812480" y="2259720"/>
                  <a:ext cx="168480" cy="228600"/>
                </a:xfrm>
                <a:prstGeom prst="pie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199" name="Freeform 28"/>
                <p:cNvSpPr/>
                <p:nvPr/>
              </p:nvSpPr>
              <p:spPr>
                <a:xfrm>
                  <a:off x="4964400" y="2241360"/>
                  <a:ext cx="90000" cy="247320"/>
                </a:xfrm>
                <a:prstGeom prst="pie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201" name="Picture 74" descr="신성장"/>
          <p:cNvPicPr/>
          <p:nvPr/>
        </p:nvPicPr>
        <p:blipFill>
          <a:blip r:embed="rId1"/>
          <a:stretch/>
        </p:blipFill>
        <p:spPr>
          <a:xfrm>
            <a:off x="5303880" y="4883040"/>
            <a:ext cx="3840120" cy="218592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31"/>
          <p:cNvSpPr/>
          <p:nvPr/>
        </p:nvSpPr>
        <p:spPr>
          <a:xfrm>
            <a:off x="704880" y="3400560"/>
            <a:ext cx="436680" cy="2520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067a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203" name="Text Box 42"/>
          <p:cNvSpPr/>
          <p:nvPr/>
        </p:nvSpPr>
        <p:spPr>
          <a:xfrm>
            <a:off x="702360" y="3924360"/>
            <a:ext cx="413640" cy="166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HY헤드라인M"/>
              </a:rPr>
              <a:t>경         남</a:t>
            </a:r>
            <a:endParaRPr b="0" lang="en-US" sz="17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204" name="AutoShape 16"/>
          <p:cNvSpPr/>
          <p:nvPr/>
        </p:nvSpPr>
        <p:spPr>
          <a:xfrm>
            <a:off x="668160" y="2637000"/>
            <a:ext cx="7937640" cy="54756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0b4ce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</a:rPr>
              <a:t>전략산업 </a:t>
            </a: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( </a:t>
            </a:r>
            <a:r>
              <a:rPr b="1" lang="ko-KR" sz="2000" spc="-1" strike="noStrike">
                <a:solidFill>
                  <a:srgbClr val="000000"/>
                </a:solidFill>
                <a:latin typeface="HY헤드라인M"/>
              </a:rPr>
              <a:t>특화분야 </a:t>
            </a:r>
            <a:r>
              <a:rPr b="1" lang="en-US" sz="20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205" name="Rectangle 21"/>
          <p:cNvSpPr/>
          <p:nvPr/>
        </p:nvSpPr>
        <p:spPr>
          <a:xfrm>
            <a:off x="1206360" y="4078440"/>
            <a:ext cx="989280" cy="515880"/>
          </a:xfrm>
          <a:prstGeom prst="rect">
            <a:avLst/>
          </a:prstGeom>
          <a:solidFill>
            <a:srgbClr val="fbeffb"/>
          </a:solidFill>
          <a:ln w="3240">
            <a:solidFill>
              <a:srgbClr val="000000"/>
            </a:solidFill>
            <a:miter/>
          </a:ln>
          <a:effectLst>
            <a:outerShdw dist="71785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HY헤드라인M"/>
              </a:rPr>
              <a:t>기 존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1206360" y="4705200"/>
            <a:ext cx="989280" cy="557280"/>
          </a:xfrm>
          <a:prstGeom prst="rect">
            <a:avLst/>
          </a:prstGeom>
          <a:solidFill>
            <a:srgbClr val="fbeffb"/>
          </a:solidFill>
          <a:ln w="3240">
            <a:solidFill>
              <a:srgbClr val="000000"/>
            </a:solidFill>
            <a:miter/>
          </a:ln>
          <a:effectLst>
            <a:outerShdw dist="71785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HY헤드라인M"/>
              </a:rPr>
              <a:t>현 행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207" name="Rectangle 21"/>
          <p:cNvSpPr/>
          <p:nvPr/>
        </p:nvSpPr>
        <p:spPr>
          <a:xfrm>
            <a:off x="1206360" y="5392800"/>
            <a:ext cx="989280" cy="528480"/>
          </a:xfrm>
          <a:prstGeom prst="rect">
            <a:avLst/>
          </a:prstGeom>
          <a:solidFill>
            <a:srgbClr val="fbeffb"/>
          </a:solidFill>
          <a:ln w="3240">
            <a:solidFill>
              <a:srgbClr val="000000"/>
            </a:solidFill>
            <a:miter/>
          </a:ln>
          <a:effectLst>
            <a:outerShdw dist="71785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HY헤드라인M"/>
              </a:rPr>
              <a:t>차이점</a:t>
            </a:r>
            <a:endParaRPr b="0" lang="en-US" sz="16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208" name="Rectangle 48"/>
          <p:cNvSpPr/>
          <p:nvPr/>
        </p:nvSpPr>
        <p:spPr>
          <a:xfrm>
            <a:off x="2041560" y="3411360"/>
            <a:ext cx="65628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1204920" y="3411360"/>
            <a:ext cx="7399440" cy="562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지식기반기계 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고부가 가치 기계부품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) ,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로봇 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제조용 로봇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),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지능형 홈 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지능형홈기기 및 솔루션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) , </a:t>
            </a:r>
            <a:endParaRPr b="0" lang="en-US" sz="13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바이오 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생물화학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13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210" name="Rectangle 21"/>
          <p:cNvSpPr/>
          <p:nvPr/>
        </p:nvSpPr>
        <p:spPr>
          <a:xfrm>
            <a:off x="2340000" y="4078440"/>
            <a:ext cx="6264360" cy="5158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[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선박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중소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(1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사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기술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),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항공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메카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정밀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],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로봇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지능형홈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바이오</a:t>
            </a:r>
            <a:endParaRPr b="0" lang="en-US" sz="13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211" name="Rectangle 21"/>
          <p:cNvSpPr/>
          <p:nvPr/>
        </p:nvSpPr>
        <p:spPr>
          <a:xfrm>
            <a:off x="2340000" y="4707000"/>
            <a:ext cx="6264360" cy="555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지식기반기계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로봇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지능형홈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1" lang="ko-KR" sz="1300" spc="-1" strike="noStrike">
                <a:solidFill>
                  <a:srgbClr val="ff0101"/>
                </a:solidFill>
                <a:latin typeface="HY헤드라인M"/>
              </a:rPr>
              <a:t>바이오</a:t>
            </a:r>
            <a:endParaRPr b="0" lang="en-US" sz="13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212" name="Rectangle 21"/>
          <p:cNvSpPr/>
          <p:nvPr/>
        </p:nvSpPr>
        <p:spPr>
          <a:xfrm>
            <a:off x="2340000" y="5394240"/>
            <a:ext cx="6264360" cy="5270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  <a:effectLst>
            <a:outerShdw dist="53966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[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선박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항공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메카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정밀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]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통합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중소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(1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사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기술</a:t>
            </a:r>
            <a:r>
              <a:rPr b="1" lang="en-US" sz="1300" spc="-1" strike="noStrike">
                <a:solidFill>
                  <a:srgbClr val="000000"/>
                </a:solidFill>
                <a:latin typeface="HY헤드라인M"/>
              </a:rPr>
              <a:t>) </a:t>
            </a:r>
            <a:r>
              <a:rPr b="1" lang="ko-KR" sz="1300" spc="-1" strike="noStrike">
                <a:solidFill>
                  <a:srgbClr val="000000"/>
                </a:solidFill>
                <a:latin typeface="HY헤드라인M"/>
              </a:rPr>
              <a:t>삭제</a:t>
            </a:r>
            <a:endParaRPr b="0" lang="en-US" sz="13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213" name="Group 71"/>
          <p:cNvGrpSpPr/>
          <p:nvPr/>
        </p:nvGrpSpPr>
        <p:grpSpPr>
          <a:xfrm>
            <a:off x="312840" y="1415880"/>
            <a:ext cx="5338440" cy="657360"/>
            <a:chOff x="312840" y="1415880"/>
            <a:chExt cx="5338440" cy="657360"/>
          </a:xfrm>
        </p:grpSpPr>
        <p:grpSp>
          <p:nvGrpSpPr>
            <p:cNvPr id="214" name="Group 60"/>
            <p:cNvGrpSpPr/>
            <p:nvPr/>
          </p:nvGrpSpPr>
          <p:grpSpPr>
            <a:xfrm>
              <a:off x="662040" y="1415880"/>
              <a:ext cx="4989240" cy="576000"/>
              <a:chOff x="662040" y="1415880"/>
              <a:chExt cx="4989240" cy="576000"/>
            </a:xfrm>
          </p:grpSpPr>
          <p:pic>
            <p:nvPicPr>
              <p:cNvPr id="215" name="Picture 10" descr="13 박스"/>
              <p:cNvPicPr/>
              <p:nvPr/>
            </p:nvPicPr>
            <p:blipFill>
              <a:blip r:embed="rId2"/>
              <a:srcRect l="72555" t="45512" r="2866" b="32919"/>
              <a:stretch/>
            </p:blipFill>
            <p:spPr>
              <a:xfrm>
                <a:off x="662040" y="1415880"/>
                <a:ext cx="4989240" cy="57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Text Box 2144"/>
              <p:cNvSpPr/>
              <p:nvPr/>
            </p:nvSpPr>
            <p:spPr>
              <a:xfrm>
                <a:off x="1221840" y="1441800"/>
                <a:ext cx="37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지역별 전략산업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(</a:t>
                </a:r>
                <a:r>
                  <a:rPr b="1" lang="ko-KR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특화분야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HY헤드라인M"/>
                    <a:ea typeface="휴먼신그래픽"/>
                  </a:rPr>
                  <a:t>)</a:t>
                </a:r>
                <a:endParaRPr b="0" lang="en-US" sz="24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  <p:pic>
          <p:nvPicPr>
            <p:cNvPr id="217" name="Picture 4" descr="2"/>
            <p:cNvPicPr/>
            <p:nvPr/>
          </p:nvPicPr>
          <p:blipFill>
            <a:blip r:embed="rId3"/>
            <a:srcRect l="56514" t="27691" r="39475" b="61574"/>
            <a:stretch/>
          </p:blipFill>
          <p:spPr>
            <a:xfrm>
              <a:off x="312840" y="1461960"/>
              <a:ext cx="514080" cy="61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8" name="Group 33"/>
            <p:cNvGrpSpPr/>
            <p:nvPr/>
          </p:nvGrpSpPr>
          <p:grpSpPr>
            <a:xfrm>
              <a:off x="441360" y="1531800"/>
              <a:ext cx="333360" cy="468000"/>
              <a:chOff x="441360" y="1531800"/>
              <a:chExt cx="333360" cy="468000"/>
            </a:xfrm>
          </p:grpSpPr>
          <p:grpSp>
            <p:nvGrpSpPr>
              <p:cNvPr id="219" name="Group 34"/>
              <p:cNvGrpSpPr/>
              <p:nvPr/>
            </p:nvGrpSpPr>
            <p:grpSpPr>
              <a:xfrm>
                <a:off x="441360" y="1531800"/>
                <a:ext cx="333360" cy="304920"/>
                <a:chOff x="441360" y="1531800"/>
                <a:chExt cx="333360" cy="304920"/>
              </a:xfrm>
            </p:grpSpPr>
            <p:sp>
              <p:nvSpPr>
                <p:cNvPr id="220" name="Oval 35"/>
                <p:cNvSpPr/>
                <p:nvPr/>
              </p:nvSpPr>
              <p:spPr>
                <a:xfrm>
                  <a:off x="441360" y="1531800"/>
                  <a:ext cx="333360" cy="304920"/>
                </a:xfrm>
                <a:prstGeom prst="ellipse">
                  <a:avLst/>
                </a:prstGeom>
                <a:solidFill>
                  <a:srgbClr val="003366">
                    <a:alpha val="23000"/>
                  </a:srgbClr>
                </a:solidFill>
                <a:ln w="0">
                  <a:noFill/>
                </a:ln>
                <a:effectLst>
                  <a:outerShdw dist="1730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221" name="Oval 36"/>
                <p:cNvSpPr/>
                <p:nvPr/>
              </p:nvSpPr>
              <p:spPr>
                <a:xfrm>
                  <a:off x="458280" y="1547280"/>
                  <a:ext cx="300600" cy="27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1789d"/>
                    </a:gs>
                    <a:gs pos="50000">
                      <a:srgbClr val="adeaff"/>
                    </a:gs>
                    <a:gs pos="100000">
                      <a:srgbClr val="01789d"/>
                    </a:gs>
                  </a:gsLst>
                  <a:lin ang="0"/>
                </a:gradFill>
                <a:ln w="12240">
                  <a:solidFill>
                    <a:srgbClr val="00485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  <p:sp>
              <p:nvSpPr>
                <p:cNvPr id="222" name="Oval 37"/>
                <p:cNvSpPr/>
                <p:nvPr/>
              </p:nvSpPr>
              <p:spPr>
                <a:xfrm>
                  <a:off x="496080" y="1547280"/>
                  <a:ext cx="229320" cy="1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>
                        <a:alpha val="48235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  <p:sp>
            <p:nvSpPr>
              <p:cNvPr id="223" name="Rectangle 38"/>
              <p:cNvSpPr/>
              <p:nvPr/>
            </p:nvSpPr>
            <p:spPr>
              <a:xfrm>
                <a:off x="462600" y="1542960"/>
                <a:ext cx="16488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640" rIns="89640" tIns="46440" bIns="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66ff"/>
                  </a:solidFill>
                  <a:latin typeface="HY헤드라인M"/>
                </a:endParaRPr>
              </a:p>
            </p:txBody>
          </p:sp>
        </p:grpSp>
      </p:grpSp>
      <p:sp>
        <p:nvSpPr>
          <p:cNvPr id="224" name="Text Box 66"/>
          <p:cNvSpPr/>
          <p:nvPr/>
        </p:nvSpPr>
        <p:spPr>
          <a:xfrm>
            <a:off x="338040" y="152280"/>
            <a:ext cx="704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지역산업기술개발사업 변경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pSp>
        <p:nvGrpSpPr>
          <p:cNvPr id="226" name="Group 535"/>
          <p:cNvGrpSpPr/>
          <p:nvPr/>
        </p:nvGrpSpPr>
        <p:grpSpPr>
          <a:xfrm>
            <a:off x="324000" y="1322280"/>
            <a:ext cx="7008840" cy="650880"/>
            <a:chOff x="324000" y="1322280"/>
            <a:chExt cx="7008840" cy="650880"/>
          </a:xfrm>
        </p:grpSpPr>
        <p:pic>
          <p:nvPicPr>
            <p:cNvPr id="227" name="Picture 10" descr="13 박스"/>
            <p:cNvPicPr/>
            <p:nvPr/>
          </p:nvPicPr>
          <p:blipFill>
            <a:blip r:embed="rId1"/>
            <a:srcRect l="72555" t="45512" r="2866" b="32919"/>
            <a:stretch/>
          </p:blipFill>
          <p:spPr>
            <a:xfrm>
              <a:off x="611280" y="1322280"/>
              <a:ext cx="67215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 Box 2144"/>
            <p:cNvSpPr/>
            <p:nvPr/>
          </p:nvSpPr>
          <p:spPr>
            <a:xfrm>
              <a:off x="985680" y="1398600"/>
              <a:ext cx="598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HY헤드라인M"/>
                  <a:ea typeface="휴먼신그래픽"/>
                </a:rPr>
                <a:t>정부출연금 지원기준 및 민간부담현금 부담비율</a:t>
              </a: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229" name="Group 534"/>
            <p:cNvGrpSpPr/>
            <p:nvPr/>
          </p:nvGrpSpPr>
          <p:grpSpPr>
            <a:xfrm>
              <a:off x="324000" y="1362240"/>
              <a:ext cx="502920" cy="610920"/>
              <a:chOff x="324000" y="1362240"/>
              <a:chExt cx="502920" cy="610920"/>
            </a:xfrm>
          </p:grpSpPr>
          <p:pic>
            <p:nvPicPr>
              <p:cNvPr id="230" name="Picture 4" descr="2"/>
              <p:cNvPicPr/>
              <p:nvPr/>
            </p:nvPicPr>
            <p:blipFill>
              <a:blip r:embed="rId2"/>
              <a:srcRect l="56514" t="27691" r="39475" b="61574"/>
              <a:stretch/>
            </p:blipFill>
            <p:spPr>
              <a:xfrm>
                <a:off x="324000" y="1362240"/>
                <a:ext cx="502920" cy="610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1" name="Group 33"/>
              <p:cNvGrpSpPr/>
              <p:nvPr/>
            </p:nvGrpSpPr>
            <p:grpSpPr>
              <a:xfrm>
                <a:off x="449640" y="1432080"/>
                <a:ext cx="325800" cy="467640"/>
                <a:chOff x="449640" y="1432080"/>
                <a:chExt cx="325800" cy="467640"/>
              </a:xfrm>
            </p:grpSpPr>
            <p:grpSp>
              <p:nvGrpSpPr>
                <p:cNvPr id="232" name="Group 34"/>
                <p:cNvGrpSpPr/>
                <p:nvPr/>
              </p:nvGrpSpPr>
              <p:grpSpPr>
                <a:xfrm>
                  <a:off x="449640" y="1432080"/>
                  <a:ext cx="325800" cy="304560"/>
                  <a:chOff x="449640" y="1432080"/>
                  <a:chExt cx="325800" cy="304560"/>
                </a:xfrm>
              </p:grpSpPr>
              <p:sp>
                <p:nvSpPr>
                  <p:cNvPr id="233" name="Oval 35"/>
                  <p:cNvSpPr/>
                  <p:nvPr/>
                </p:nvSpPr>
                <p:spPr>
                  <a:xfrm>
                    <a:off x="449640" y="1432080"/>
                    <a:ext cx="325800" cy="304560"/>
                  </a:xfrm>
                  <a:prstGeom prst="ellipse">
                    <a:avLst/>
                  </a:prstGeom>
                  <a:solidFill>
                    <a:srgbClr val="003366">
                      <a:alpha val="23000"/>
                    </a:srgbClr>
                  </a:solidFill>
                  <a:ln w="0">
                    <a:noFill/>
                  </a:ln>
                  <a:effectLst>
                    <a:outerShdw dist="1730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66ff"/>
                      </a:solidFill>
                      <a:latin typeface="HY헤드라인M"/>
                    </a:endParaRPr>
                  </a:p>
                </p:txBody>
              </p:sp>
              <p:sp>
                <p:nvSpPr>
                  <p:cNvPr id="234" name="Oval 36"/>
                  <p:cNvSpPr/>
                  <p:nvPr/>
                </p:nvSpPr>
                <p:spPr>
                  <a:xfrm>
                    <a:off x="469440" y="1447560"/>
                    <a:ext cx="287280" cy="27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1789d"/>
                      </a:gs>
                      <a:gs pos="50000">
                        <a:srgbClr val="adeaff"/>
                      </a:gs>
                      <a:gs pos="100000">
                        <a:srgbClr val="01789d"/>
                      </a:gs>
                    </a:gsLst>
                    <a:lin ang="0"/>
                  </a:gradFill>
                  <a:ln w="12240">
                    <a:solidFill>
                      <a:srgbClr val="00485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66ff"/>
                      </a:solidFill>
                      <a:latin typeface="HY헤드라인M"/>
                    </a:endParaRPr>
                  </a:p>
                </p:txBody>
              </p:sp>
              <p:sp>
                <p:nvSpPr>
                  <p:cNvPr id="235" name="Oval 37"/>
                  <p:cNvSpPr/>
                  <p:nvPr/>
                </p:nvSpPr>
                <p:spPr>
                  <a:xfrm>
                    <a:off x="505800" y="1447560"/>
                    <a:ext cx="219240" cy="165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>
                          <a:alpha val="48235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66ff"/>
                      </a:solidFill>
                      <a:latin typeface="HY헤드라인M"/>
                    </a:endParaRPr>
                  </a:p>
                </p:txBody>
              </p:sp>
            </p:grpSp>
            <p:sp>
              <p:nvSpPr>
                <p:cNvPr id="236" name="Rectangle 38"/>
                <p:cNvSpPr/>
                <p:nvPr/>
              </p:nvSpPr>
              <p:spPr>
                <a:xfrm>
                  <a:off x="470520" y="1443240"/>
                  <a:ext cx="102240" cy="4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9640" rIns="89640" tIns="46440" bIns="464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</p:grpSp>
      </p:grpSp>
      <p:grpSp>
        <p:nvGrpSpPr>
          <p:cNvPr id="237" name="Group 482"/>
          <p:cNvGrpSpPr/>
          <p:nvPr/>
        </p:nvGrpSpPr>
        <p:grpSpPr>
          <a:xfrm>
            <a:off x="606600" y="1967040"/>
            <a:ext cx="4421160" cy="464760"/>
            <a:chOff x="606600" y="1967040"/>
            <a:chExt cx="4421160" cy="464760"/>
          </a:xfrm>
        </p:grpSpPr>
        <p:sp>
          <p:nvSpPr>
            <p:cNvPr id="238" name="Rectangle 483"/>
            <p:cNvSpPr/>
            <p:nvPr/>
          </p:nvSpPr>
          <p:spPr>
            <a:xfrm>
              <a:off x="606600" y="1967040"/>
              <a:ext cx="4421160" cy="464760"/>
            </a:xfrm>
            <a:prstGeom prst="rect">
              <a:avLst/>
            </a:prstGeom>
            <a:gradFill rotWithShape="0">
              <a:gsLst>
                <a:gs pos="0">
                  <a:srgbClr val="333399">
                    <a:alpha val="59215"/>
                  </a:srgbClr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239" name="Rectangle 484"/>
            <p:cNvSpPr/>
            <p:nvPr/>
          </p:nvSpPr>
          <p:spPr>
            <a:xfrm>
              <a:off x="606600" y="1995480"/>
              <a:ext cx="4285080" cy="4064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sp>
        <p:nvSpPr>
          <p:cNvPr id="240" name="Text Box 485"/>
          <p:cNvSpPr/>
          <p:nvPr/>
        </p:nvSpPr>
        <p:spPr>
          <a:xfrm>
            <a:off x="851040" y="1989000"/>
            <a:ext cx="7893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cc00"/>
                </a:solidFill>
                <a:latin typeface="Arial"/>
              </a:rPr>
              <a:t>정부출연금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</a:rPr>
              <a:t> 지원기준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241" name="Picture 486" descr="그림1 copy 2"/>
          <p:cNvPicPr/>
          <p:nvPr/>
        </p:nvPicPr>
        <p:blipFill>
          <a:blip r:embed="rId3"/>
          <a:stretch/>
        </p:blipFill>
        <p:spPr>
          <a:xfrm>
            <a:off x="633240" y="2095560"/>
            <a:ext cx="247680" cy="2048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66"/>
          <p:cNvSpPr/>
          <p:nvPr/>
        </p:nvSpPr>
        <p:spPr>
          <a:xfrm>
            <a:off x="338040" y="152280"/>
            <a:ext cx="704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지역산업기술개발사업 변경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714240" y="2571840"/>
          <a:ext cx="7929720" cy="2500200"/>
        </p:xfrm>
        <a:graphic>
          <a:graphicData uri="http://schemas.openxmlformats.org/drawingml/2006/table">
            <a:tbl>
              <a:tblPr/>
              <a:tblGrid>
                <a:gridCol w="1285920"/>
                <a:gridCol w="1928880"/>
                <a:gridCol w="1428840"/>
                <a:gridCol w="3286080"/>
              </a:tblGrid>
              <a:tr h="500040"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참여기업 수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720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720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참여기업 유형 및 구성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720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지원기준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720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민간부담금 현금비율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2160">
                      <a:solidFill>
                        <a:srgbClr val="000000"/>
                      </a:solidFill>
                    </a:lnL>
                    <a:lnR w="7200">
                      <a:solidFill>
                        <a:srgbClr val="000000"/>
                      </a:solidFill>
                    </a:lnR>
                    <a:lnT w="720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500040">
                <a:tc rowSpan="2"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1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개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720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중소기업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*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marL="612720" indent="-61272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75%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이내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marL="612720" indent="-61272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민간부담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현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+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현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)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의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10%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이상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2160">
                      <a:solidFill>
                        <a:srgbClr val="000000"/>
                      </a:solidFill>
                    </a:lnL>
                    <a:lnR w="720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중견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·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대기업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marL="612720" indent="-61272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50%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이내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marL="612720" indent="-61272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민간부담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현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+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현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)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의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20%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이상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2160">
                      <a:solidFill>
                        <a:srgbClr val="000000"/>
                      </a:solidFill>
                    </a:lnL>
                    <a:lnR w="720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 rowSpan="2"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2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개 이상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720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72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중소기업이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2/3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이상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marL="612720" indent="-61272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75%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이내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marL="612720" indent="-61272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민간부담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현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+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현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)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의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10%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이상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2160">
                      <a:solidFill>
                        <a:srgbClr val="000000"/>
                      </a:solidFill>
                    </a:lnL>
                    <a:lnR w="720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중소기업이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2/3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미만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720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marL="612720" indent="-61272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50%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이내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72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320" rIns="13320" tIns="13320" bIns="13320" anchor="ctr">
                      <a:noAutofit/>
                    </a:bodyPr>
                    <a:p>
                      <a:pPr marL="612720" indent="-612720"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민간부담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현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+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현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)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의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20%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이상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휴먼명조,한컴돋움"/>
                        </a:rPr>
                        <a:t>**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13320" marR="13320">
                    <a:lnL w="2160">
                      <a:solidFill>
                        <a:srgbClr val="000000"/>
                      </a:solidFill>
                    </a:lnL>
                    <a:lnR w="720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72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0000" rIns="90000" tIns="-46440" bIns="-46440" anchor="ctr">
            <a:spAutoFit/>
          </a:bodyPr>
          <a:p>
            <a:pPr algn="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sp>
        <p:nvSpPr>
          <p:cNvPr id="245" name="직사각형 29"/>
          <p:cNvSpPr/>
          <p:nvPr/>
        </p:nvSpPr>
        <p:spPr>
          <a:xfrm>
            <a:off x="714240" y="5214960"/>
            <a:ext cx="7929720" cy="9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b9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* 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주관기관인 기업도 참여기업에 포함되며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“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중소기업”은 「중소기업기본법」시행령 제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3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조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중소기업 범위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)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에서 정한 기업을 말함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 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**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단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중소기업이 주관기관인 경우는 민간부담금 현금비율이 민간부담금 총액의 </a:t>
            </a:r>
            <a:r>
              <a:rPr b="0" lang="en-US" sz="1400" spc="-1" strike="noStrike">
                <a:solidFill>
                  <a:srgbClr val="000000"/>
                </a:solidFill>
                <a:latin typeface="HY헤드라인M"/>
              </a:rPr>
              <a:t>10% </a:t>
            </a:r>
            <a:r>
              <a:rPr b="0" lang="ko-KR" sz="1400" spc="-1" strike="noStrike">
                <a:solidFill>
                  <a:srgbClr val="000000"/>
                </a:solidFill>
                <a:latin typeface="HY헤드라인M"/>
              </a:rPr>
              <a:t>이상임 </a:t>
            </a:r>
            <a:endParaRPr b="0" lang="en-US" sz="14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4"/>
          <p:cNvSpPr/>
          <p:nvPr/>
        </p:nvSpPr>
        <p:spPr>
          <a:xfrm>
            <a:off x="250920" y="1268280"/>
            <a:ext cx="8675640" cy="5113440"/>
          </a:xfrm>
          <a:prstGeom prst="roundRect">
            <a:avLst>
              <a:gd name="adj" fmla="val 3898"/>
            </a:avLst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>
                  <a:alpha val="71372"/>
                </a:srgbClr>
              </a:gs>
            </a:gsLst>
            <a:lin ang="5400000"/>
          </a:gra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ff"/>
              </a:solidFill>
              <a:latin typeface="HY헤드라인M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826920" y="2492280"/>
          <a:ext cx="6913800" cy="1381320"/>
        </p:xfrm>
        <a:graphic>
          <a:graphicData uri="http://schemas.openxmlformats.org/drawingml/2006/table">
            <a:tbl>
              <a:tblPr/>
              <a:tblGrid>
                <a:gridCol w="2016360"/>
                <a:gridCol w="4240080"/>
                <a:gridCol w="657360"/>
              </a:tblGrid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지원기준</a:t>
                      </a:r>
                      <a:r>
                        <a:rPr b="0" lang="ko-KR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 예시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6699"/>
                      </a:solidFill>
                    </a:lnT>
                    <a:lnB w="28080">
                      <a:solidFill>
                        <a:srgbClr val="006699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             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민간부담현금 </a:t>
                      </a:r>
                      <a:r>
                        <a:rPr b="0" lang="ko-KR" sz="1600" spc="-1" strike="noStrike">
                          <a:solidFill>
                            <a:srgbClr val="ff0101"/>
                          </a:solidFill>
                          <a:latin typeface="HY헤드라인M"/>
                        </a:rPr>
                        <a:t>예시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6699"/>
                      </a:solidFill>
                    </a:lnT>
                    <a:lnB w="28080">
                      <a:solidFill>
                        <a:srgbClr val="006699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6699"/>
                      </a:solidFill>
                    </a:lnT>
                    <a:lnB w="28080">
                      <a:solidFill>
                        <a:srgbClr val="006699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101"/>
                          </a:solidFill>
                          <a:latin typeface="굴림"/>
                          <a:ea typeface="굴림"/>
                        </a:rPr>
                        <a:t>총 사업비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의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차년도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굴림"/>
                          <a:ea typeface="굴림"/>
                        </a:rPr>
                        <a:t>10%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이상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6699"/>
                      </a:solidFill>
                    </a:lnT>
                    <a:lnB w="2808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 1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차년 정부출연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200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백만원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74.6%) 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 1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차년 민간부담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현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+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현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: 68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백만원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25.4%) 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 1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차년 총사업비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268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백만원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100%)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 1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차년 </a:t>
                      </a:r>
                      <a:r>
                        <a:rPr b="1" lang="ko-KR" sz="1400" spc="-1" strike="noStrike">
                          <a:solidFill>
                            <a:srgbClr val="ff0101"/>
                          </a:solidFill>
                          <a:latin typeface="굴림"/>
                          <a:ea typeface="굴림"/>
                        </a:rPr>
                        <a:t>민간부담 현금</a:t>
                      </a:r>
                      <a:r>
                        <a:rPr b="1" lang="en-US" sz="1400" spc="-1" strike="noStrike">
                          <a:solidFill>
                            <a:srgbClr val="ff0101"/>
                          </a:solidFill>
                          <a:latin typeface="굴림"/>
                          <a:ea typeface="굴림"/>
                        </a:rPr>
                        <a:t>: 26.8</a:t>
                      </a:r>
                      <a:r>
                        <a:rPr b="1" lang="ko-KR" sz="1400" spc="-1" strike="noStrike">
                          <a:solidFill>
                            <a:srgbClr val="ff0101"/>
                          </a:solidFill>
                          <a:latin typeface="굴림"/>
                          <a:ea typeface="굴림"/>
                        </a:rPr>
                        <a:t>백만원 이상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6699"/>
                      </a:solidFill>
                    </a:lnT>
                    <a:lnB w="2808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248" name="Group 535"/>
          <p:cNvGrpSpPr/>
          <p:nvPr/>
        </p:nvGrpSpPr>
        <p:grpSpPr>
          <a:xfrm>
            <a:off x="324000" y="1322280"/>
            <a:ext cx="7008840" cy="650880"/>
            <a:chOff x="324000" y="1322280"/>
            <a:chExt cx="7008840" cy="650880"/>
          </a:xfrm>
        </p:grpSpPr>
        <p:pic>
          <p:nvPicPr>
            <p:cNvPr id="249" name="Picture 10" descr="13 박스"/>
            <p:cNvPicPr/>
            <p:nvPr/>
          </p:nvPicPr>
          <p:blipFill>
            <a:blip r:embed="rId1"/>
            <a:srcRect l="72555" t="45512" r="2866" b="32919"/>
            <a:stretch/>
          </p:blipFill>
          <p:spPr>
            <a:xfrm>
              <a:off x="611280" y="1322280"/>
              <a:ext cx="67215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2144"/>
            <p:cNvSpPr/>
            <p:nvPr/>
          </p:nvSpPr>
          <p:spPr>
            <a:xfrm>
              <a:off x="985680" y="1398600"/>
              <a:ext cx="598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HY헤드라인M"/>
                  <a:ea typeface="휴먼신그래픽"/>
                </a:rPr>
                <a:t>민간부담현금 부담비율 </a:t>
              </a:r>
              <a:r>
                <a:rPr b="1" lang="ko-KR" sz="2000" spc="-1" strike="noStrike">
                  <a:solidFill>
                    <a:srgbClr val="ff0101"/>
                  </a:solidFill>
                  <a:latin typeface="HY헤드라인M"/>
                  <a:ea typeface="휴먼신그래픽"/>
                </a:rPr>
                <a:t>예시</a:t>
              </a: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grpSp>
          <p:nvGrpSpPr>
            <p:cNvPr id="251" name="Group 534"/>
            <p:cNvGrpSpPr/>
            <p:nvPr/>
          </p:nvGrpSpPr>
          <p:grpSpPr>
            <a:xfrm>
              <a:off x="324000" y="1362240"/>
              <a:ext cx="502920" cy="610920"/>
              <a:chOff x="324000" y="1362240"/>
              <a:chExt cx="502920" cy="610920"/>
            </a:xfrm>
          </p:grpSpPr>
          <p:pic>
            <p:nvPicPr>
              <p:cNvPr id="252" name="Picture 4" descr="2"/>
              <p:cNvPicPr/>
              <p:nvPr/>
            </p:nvPicPr>
            <p:blipFill>
              <a:blip r:embed="rId2"/>
              <a:srcRect l="56514" t="27691" r="39475" b="61574"/>
              <a:stretch/>
            </p:blipFill>
            <p:spPr>
              <a:xfrm>
                <a:off x="324000" y="1362240"/>
                <a:ext cx="502920" cy="6109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3" name="Group 33"/>
              <p:cNvGrpSpPr/>
              <p:nvPr/>
            </p:nvGrpSpPr>
            <p:grpSpPr>
              <a:xfrm>
                <a:off x="449640" y="1432080"/>
                <a:ext cx="325800" cy="467640"/>
                <a:chOff x="449640" y="1432080"/>
                <a:chExt cx="325800" cy="467640"/>
              </a:xfrm>
            </p:grpSpPr>
            <p:grpSp>
              <p:nvGrpSpPr>
                <p:cNvPr id="254" name="Group 34"/>
                <p:cNvGrpSpPr/>
                <p:nvPr/>
              </p:nvGrpSpPr>
              <p:grpSpPr>
                <a:xfrm>
                  <a:off x="449640" y="1432080"/>
                  <a:ext cx="325800" cy="304560"/>
                  <a:chOff x="449640" y="1432080"/>
                  <a:chExt cx="325800" cy="304560"/>
                </a:xfrm>
              </p:grpSpPr>
              <p:sp>
                <p:nvSpPr>
                  <p:cNvPr id="255" name="Oval 35"/>
                  <p:cNvSpPr/>
                  <p:nvPr/>
                </p:nvSpPr>
                <p:spPr>
                  <a:xfrm>
                    <a:off x="449640" y="1432080"/>
                    <a:ext cx="325800" cy="304560"/>
                  </a:xfrm>
                  <a:prstGeom prst="ellipse">
                    <a:avLst/>
                  </a:prstGeom>
                  <a:solidFill>
                    <a:srgbClr val="003366">
                      <a:alpha val="23000"/>
                    </a:srgbClr>
                  </a:solidFill>
                  <a:ln w="0">
                    <a:noFill/>
                  </a:ln>
                  <a:effectLst>
                    <a:outerShdw dist="1730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66ff"/>
                      </a:solidFill>
                      <a:latin typeface="HY헤드라인M"/>
                    </a:endParaRPr>
                  </a:p>
                </p:txBody>
              </p:sp>
              <p:sp>
                <p:nvSpPr>
                  <p:cNvPr id="256" name="Oval 36"/>
                  <p:cNvSpPr/>
                  <p:nvPr/>
                </p:nvSpPr>
                <p:spPr>
                  <a:xfrm>
                    <a:off x="469440" y="1447560"/>
                    <a:ext cx="287280" cy="27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1789d"/>
                      </a:gs>
                      <a:gs pos="50000">
                        <a:srgbClr val="adeaff"/>
                      </a:gs>
                      <a:gs pos="100000">
                        <a:srgbClr val="01789d"/>
                      </a:gs>
                    </a:gsLst>
                    <a:lin ang="0"/>
                  </a:gradFill>
                  <a:ln w="12240">
                    <a:solidFill>
                      <a:srgbClr val="00485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66ff"/>
                      </a:solidFill>
                      <a:latin typeface="HY헤드라인M"/>
                    </a:endParaRPr>
                  </a:p>
                </p:txBody>
              </p:sp>
              <p:sp>
                <p:nvSpPr>
                  <p:cNvPr id="257" name="Oval 37"/>
                  <p:cNvSpPr/>
                  <p:nvPr/>
                </p:nvSpPr>
                <p:spPr>
                  <a:xfrm>
                    <a:off x="505800" y="1447560"/>
                    <a:ext cx="219240" cy="165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>
                          <a:alpha val="48235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66ff"/>
                      </a:solidFill>
                      <a:latin typeface="HY헤드라인M"/>
                    </a:endParaRPr>
                  </a:p>
                </p:txBody>
              </p:sp>
            </p:grpSp>
            <p:sp>
              <p:nvSpPr>
                <p:cNvPr id="258" name="Rectangle 38"/>
                <p:cNvSpPr/>
                <p:nvPr/>
              </p:nvSpPr>
              <p:spPr>
                <a:xfrm>
                  <a:off x="470520" y="1443240"/>
                  <a:ext cx="102240" cy="45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9640" rIns="89640" tIns="46440" bIns="4644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66ff"/>
                    </a:solidFill>
                    <a:latin typeface="HY헤드라인M"/>
                  </a:endParaRPr>
                </a:p>
              </p:txBody>
            </p:sp>
          </p:grpSp>
        </p:grpSp>
      </p:grpSp>
      <p:grpSp>
        <p:nvGrpSpPr>
          <p:cNvPr id="259" name="Group 482"/>
          <p:cNvGrpSpPr/>
          <p:nvPr/>
        </p:nvGrpSpPr>
        <p:grpSpPr>
          <a:xfrm>
            <a:off x="606600" y="1967040"/>
            <a:ext cx="4421160" cy="464760"/>
            <a:chOff x="606600" y="1967040"/>
            <a:chExt cx="4421160" cy="464760"/>
          </a:xfrm>
        </p:grpSpPr>
        <p:sp>
          <p:nvSpPr>
            <p:cNvPr id="260" name="Rectangle 483"/>
            <p:cNvSpPr/>
            <p:nvPr/>
          </p:nvSpPr>
          <p:spPr>
            <a:xfrm>
              <a:off x="606600" y="1967040"/>
              <a:ext cx="4421160" cy="464760"/>
            </a:xfrm>
            <a:prstGeom prst="rect">
              <a:avLst/>
            </a:prstGeom>
            <a:gradFill rotWithShape="0">
              <a:gsLst>
                <a:gs pos="0">
                  <a:srgbClr val="333399">
                    <a:alpha val="59215"/>
                  </a:srgbClr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261" name="Rectangle 484"/>
            <p:cNvSpPr/>
            <p:nvPr/>
          </p:nvSpPr>
          <p:spPr>
            <a:xfrm>
              <a:off x="606600" y="1995480"/>
              <a:ext cx="4285080" cy="4064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sp>
        <p:nvSpPr>
          <p:cNvPr id="262" name="Text Box 485"/>
          <p:cNvSpPr/>
          <p:nvPr/>
        </p:nvSpPr>
        <p:spPr>
          <a:xfrm>
            <a:off x="851040" y="1989000"/>
            <a:ext cx="7893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cc00"/>
                </a:solidFill>
                <a:latin typeface="Arial"/>
              </a:rPr>
              <a:t>변경전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263" name="Picture 486" descr="그림1 copy 2"/>
          <p:cNvPicPr/>
          <p:nvPr/>
        </p:nvPicPr>
        <p:blipFill>
          <a:blip r:embed="rId3"/>
          <a:stretch/>
        </p:blipFill>
        <p:spPr>
          <a:xfrm>
            <a:off x="633240" y="2095560"/>
            <a:ext cx="247680" cy="204840"/>
          </a:xfrm>
          <a:prstGeom prst="rect">
            <a:avLst/>
          </a:prstGeom>
          <a:ln w="0">
            <a:noFill/>
          </a:ln>
        </p:spPr>
      </p:pic>
      <p:grpSp>
        <p:nvGrpSpPr>
          <p:cNvPr id="264" name="Group 509"/>
          <p:cNvGrpSpPr/>
          <p:nvPr/>
        </p:nvGrpSpPr>
        <p:grpSpPr>
          <a:xfrm>
            <a:off x="596880" y="4229280"/>
            <a:ext cx="4421160" cy="464760"/>
            <a:chOff x="596880" y="4229280"/>
            <a:chExt cx="4421160" cy="464760"/>
          </a:xfrm>
        </p:grpSpPr>
        <p:sp>
          <p:nvSpPr>
            <p:cNvPr id="265" name="Rectangle 510"/>
            <p:cNvSpPr/>
            <p:nvPr/>
          </p:nvSpPr>
          <p:spPr>
            <a:xfrm>
              <a:off x="596880" y="4229280"/>
              <a:ext cx="4421160" cy="464760"/>
            </a:xfrm>
            <a:prstGeom prst="rect">
              <a:avLst/>
            </a:prstGeom>
            <a:gradFill rotWithShape="0">
              <a:gsLst>
                <a:gs pos="0">
                  <a:srgbClr val="333399">
                    <a:alpha val="59215"/>
                  </a:srgbClr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  <p:sp>
          <p:nvSpPr>
            <p:cNvPr id="266" name="Rectangle 511"/>
            <p:cNvSpPr/>
            <p:nvPr/>
          </p:nvSpPr>
          <p:spPr>
            <a:xfrm>
              <a:off x="596880" y="4257720"/>
              <a:ext cx="4285080" cy="40644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66ff"/>
                </a:solidFill>
                <a:latin typeface="HY헤드라인M"/>
              </a:endParaRPr>
            </a:p>
          </p:txBody>
        </p:sp>
      </p:grpSp>
      <p:sp>
        <p:nvSpPr>
          <p:cNvPr id="267" name="Text Box 512"/>
          <p:cNvSpPr/>
          <p:nvPr/>
        </p:nvSpPr>
        <p:spPr>
          <a:xfrm>
            <a:off x="841320" y="4251240"/>
            <a:ext cx="7893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cc00"/>
                </a:solidFill>
                <a:latin typeface="Arial"/>
              </a:rPr>
              <a:t>변경후 </a:t>
            </a:r>
            <a:endParaRPr b="0" lang="en-US" sz="1800" spc="-1" strike="noStrike">
              <a:solidFill>
                <a:srgbClr val="0066ff"/>
              </a:solidFill>
              <a:latin typeface="HY헤드라인M"/>
            </a:endParaRPr>
          </a:p>
        </p:txBody>
      </p:sp>
      <p:pic>
        <p:nvPicPr>
          <p:cNvPr id="268" name="Picture 513" descr="그림1 copy 2"/>
          <p:cNvPicPr/>
          <p:nvPr/>
        </p:nvPicPr>
        <p:blipFill>
          <a:blip r:embed="rId4"/>
          <a:stretch/>
        </p:blipFill>
        <p:spPr>
          <a:xfrm>
            <a:off x="623880" y="4357800"/>
            <a:ext cx="247680" cy="20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611280" y="4797360"/>
          <a:ext cx="6913440" cy="1381320"/>
        </p:xfrm>
        <a:graphic>
          <a:graphicData uri="http://schemas.openxmlformats.org/drawingml/2006/table">
            <a:tbl>
              <a:tblPr/>
              <a:tblGrid>
                <a:gridCol w="2016000"/>
                <a:gridCol w="4240080"/>
                <a:gridCol w="657360"/>
              </a:tblGrid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지원기준</a:t>
                      </a:r>
                      <a:r>
                        <a:rPr b="0" lang="ko-KR" sz="1600" spc="-1" strike="noStrike">
                          <a:solidFill>
                            <a:srgbClr val="ff0000"/>
                          </a:solidFill>
                          <a:latin typeface="HY헤드라인M"/>
                        </a:rPr>
                        <a:t> 예시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6699"/>
                      </a:solidFill>
                    </a:lnT>
                    <a:lnB w="28080">
                      <a:solidFill>
                        <a:srgbClr val="006699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               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헤드라인M"/>
                        </a:rPr>
                        <a:t>민간부담현금 </a:t>
                      </a:r>
                      <a:r>
                        <a:rPr b="0" lang="ko-KR" sz="1600" spc="-1" strike="noStrike">
                          <a:solidFill>
                            <a:srgbClr val="ff0101"/>
                          </a:solidFill>
                          <a:latin typeface="HY헤드라인M"/>
                        </a:rPr>
                        <a:t>예시</a:t>
                      </a:r>
                      <a:endParaRPr b="0" lang="en-US" sz="16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6699"/>
                      </a:solidFill>
                    </a:lnT>
                    <a:lnB w="28080">
                      <a:solidFill>
                        <a:srgbClr val="006699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6699"/>
                      </a:solidFill>
                    </a:lnT>
                    <a:lnB w="28080">
                      <a:solidFill>
                        <a:srgbClr val="006699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연차별 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굴림"/>
                          <a:ea typeface="굴림"/>
                        </a:rPr>
                        <a:t>민간부담금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의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굴림"/>
                          <a:ea typeface="굴림"/>
                        </a:rPr>
                        <a:t>10%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이상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6699"/>
                      </a:solidFill>
                    </a:lnT>
                    <a:lnB w="2808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 1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차년 정부출연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200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백만원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74.6%) 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 1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차년 민간부담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현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+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현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: 68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백만원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25.4%) 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 1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차년 총사업비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268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백만원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100%)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 1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차년 </a:t>
                      </a:r>
                      <a:r>
                        <a:rPr b="1" lang="ko-KR" sz="1400" spc="-1" strike="noStrike">
                          <a:solidFill>
                            <a:srgbClr val="ff0101"/>
                          </a:solidFill>
                          <a:latin typeface="굴림"/>
                          <a:ea typeface="굴림"/>
                        </a:rPr>
                        <a:t>민간부담 현금</a:t>
                      </a:r>
                      <a:r>
                        <a:rPr b="1" lang="en-US" sz="1400" spc="-1" strike="noStrike">
                          <a:solidFill>
                            <a:srgbClr val="ff0101"/>
                          </a:solidFill>
                          <a:latin typeface="굴림"/>
                          <a:ea typeface="굴림"/>
                        </a:rPr>
                        <a:t>:  6.8</a:t>
                      </a:r>
                      <a:r>
                        <a:rPr b="1" lang="ko-KR" sz="1400" spc="-1" strike="noStrike">
                          <a:solidFill>
                            <a:srgbClr val="ff0101"/>
                          </a:solidFill>
                          <a:latin typeface="굴림"/>
                          <a:ea typeface="굴림"/>
                        </a:rPr>
                        <a:t>백만원 이상 </a:t>
                      </a:r>
                      <a:r>
                        <a:rPr b="1" lang="en-US" sz="1400" spc="-1" strike="noStrike">
                          <a:solidFill>
                            <a:srgbClr val="ff0101"/>
                          </a:solidFill>
                          <a:latin typeface="굴림"/>
                          <a:ea typeface="굴림"/>
                        </a:rPr>
                        <a:t>(</a:t>
                      </a:r>
                      <a:r>
                        <a:rPr b="1" lang="ko-KR" sz="1400" spc="-1" strike="noStrike">
                          <a:solidFill>
                            <a:srgbClr val="ff0101"/>
                          </a:solidFill>
                          <a:latin typeface="굴림"/>
                          <a:ea typeface="굴림"/>
                        </a:rPr>
                        <a:t>감소</a:t>
                      </a:r>
                      <a:r>
                        <a:rPr b="1" lang="en-US" sz="1400" spc="-1" strike="noStrike">
                          <a:solidFill>
                            <a:srgbClr val="ff0101"/>
                          </a:solidFill>
                          <a:latin typeface="굴림"/>
                          <a:ea typeface="굴림"/>
                        </a:rPr>
                        <a:t>: 20</a:t>
                      </a:r>
                      <a:r>
                        <a:rPr b="1" lang="ko-KR" sz="1400" spc="-1" strike="noStrike">
                          <a:solidFill>
                            <a:srgbClr val="ff0101"/>
                          </a:solidFill>
                          <a:latin typeface="굴림"/>
                          <a:ea typeface="굴림"/>
                        </a:rPr>
                        <a:t>백만원</a:t>
                      </a:r>
                      <a:r>
                        <a:rPr b="1" lang="en-US" sz="1400" spc="-1" strike="noStrike">
                          <a:solidFill>
                            <a:srgbClr val="ff0101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4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080">
                      <a:solidFill>
                        <a:srgbClr val="006699"/>
                      </a:solidFill>
                    </a:lnT>
                    <a:lnB w="2808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lnSpc>
                          <a:spcPct val="1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66ff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0" name="Text Box 66"/>
          <p:cNvSpPr/>
          <p:nvPr/>
        </p:nvSpPr>
        <p:spPr>
          <a:xfrm>
            <a:off x="338040" y="152280"/>
            <a:ext cx="704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HY헤드라인M"/>
              </a:rPr>
              <a:t>I. </a:t>
            </a:r>
            <a:r>
              <a:rPr b="1" lang="ko-KR" sz="3000" spc="-1" strike="noStrike">
                <a:solidFill>
                  <a:srgbClr val="ffffff"/>
                </a:solidFill>
                <a:latin typeface="HY헤드라인M"/>
              </a:rPr>
              <a:t>지역산업기술개발사업 변경사항</a:t>
            </a:r>
            <a:endParaRPr b="0" lang="en-US" sz="3000" spc="-1" strike="noStrike">
              <a:solidFill>
                <a:srgbClr val="0066ff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15:18:27Z</dcterms:created>
  <dc:creator>LSC</dc:creator>
  <dc:description/>
  <dc:language>en-US</dc:language>
  <cp:lastModifiedBy>TCOM</cp:lastModifiedBy>
  <dcterms:modified xsi:type="dcterms:W3CDTF">2010-11-17T06:50:58Z</dcterms:modified>
  <cp:revision>918</cp:revision>
  <dc:subject/>
  <dc:title>슬라이드 1</dc:title>
</cp:coreProperties>
</file>